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wmf" ContentType="image/x-wmf"/>
  <Override PartName="/ppt/media/image2.wmf" ContentType="image/x-wmf"/>
  <Override PartName="/ppt/media/image15.png" ContentType="image/png"/>
  <Override PartName="/ppt/media/image3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5"/>
          <p:cNvSpPr/>
          <p:nvPr/>
        </p:nvSpPr>
        <p:spPr>
          <a:xfrm>
            <a:off x="376200" y="6504120"/>
            <a:ext cx="1496880" cy="3474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6" descr="SC logo"/>
          <p:cNvPicPr/>
          <p:nvPr/>
        </p:nvPicPr>
        <p:blipFill>
          <a:blip r:embed="rId2"/>
          <a:stretch/>
        </p:blipFill>
        <p:spPr>
          <a:xfrm>
            <a:off x="7286760" y="6500880"/>
            <a:ext cx="1866600" cy="360360"/>
          </a:xfrm>
          <a:prstGeom prst="rect">
            <a:avLst/>
          </a:prstGeom>
          <a:ln w="0">
            <a:noFill/>
          </a:ln>
        </p:spPr>
      </p:pic>
      <p:sp>
        <p:nvSpPr>
          <p:cNvPr id="2" name="Rectangle 58"/>
          <p:cNvSpPr/>
          <p:nvPr/>
        </p:nvSpPr>
        <p:spPr>
          <a:xfrm>
            <a:off x="333360" y="6537240"/>
            <a:ext cx="484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Transitional Shelter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"/>
          <p:cNvPicPr/>
          <p:nvPr/>
        </p:nvPicPr>
        <p:blipFill>
          <a:blip r:embed="rId3"/>
          <a:srcRect l="5511" t="0" r="6594" b="0"/>
          <a:stretch/>
        </p:blipFill>
        <p:spPr>
          <a:xfrm>
            <a:off x="-1440" y="6499080"/>
            <a:ext cx="377640" cy="3589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55"/>
          <p:cNvSpPr/>
          <p:nvPr/>
        </p:nvSpPr>
        <p:spPr>
          <a:xfrm>
            <a:off x="1876320" y="6504120"/>
            <a:ext cx="5445360" cy="345960"/>
          </a:xfrm>
          <a:prstGeom prst="rect">
            <a:avLst/>
          </a:prstGeom>
          <a:solidFill>
            <a:srgbClr val="4d4d4d"/>
          </a:soli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5"/>
          <p:cNvSpPr/>
          <p:nvPr/>
        </p:nvSpPr>
        <p:spPr>
          <a:xfrm>
            <a:off x="376200" y="6504120"/>
            <a:ext cx="1496880" cy="3474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6" descr="SC logo"/>
          <p:cNvPicPr/>
          <p:nvPr/>
        </p:nvPicPr>
        <p:blipFill>
          <a:blip r:embed="rId2"/>
          <a:stretch/>
        </p:blipFill>
        <p:spPr>
          <a:xfrm>
            <a:off x="7286760" y="6500880"/>
            <a:ext cx="1866600" cy="3603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8"/>
          <p:cNvSpPr/>
          <p:nvPr/>
        </p:nvSpPr>
        <p:spPr>
          <a:xfrm>
            <a:off x="333360" y="6537240"/>
            <a:ext cx="484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Transitional Shelter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3"/>
          <a:srcRect l="5511" t="0" r="6594" b="0"/>
          <a:stretch/>
        </p:blipFill>
        <p:spPr>
          <a:xfrm>
            <a:off x="-1440" y="6499080"/>
            <a:ext cx="377640" cy="3589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5"/>
          <p:cNvSpPr/>
          <p:nvPr/>
        </p:nvSpPr>
        <p:spPr>
          <a:xfrm>
            <a:off x="1876320" y="6504120"/>
            <a:ext cx="5445360" cy="345960"/>
          </a:xfrm>
          <a:prstGeom prst="rect">
            <a:avLst/>
          </a:prstGeom>
          <a:solidFill>
            <a:srgbClr val="4d4d4d"/>
          </a:soli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0"/>
          <p:cNvSpPr/>
          <p:nvPr/>
        </p:nvSpPr>
        <p:spPr>
          <a:xfrm>
            <a:off x="-3240" y="6253200"/>
            <a:ext cx="9144000" cy="2714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0"/>
          <p:cNvSpPr/>
          <p:nvPr/>
        </p:nvSpPr>
        <p:spPr>
          <a:xfrm>
            <a:off x="-3240" y="5986440"/>
            <a:ext cx="9144000" cy="271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0"/>
          <p:cNvSpPr/>
          <p:nvPr/>
        </p:nvSpPr>
        <p:spPr>
          <a:xfrm>
            <a:off x="0" y="4896000"/>
            <a:ext cx="9144000" cy="271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9"/>
          <p:cNvSpPr/>
          <p:nvPr/>
        </p:nvSpPr>
        <p:spPr>
          <a:xfrm>
            <a:off x="0" y="3232080"/>
            <a:ext cx="9148680" cy="271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7"/>
          <p:cNvSpPr/>
          <p:nvPr/>
        </p:nvSpPr>
        <p:spPr>
          <a:xfrm>
            <a:off x="0" y="2147760"/>
            <a:ext cx="9144000" cy="271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9"/>
          <p:cNvSpPr/>
          <p:nvPr/>
        </p:nvSpPr>
        <p:spPr>
          <a:xfrm>
            <a:off x="1789200" y="453960"/>
            <a:ext cx="7316640" cy="66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rrival and coffe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Welcome and agenda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Tom Corselli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Shelter Centr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Private &amp; humanitarian sector engagement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3 presentation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BC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Jo da Silva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Arup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BC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Mark Cutt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UN/OCHA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dvertisement for breakout group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ffee break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Breakout Groups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4 parallel breakout group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Feedback from breakout group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5 minute presentations for each group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onclusion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Agreed actions and prioritie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Introduction and agenda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Tom Corselli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Shelter Centr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Welcome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Lupoli Pasquale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OM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GIS systems in Haiti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Einar Bjorgo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UNOSA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helter funding strategy in Haiti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Denis Heidebroek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Eclipse tool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Ian Pearce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Habitat for Humanity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ffee break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raining craftsmen in Haiti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Rory Downham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Bioforc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Registration for urban displacement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TBC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UNHCR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hallenges in Haiti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Rocio Sanz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IOM </a:t>
            </a:r>
            <a:r>
              <a:rPr b="1" i="1" lang="en-GB" sz="15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Arial"/>
              </a:rPr>
              <a:t>Shelter Meeting dinner: La Broche, Rue du Stand 36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0"/>
          <p:cNvSpPr/>
          <p:nvPr/>
        </p:nvSpPr>
        <p:spPr>
          <a:xfrm>
            <a:off x="1789200" y="-20520"/>
            <a:ext cx="7200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genda for Day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-12600" y="0"/>
            <a:ext cx="1839960" cy="65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0" y="463680"/>
            <a:ext cx="1827360" cy="61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8:30 – 09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9:00 – 09:1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9:15 – 09:3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9:30 – 10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0:00 – 10:3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0:30 – 10:4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33333"/>
                </a:solidFill>
                <a:latin typeface="Arial"/>
              </a:rPr>
              <a:t>10:45 – 11:1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1:15 – 12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2:00 – 12:2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2:20 – 13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33333"/>
                </a:solidFill>
                <a:latin typeface="Arial"/>
              </a:rPr>
              <a:t>13:00 – 14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33333"/>
                </a:solidFill>
                <a:latin typeface="Arial"/>
              </a:rPr>
              <a:t>14:00 – 14:1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33333"/>
                </a:solidFill>
                <a:latin typeface="Arial"/>
              </a:rPr>
              <a:t>14:15 – 14:3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33333"/>
                </a:solidFill>
                <a:latin typeface="Arial"/>
              </a:rPr>
              <a:t>14:30 – 14:4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33333"/>
                </a:solidFill>
                <a:latin typeface="Arial"/>
              </a:rPr>
              <a:t>14:45 – 15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33333"/>
                </a:solidFill>
                <a:latin typeface="Arial"/>
              </a:rPr>
              <a:t>15:00 – 15:3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33333"/>
                </a:solidFill>
                <a:latin typeface="Arial"/>
              </a:rPr>
              <a:t>15:30 – 16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33333"/>
                </a:solidFill>
                <a:latin typeface="Arial"/>
              </a:rPr>
              <a:t>16:00 – 16:3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33333"/>
                </a:solidFill>
                <a:latin typeface="Arial"/>
              </a:rPr>
              <a:t>16:30 – 17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33333"/>
                </a:solidFill>
                <a:latin typeface="Arial"/>
              </a:rPr>
              <a:t>17:00 – 17:3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7:3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</a:rPr>
              <a:t>20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5"/>
          <p:cNvSpPr/>
          <p:nvPr/>
        </p:nvSpPr>
        <p:spPr>
          <a:xfrm>
            <a:off x="376200" y="6504120"/>
            <a:ext cx="1496880" cy="3474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6" descr="SC logo"/>
          <p:cNvPicPr/>
          <p:nvPr/>
        </p:nvPicPr>
        <p:blipFill>
          <a:blip r:embed="rId2"/>
          <a:stretch/>
        </p:blipFill>
        <p:spPr>
          <a:xfrm>
            <a:off x="7286760" y="6500880"/>
            <a:ext cx="1866600" cy="3603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8"/>
          <p:cNvSpPr/>
          <p:nvPr/>
        </p:nvSpPr>
        <p:spPr>
          <a:xfrm>
            <a:off x="333360" y="6537240"/>
            <a:ext cx="484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Transitional Shelter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"/>
          <p:cNvPicPr/>
          <p:nvPr/>
        </p:nvPicPr>
        <p:blipFill>
          <a:blip r:embed="rId3"/>
          <a:srcRect l="5511" t="0" r="6594" b="0"/>
          <a:stretch/>
        </p:blipFill>
        <p:spPr>
          <a:xfrm>
            <a:off x="-1440" y="6499080"/>
            <a:ext cx="377640" cy="3589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5"/>
          <p:cNvSpPr/>
          <p:nvPr/>
        </p:nvSpPr>
        <p:spPr>
          <a:xfrm>
            <a:off x="1876320" y="6504120"/>
            <a:ext cx="5445360" cy="345960"/>
          </a:xfrm>
          <a:prstGeom prst="rect">
            <a:avLst/>
          </a:prstGeom>
          <a:solidFill>
            <a:srgbClr val="4d4d4d"/>
          </a:soli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0"/>
          <p:cNvSpPr/>
          <p:nvPr/>
        </p:nvSpPr>
        <p:spPr>
          <a:xfrm>
            <a:off x="0" y="4349880"/>
            <a:ext cx="9144000" cy="271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4"/>
          <p:cNvSpPr/>
          <p:nvPr/>
        </p:nvSpPr>
        <p:spPr>
          <a:xfrm>
            <a:off x="1440" y="3247920"/>
            <a:ext cx="9151920" cy="271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5"/>
          <p:cNvSpPr/>
          <p:nvPr/>
        </p:nvSpPr>
        <p:spPr>
          <a:xfrm>
            <a:off x="3240" y="5452920"/>
            <a:ext cx="9144000" cy="271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4"/>
          <p:cNvSpPr/>
          <p:nvPr/>
        </p:nvSpPr>
        <p:spPr>
          <a:xfrm>
            <a:off x="-7920" y="1871640"/>
            <a:ext cx="9151920" cy="271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1"/>
          <p:cNvSpPr/>
          <p:nvPr/>
        </p:nvSpPr>
        <p:spPr>
          <a:xfrm>
            <a:off x="179280" y="96840"/>
            <a:ext cx="24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3"/>
          <p:cNvSpPr/>
          <p:nvPr/>
        </p:nvSpPr>
        <p:spPr>
          <a:xfrm>
            <a:off x="1790640" y="-20520"/>
            <a:ext cx="7318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genda for Day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9"/>
          <p:cNvSpPr/>
          <p:nvPr/>
        </p:nvSpPr>
        <p:spPr>
          <a:xfrm>
            <a:off x="1790640" y="453960"/>
            <a:ext cx="7353360" cy="52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rrival and coffe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Introduction and agenda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Tom Corselli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Shelter Centre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New World Bank handbook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Jennifer Duyne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World Habita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New urban guideline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Kate Crawford &amp; Martin Suvatne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NRC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Shelter Centre Training option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Tom Corselli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, Shelter Centr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ffee break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Global Shelter Cluster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TBC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TBC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Updates from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CCCM, CWGER, PCWG &amp; WASH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dvertisement for cross cluster breakout group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gree dates of next Shelter Meeting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ross cluster coordination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3 parallel breakout group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Feedback from breakout groups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greed actions and prioritie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haired by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Mark Cutt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UN/OCHA  and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Tom Corselli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Shelter Centr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ffee break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Host family support programme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CHF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Updates from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BC, TBC &amp; TBC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BC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TBC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BC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0" y="463680"/>
            <a:ext cx="1828800" cy="52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8:30 – 09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9:00 – 09:1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9:15 – 09:4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9:45 – 10:1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0:15 – 10:4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0:45 – 11:1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1:15 – 11:4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1:45 – 12:4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2:40 – 12:5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2:50 – 13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3:00 – 14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4:00 – 14:4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4:45 – 15:3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:30 – 16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6:00 – 16:3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6:30 – 17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7:00 – 17:3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7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5"/>
          <p:cNvSpPr/>
          <p:nvPr/>
        </p:nvSpPr>
        <p:spPr>
          <a:xfrm>
            <a:off x="376200" y="6504120"/>
            <a:ext cx="1496880" cy="3474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6" descr="SC logo"/>
          <p:cNvPicPr/>
          <p:nvPr/>
        </p:nvPicPr>
        <p:blipFill>
          <a:blip r:embed="rId2"/>
          <a:stretch/>
        </p:blipFill>
        <p:spPr>
          <a:xfrm>
            <a:off x="7286760" y="6500880"/>
            <a:ext cx="1866600" cy="36036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8"/>
          <p:cNvSpPr/>
          <p:nvPr/>
        </p:nvSpPr>
        <p:spPr>
          <a:xfrm>
            <a:off x="333360" y="6537240"/>
            <a:ext cx="484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Transitional Shelter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3"/>
          <a:srcRect l="5511" t="0" r="6594" b="0"/>
          <a:stretch/>
        </p:blipFill>
        <p:spPr>
          <a:xfrm>
            <a:off x="-1440" y="6499080"/>
            <a:ext cx="377640" cy="3589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55"/>
          <p:cNvSpPr/>
          <p:nvPr/>
        </p:nvSpPr>
        <p:spPr>
          <a:xfrm>
            <a:off x="1876320" y="6504120"/>
            <a:ext cx="5445360" cy="345960"/>
          </a:xfrm>
          <a:prstGeom prst="rect">
            <a:avLst/>
          </a:prstGeom>
          <a:solidFill>
            <a:srgbClr val="4d4d4d"/>
          </a:soli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0"/>
          <p:cNvSpPr/>
          <p:nvPr/>
        </p:nvSpPr>
        <p:spPr>
          <a:xfrm>
            <a:off x="-1440" y="6245280"/>
            <a:ext cx="9144000" cy="2714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9"/>
          <p:cNvSpPr/>
          <p:nvPr/>
        </p:nvSpPr>
        <p:spPr>
          <a:xfrm>
            <a:off x="0" y="5707080"/>
            <a:ext cx="9148680" cy="2714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9"/>
          <p:cNvSpPr/>
          <p:nvPr/>
        </p:nvSpPr>
        <p:spPr>
          <a:xfrm>
            <a:off x="0" y="5151600"/>
            <a:ext cx="9148680" cy="2714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0"/>
          <p:cNvSpPr/>
          <p:nvPr/>
        </p:nvSpPr>
        <p:spPr>
          <a:xfrm>
            <a:off x="-3240" y="5973840"/>
            <a:ext cx="9144000" cy="2714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9"/>
          <p:cNvSpPr/>
          <p:nvPr/>
        </p:nvSpPr>
        <p:spPr>
          <a:xfrm>
            <a:off x="0" y="4059360"/>
            <a:ext cx="9148680" cy="2714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7"/>
          <p:cNvSpPr/>
          <p:nvPr/>
        </p:nvSpPr>
        <p:spPr>
          <a:xfrm>
            <a:off x="0" y="3230640"/>
            <a:ext cx="9144000" cy="2714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9"/>
          <p:cNvSpPr/>
          <p:nvPr/>
        </p:nvSpPr>
        <p:spPr>
          <a:xfrm>
            <a:off x="1789200" y="453960"/>
            <a:ext cx="7316640" cy="61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rrival and coffe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Welcome, agenda and introduction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Tom Corselli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Shelter Centr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ation launch Transitional Shelter Innovations Case Study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Kim Scriven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ALNAP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launch Transitional Shelter Guidelines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Brian Kelly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IOM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&amp; Tom Corsellis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Shelter Centr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Update Transitional Shelter Standards &amp; Prototypes project 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Tom Corsellis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helter Centr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Updates for Stockpiled Transitional Shelter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Advertisements for breakout groups: Transitional Shelter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ffee break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Breakout groups: Transitional Shelter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4 parallel breakout group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Feedback: Transitional Shelter, 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presentations from breakout group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lastminute.org”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Jerome Michon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SF-ITC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Updates for Stockpiled shelter spectrum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Next steps for the Transitional Shelter Standards &amp; Prototypes project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ffee break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etailed Review per shelter prototype,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1 Shelter Centre rapporteur per shelter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Arial"/>
              </a:rPr>
              <a:t>Dinner: Il Fornello Napoletano, Rue de Lausanne, 52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Arial"/>
              </a:rPr>
              <a:t>Comedy Evening : Geneva Palladium, Rue du Stand 3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0"/>
          <p:cNvSpPr/>
          <p:nvPr/>
        </p:nvSpPr>
        <p:spPr>
          <a:xfrm>
            <a:off x="1789200" y="-42840"/>
            <a:ext cx="7200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-12600" y="0"/>
            <a:ext cx="1839960" cy="65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7"/>
          <p:cNvSpPr/>
          <p:nvPr/>
        </p:nvSpPr>
        <p:spPr>
          <a:xfrm>
            <a:off x="0" y="463680"/>
            <a:ext cx="1827360" cy="61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8:30 – 09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9:00 – 09:1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9:10 – 09:2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9:20 – 09:4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9:40 – 09:5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9:50 – 10:5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0:50 – 11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33333"/>
                </a:solidFill>
                <a:latin typeface="Arial"/>
              </a:rPr>
              <a:t>11:00 – 11:3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1:30 – 12:1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2:15 – 13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33333"/>
                </a:solidFill>
                <a:latin typeface="Arial"/>
              </a:rPr>
              <a:t>13:00 – 14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4:00 – 14:3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33333"/>
                </a:solidFill>
                <a:latin typeface="Arial"/>
              </a:rPr>
              <a:t>14:30 – 14:5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4:50 – 15:3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:30 – 16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6:00 – 17:3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33333"/>
                </a:solidFill>
                <a:latin typeface="Arial"/>
              </a:rPr>
              <a:t>17:3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</a:rPr>
              <a:t>18:3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</a:rPr>
              <a:t>20:3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55"/>
          <p:cNvSpPr/>
          <p:nvPr/>
        </p:nvSpPr>
        <p:spPr>
          <a:xfrm>
            <a:off x="376200" y="6504120"/>
            <a:ext cx="1496880" cy="3474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6" descr="SC logo"/>
          <p:cNvPicPr/>
          <p:nvPr/>
        </p:nvPicPr>
        <p:blipFill>
          <a:blip r:embed="rId2"/>
          <a:stretch/>
        </p:blipFill>
        <p:spPr>
          <a:xfrm>
            <a:off x="7286760" y="6500880"/>
            <a:ext cx="1866600" cy="36036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58"/>
          <p:cNvSpPr/>
          <p:nvPr/>
        </p:nvSpPr>
        <p:spPr>
          <a:xfrm>
            <a:off x="333360" y="6537240"/>
            <a:ext cx="484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Transitional Shelter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8" descr=""/>
          <p:cNvPicPr/>
          <p:nvPr/>
        </p:nvPicPr>
        <p:blipFill>
          <a:blip r:embed="rId3"/>
          <a:srcRect l="5511" t="0" r="6594" b="0"/>
          <a:stretch/>
        </p:blipFill>
        <p:spPr>
          <a:xfrm>
            <a:off x="-1440" y="6499080"/>
            <a:ext cx="377640" cy="35892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55"/>
          <p:cNvSpPr/>
          <p:nvPr/>
        </p:nvSpPr>
        <p:spPr>
          <a:xfrm>
            <a:off x="1876320" y="6504120"/>
            <a:ext cx="5445360" cy="345960"/>
          </a:xfrm>
          <a:prstGeom prst="rect">
            <a:avLst/>
          </a:prstGeom>
          <a:solidFill>
            <a:srgbClr val="4d4d4d"/>
          </a:soli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3"/>
          <p:cNvSpPr/>
          <p:nvPr/>
        </p:nvSpPr>
        <p:spPr>
          <a:xfrm>
            <a:off x="1878120" y="6480"/>
            <a:ext cx="7253280" cy="6480000"/>
          </a:xfrm>
          <a:prstGeom prst="rect">
            <a:avLst/>
          </a:prstGeom>
          <a:solidFill>
            <a:srgbClr val="b2b2b2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79280" y="96840"/>
            <a:ext cx="24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0" y="617400"/>
            <a:ext cx="9147240" cy="59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08:30 – 09: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09:00 – 09:1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09:10 – 09:2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09:20 – 09:4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09:40 – 09:5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09:50 – 10:5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0:50 – 11: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Arial"/>
              </a:rPr>
              <a:t>11:00 – 11:3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1:30 – 12:1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2:15 – 13: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Arial"/>
              </a:rPr>
              <a:t>13:00 – 14: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4:00 – 14:3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4:30 – 14:5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4:50 – 15:3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Arial"/>
              </a:rPr>
              <a:t>15:30 – 16: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6:00 – 17:3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Arial"/>
              </a:rPr>
              <a:t>17:30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-12600" y="0"/>
            <a:ext cx="1839960" cy="65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55"/>
          <p:cNvSpPr/>
          <p:nvPr/>
        </p:nvSpPr>
        <p:spPr>
          <a:xfrm>
            <a:off x="376200" y="6504120"/>
            <a:ext cx="1496880" cy="3474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6" descr="SC logo"/>
          <p:cNvPicPr/>
          <p:nvPr/>
        </p:nvPicPr>
        <p:blipFill>
          <a:blip r:embed="rId2"/>
          <a:stretch/>
        </p:blipFill>
        <p:spPr>
          <a:xfrm>
            <a:off x="7286760" y="6500880"/>
            <a:ext cx="1866600" cy="36036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58"/>
          <p:cNvSpPr/>
          <p:nvPr/>
        </p:nvSpPr>
        <p:spPr>
          <a:xfrm>
            <a:off x="333360" y="6537240"/>
            <a:ext cx="484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Transitional Shelter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8" descr=""/>
          <p:cNvPicPr/>
          <p:nvPr/>
        </p:nvPicPr>
        <p:blipFill>
          <a:blip r:embed="rId3"/>
          <a:srcRect l="5511" t="0" r="6594" b="0"/>
          <a:stretch/>
        </p:blipFill>
        <p:spPr>
          <a:xfrm>
            <a:off x="-1440" y="6499080"/>
            <a:ext cx="377640" cy="35892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55"/>
          <p:cNvSpPr/>
          <p:nvPr/>
        </p:nvSpPr>
        <p:spPr>
          <a:xfrm>
            <a:off x="1876320" y="6504120"/>
            <a:ext cx="5445360" cy="345960"/>
          </a:xfrm>
          <a:prstGeom prst="rect">
            <a:avLst/>
          </a:prstGeom>
          <a:solidFill>
            <a:srgbClr val="4d4d4d"/>
          </a:soli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179280" y="96840"/>
            <a:ext cx="24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-12600" y="0"/>
            <a:ext cx="1839960" cy="65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3"/>
          <p:cNvSpPr/>
          <p:nvPr/>
        </p:nvSpPr>
        <p:spPr>
          <a:xfrm>
            <a:off x="1878120" y="6480"/>
            <a:ext cx="7253280" cy="6480000"/>
          </a:xfrm>
          <a:prstGeom prst="rect">
            <a:avLst/>
          </a:prstGeom>
          <a:solidFill>
            <a:srgbClr val="b2b2b2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55"/>
          <p:cNvSpPr/>
          <p:nvPr/>
        </p:nvSpPr>
        <p:spPr>
          <a:xfrm>
            <a:off x="376200" y="6504120"/>
            <a:ext cx="1496880" cy="3474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56" descr="SC logo"/>
          <p:cNvPicPr/>
          <p:nvPr/>
        </p:nvPicPr>
        <p:blipFill>
          <a:blip r:embed="rId2"/>
          <a:stretch/>
        </p:blipFill>
        <p:spPr>
          <a:xfrm>
            <a:off x="7286760" y="6500880"/>
            <a:ext cx="1866600" cy="36036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58"/>
          <p:cNvSpPr/>
          <p:nvPr/>
        </p:nvSpPr>
        <p:spPr>
          <a:xfrm>
            <a:off x="333360" y="6537240"/>
            <a:ext cx="484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Transitional Shelter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8" descr=""/>
          <p:cNvPicPr/>
          <p:nvPr/>
        </p:nvPicPr>
        <p:blipFill>
          <a:blip r:embed="rId3"/>
          <a:srcRect l="5511" t="0" r="6594" b="0"/>
          <a:stretch/>
        </p:blipFill>
        <p:spPr>
          <a:xfrm>
            <a:off x="-1440" y="6499080"/>
            <a:ext cx="377640" cy="35892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55"/>
          <p:cNvSpPr/>
          <p:nvPr/>
        </p:nvSpPr>
        <p:spPr>
          <a:xfrm>
            <a:off x="1876320" y="6504120"/>
            <a:ext cx="5445360" cy="345960"/>
          </a:xfrm>
          <a:prstGeom prst="rect">
            <a:avLst/>
          </a:prstGeom>
          <a:solidFill>
            <a:srgbClr val="4d4d4d"/>
          </a:soli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55"/>
          <p:cNvSpPr/>
          <p:nvPr/>
        </p:nvSpPr>
        <p:spPr>
          <a:xfrm>
            <a:off x="376200" y="6504120"/>
            <a:ext cx="1496880" cy="3474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56" descr="SC logo"/>
          <p:cNvPicPr/>
          <p:nvPr/>
        </p:nvPicPr>
        <p:blipFill>
          <a:blip r:embed="rId2"/>
          <a:stretch/>
        </p:blipFill>
        <p:spPr>
          <a:xfrm>
            <a:off x="7286760" y="6500880"/>
            <a:ext cx="1866600" cy="36036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58"/>
          <p:cNvSpPr/>
          <p:nvPr/>
        </p:nvSpPr>
        <p:spPr>
          <a:xfrm>
            <a:off x="333360" y="6537240"/>
            <a:ext cx="484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Transitional Shelter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3"/>
          <a:srcRect l="5511" t="0" r="6594" b="0"/>
          <a:stretch/>
        </p:blipFill>
        <p:spPr>
          <a:xfrm>
            <a:off x="-1440" y="6499080"/>
            <a:ext cx="377640" cy="3589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55"/>
          <p:cNvSpPr/>
          <p:nvPr/>
        </p:nvSpPr>
        <p:spPr>
          <a:xfrm>
            <a:off x="1876320" y="6504120"/>
            <a:ext cx="5445360" cy="345960"/>
          </a:xfrm>
          <a:prstGeom prst="rect">
            <a:avLst/>
          </a:prstGeom>
          <a:solidFill>
            <a:srgbClr val="4d4d4d"/>
          </a:soli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874880" y="-19080"/>
            <a:ext cx="7308720" cy="6516720"/>
          </a:xfrm>
          <a:prstGeom prst="rect">
            <a:avLst/>
          </a:prstGeom>
          <a:solidFill>
            <a:srgbClr val="4d4d4d"/>
          </a:soli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27"/>
          <p:cNvSpPr/>
          <p:nvPr/>
        </p:nvSpPr>
        <p:spPr>
          <a:xfrm>
            <a:off x="0" y="0"/>
            <a:ext cx="18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Day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3"/>
          <p:cNvSpPr/>
          <p:nvPr/>
        </p:nvSpPr>
        <p:spPr>
          <a:xfrm>
            <a:off x="15840" y="1514520"/>
            <a:ext cx="1940040" cy="32364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2241720" y="1692360"/>
            <a:ext cx="690228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Update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ransitional Shelter Standards &amp; Prototypes Projec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7f7f7f"/>
                </a:solidFill>
                <a:latin typeface="Arial"/>
              </a:rPr>
              <a:t>Tom Corsellis, </a:t>
            </a:r>
            <a:r>
              <a:rPr b="1" lang="en-GB" sz="2800" spc="-1" strike="noStrike">
                <a:solidFill>
                  <a:srgbClr val="7f7f7f"/>
                </a:solidFill>
                <a:latin typeface="Arial"/>
              </a:rPr>
              <a:t>Shelter Cent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12" descr=""/>
          <p:cNvPicPr/>
          <p:nvPr/>
        </p:nvPicPr>
        <p:blipFill>
          <a:blip r:embed="rId1"/>
          <a:stretch/>
        </p:blipFill>
        <p:spPr>
          <a:xfrm>
            <a:off x="-1440" y="5713560"/>
            <a:ext cx="1850760" cy="71568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3"/>
          <p:cNvSpPr/>
          <p:nvPr/>
        </p:nvSpPr>
        <p:spPr>
          <a:xfrm>
            <a:off x="2036880" y="615960"/>
            <a:ext cx="6914880" cy="59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95959"/>
                </a:solidFill>
                <a:latin typeface="Arial"/>
              </a:rPr>
              <a:t>Manufacturing partn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Manufacturers present with prototypes at SM10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Evenproducts</a:t>
            </a: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H. Sheikh Nord-ud Din &amp; Sons</a:t>
            </a: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7f7f7f"/>
                </a:solidFill>
                <a:latin typeface="Arial"/>
              </a:rPr>
              <a:t>Maddel International</a:t>
            </a:r>
            <a:r>
              <a:rPr b="1" lang="sv-SE" sz="20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7f7f7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2000" spc="-1" strike="noStrike">
                <a:solidFill>
                  <a:srgbClr val="7f7f7f"/>
                </a:solidFill>
                <a:latin typeface="Arial"/>
              </a:rPr>
              <a:t>Nunatak Systems</a:t>
            </a:r>
            <a:r>
              <a:rPr b="1" lang="nn-NO" sz="20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nn-NO" sz="2000" spc="-1" strike="noStrike">
                <a:solidFill>
                  <a:srgbClr val="7f7f7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Worldwide Shelters</a:t>
            </a: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Manufacturers present without prototypes at SM10a</a:t>
            </a: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7f7f7f"/>
                </a:solidFill>
                <a:latin typeface="Arial"/>
              </a:rPr>
              <a:t>Kanter &amp; Karls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7f7f7f"/>
                </a:solidFill>
                <a:latin typeface="Arial"/>
              </a:rPr>
              <a:t>Manufacturers not present at SM10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7f7f7f"/>
                </a:solidFill>
                <a:latin typeface="Arial"/>
              </a:rPr>
              <a:t>Alpinter Relief Serv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7f7f7f"/>
                </a:solidFill>
                <a:latin typeface="Arial"/>
              </a:rPr>
              <a:t>Kay Tent Industr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7f7f7f"/>
                </a:solidFill>
                <a:latin typeface="Arial"/>
              </a:rPr>
              <a:t>World Shelters</a:t>
            </a:r>
            <a:r>
              <a:rPr b="1" i="1" lang="sv-S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3" descr=""/>
          <p:cNvPicPr/>
          <p:nvPr/>
        </p:nvPicPr>
        <p:blipFill>
          <a:blip r:embed="rId2"/>
          <a:stretch/>
        </p:blipFill>
        <p:spPr>
          <a:xfrm>
            <a:off x="0" y="3092400"/>
            <a:ext cx="1838160" cy="6444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"/>
          <p:cNvPicPr/>
          <p:nvPr/>
        </p:nvPicPr>
        <p:blipFill>
          <a:blip r:embed="rId3"/>
          <a:stretch/>
        </p:blipFill>
        <p:spPr>
          <a:xfrm>
            <a:off x="4680" y="4049640"/>
            <a:ext cx="1838520" cy="5778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6" descr=""/>
          <p:cNvPicPr/>
          <p:nvPr/>
        </p:nvPicPr>
        <p:blipFill>
          <a:blip r:embed="rId4"/>
          <a:stretch/>
        </p:blipFill>
        <p:spPr>
          <a:xfrm>
            <a:off x="0" y="2168640"/>
            <a:ext cx="1852560" cy="6872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9" descr=""/>
          <p:cNvPicPr/>
          <p:nvPr/>
        </p:nvPicPr>
        <p:blipFill>
          <a:blip r:embed="rId5"/>
          <a:stretch/>
        </p:blipFill>
        <p:spPr>
          <a:xfrm>
            <a:off x="0" y="4892760"/>
            <a:ext cx="1838160" cy="539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8" descr=""/>
          <p:cNvPicPr/>
          <p:nvPr/>
        </p:nvPicPr>
        <p:blipFill>
          <a:blip r:embed="rId6"/>
          <a:srcRect l="5511" t="0" r="6594" b="0"/>
          <a:stretch/>
        </p:blipFill>
        <p:spPr>
          <a:xfrm>
            <a:off x="142920" y="584280"/>
            <a:ext cx="1450800" cy="137772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2"/>
          <p:cNvSpPr/>
          <p:nvPr/>
        </p:nvSpPr>
        <p:spPr>
          <a:xfrm>
            <a:off x="1862280" y="-3240"/>
            <a:ext cx="1671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. Ro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1860480" y="642960"/>
            <a:ext cx="6915240" cy="55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95959"/>
                </a:solidFill>
                <a:latin typeface="Arial"/>
              </a:rPr>
              <a:t>Next ste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Shelter Centre to explore</a:t>
            </a: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, with the humanitarian community, the opportunity for testing to support transitional shelter and the pro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Manufactures to develop prototypes </a:t>
            </a: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further with winterisation op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Shelter Centre and manufacturers to present progress </a:t>
            </a: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on test regime and winterisation at SM10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Test regime Standards to be </a:t>
            </a: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finalised by SM11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Shelters to be </a:t>
            </a: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tested for accred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5" descr="P1100303.JPG"/>
          <p:cNvPicPr/>
          <p:nvPr/>
        </p:nvPicPr>
        <p:blipFill>
          <a:blip r:embed="rId1"/>
          <a:srcRect l="59003" t="4945" r="10583" b="0"/>
          <a:stretch/>
        </p:blipFill>
        <p:spPr>
          <a:xfrm>
            <a:off x="0" y="2131920"/>
            <a:ext cx="1863720" cy="436896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8" descr=""/>
          <p:cNvPicPr/>
          <p:nvPr/>
        </p:nvPicPr>
        <p:blipFill>
          <a:blip r:embed="rId2"/>
          <a:srcRect l="5511" t="0" r="6594" b="0"/>
          <a:stretch/>
        </p:blipFill>
        <p:spPr>
          <a:xfrm>
            <a:off x="142920" y="584280"/>
            <a:ext cx="1450800" cy="137772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2"/>
          <p:cNvSpPr/>
          <p:nvPr/>
        </p:nvSpPr>
        <p:spPr>
          <a:xfrm>
            <a:off x="1865880" y="-3240"/>
            <a:ext cx="2553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. Next ste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3"/>
          <p:cNvSpPr/>
          <p:nvPr/>
        </p:nvSpPr>
        <p:spPr>
          <a:xfrm>
            <a:off x="1860480" y="190440"/>
            <a:ext cx="6915240" cy="56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95959"/>
                </a:solidFill>
                <a:latin typeface="Arial"/>
              </a:rPr>
              <a:t>Outpu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Finalised Transitional Shelter Standards</a:t>
            </a: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, tested through prototyping and agreed by both the manufacturers and humanitarian commun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Feasible, credible Transitional Shelters</a:t>
            </a: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, demonstrated through achieving within the humanitarian community and amongst shelter manufacturers of the </a:t>
            </a: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challenges of winteris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A variety of working Transitional Shelter Prototypes</a:t>
            </a: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, developed over time by shelter manufacturers, via a </a:t>
            </a: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process of feedback and revi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A practical and affordable test reg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7" descr="P1070841.JPG"/>
          <p:cNvPicPr/>
          <p:nvPr/>
        </p:nvPicPr>
        <p:blipFill>
          <a:blip r:embed="rId1"/>
          <a:srcRect l="16666" t="4142" r="52814" b="0"/>
          <a:stretch/>
        </p:blipFill>
        <p:spPr>
          <a:xfrm>
            <a:off x="0" y="2090880"/>
            <a:ext cx="1870200" cy="44053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8" descr=""/>
          <p:cNvPicPr/>
          <p:nvPr/>
        </p:nvPicPr>
        <p:blipFill>
          <a:blip r:embed="rId2"/>
          <a:srcRect l="5511" t="0" r="6594" b="0"/>
          <a:stretch/>
        </p:blipFill>
        <p:spPr>
          <a:xfrm>
            <a:off x="142920" y="584280"/>
            <a:ext cx="1450800" cy="137772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2"/>
          <p:cNvSpPr/>
          <p:nvPr/>
        </p:nvSpPr>
        <p:spPr>
          <a:xfrm>
            <a:off x="1864080" y="-3240"/>
            <a:ext cx="2055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6. Outpu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1860480" y="471600"/>
            <a:ext cx="6915240" cy="55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7f7f7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7f7f"/>
                </a:solidFill>
                <a:latin typeface="Arial"/>
              </a:rPr>
              <a:t>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7f7f7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7f7f7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7f7f"/>
                </a:solidFill>
                <a:latin typeface="Arial"/>
              </a:rPr>
              <a:t>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7f7f7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7f7f7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7f7f"/>
                </a:solidFill>
                <a:latin typeface="Arial"/>
              </a:rPr>
              <a:t>Transitional Shelter proj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7f7f7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7f7f7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7f7f"/>
                </a:solidFill>
                <a:latin typeface="Arial"/>
              </a:rPr>
              <a:t>Ro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7f7f7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7f7f7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7f7f"/>
                </a:solidFill>
                <a:latin typeface="Arial"/>
              </a:rPr>
              <a:t>Next ste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7f7f7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7f7f7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7f7f"/>
                </a:solidFill>
                <a:latin typeface="Arial"/>
              </a:rPr>
              <a:t>Outpu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"/>
          <p:cNvSpPr/>
          <p:nvPr/>
        </p:nvSpPr>
        <p:spPr>
          <a:xfrm>
            <a:off x="1862280" y="-3240"/>
            <a:ext cx="1602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2" descr="Z:\S1_ShelterMeeting\SM10a\SM Presentation\Images presentation SM10a\John Walden_Leogane_7 May 2010 044.jpg"/>
          <p:cNvPicPr/>
          <p:nvPr/>
        </p:nvPicPr>
        <p:blipFill>
          <a:blip r:embed="rId1"/>
          <a:srcRect l="30520" t="0" r="39125" b="0"/>
          <a:stretch/>
        </p:blipFill>
        <p:spPr>
          <a:xfrm>
            <a:off x="0" y="1892160"/>
            <a:ext cx="1863720" cy="46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3"/>
          <p:cNvSpPr/>
          <p:nvPr/>
        </p:nvSpPr>
        <p:spPr>
          <a:xfrm>
            <a:off x="1860480" y="458640"/>
            <a:ext cx="691524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95959"/>
                </a:solidFill>
                <a:latin typeface="Arial"/>
              </a:rPr>
              <a:t>Transitional Shelte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95959"/>
                </a:solidFill>
                <a:latin typeface="Arial"/>
              </a:rPr>
              <a:t>Standards &amp; Prototypes 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The Transitional Shelter Standards Project </a:t>
            </a: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was initiated in 2006.The Transitional Shelter Standards and Prototypes project </a:t>
            </a: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is one of ten deliver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The need to support transitional shelter </a:t>
            </a: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was identified and prioritised at the Shelter Meeting sector forum,  by participants of Shelter Mee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The humanitarian community have agreed a set of</a:t>
            </a: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Transitional Shelter Standards</a:t>
            </a: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, indicators and requirements for stockpilable transitional shel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Arial"/>
              </a:rPr>
              <a:t>Manufacturers and suppliers have agreed to create prototypes </a:t>
            </a: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of transitional shelter that aim to meet the standa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0" descr="HFHI T-Shelter Group Cabaret April 2010.jpg"/>
          <p:cNvPicPr/>
          <p:nvPr/>
        </p:nvPicPr>
        <p:blipFill>
          <a:blip r:embed="rId1"/>
          <a:srcRect l="27134" t="4125" r="45743" b="0"/>
          <a:stretch/>
        </p:blipFill>
        <p:spPr>
          <a:xfrm>
            <a:off x="0" y="2077920"/>
            <a:ext cx="1870200" cy="44244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8" descr=""/>
          <p:cNvPicPr/>
          <p:nvPr/>
        </p:nvPicPr>
        <p:blipFill>
          <a:blip r:embed="rId2"/>
          <a:srcRect l="5511" t="0" r="6594" b="0"/>
          <a:stretch/>
        </p:blipFill>
        <p:spPr>
          <a:xfrm>
            <a:off x="142920" y="584280"/>
            <a:ext cx="1450800" cy="137772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2"/>
          <p:cNvSpPr/>
          <p:nvPr/>
        </p:nvSpPr>
        <p:spPr>
          <a:xfrm>
            <a:off x="1863000" y="-3240"/>
            <a:ext cx="18982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. Histo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3"/>
          <p:cNvSpPr/>
          <p:nvPr/>
        </p:nvSpPr>
        <p:spPr>
          <a:xfrm>
            <a:off x="1860480" y="655560"/>
            <a:ext cx="691524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95959"/>
                </a:solidFill>
                <a:latin typeface="Arial"/>
              </a:rPr>
              <a:t>What we have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Drafted</a:t>
            </a:r>
            <a:r>
              <a:rPr b="1" lang="en-GB" sz="28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performance standards</a:t>
            </a: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, informed by ongoing prototype development (completed 2004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Formed Project Consortium </a:t>
            </a: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and reviewed and revised draft standa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Finalised and published </a:t>
            </a: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cold and hot climate performance standa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Draft of Shelter Standards </a:t>
            </a: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launched at SM08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Identified manufacturers </a:t>
            </a: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to display prototypes at SM08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Manufacturers developed prototypes </a:t>
            </a: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for review at SM09a and SM09b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0"/>
          <p:cNvSpPr/>
          <p:nvPr/>
        </p:nvSpPr>
        <p:spPr>
          <a:xfrm>
            <a:off x="981000" y="33717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14" descr="HFHI T-Shelter Group Cabaret April 2010.jpg"/>
          <p:cNvPicPr/>
          <p:nvPr/>
        </p:nvPicPr>
        <p:blipFill>
          <a:blip r:embed="rId1"/>
          <a:srcRect l="53706" t="4125" r="19260" b="0"/>
          <a:stretch/>
        </p:blipFill>
        <p:spPr>
          <a:xfrm>
            <a:off x="0" y="2077920"/>
            <a:ext cx="1863720" cy="44244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" descr=""/>
          <p:cNvPicPr/>
          <p:nvPr/>
        </p:nvPicPr>
        <p:blipFill>
          <a:blip r:embed="rId2"/>
          <a:srcRect l="5511" t="0" r="6594" b="0"/>
          <a:stretch/>
        </p:blipFill>
        <p:spPr>
          <a:xfrm>
            <a:off x="142920" y="584280"/>
            <a:ext cx="1450800" cy="137772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2"/>
          <p:cNvSpPr/>
          <p:nvPr/>
        </p:nvSpPr>
        <p:spPr>
          <a:xfrm>
            <a:off x="1863000" y="-3240"/>
            <a:ext cx="18982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. Histo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8" descr="HFHI T-Shelter Group Cabaret April 2010.jpg"/>
          <p:cNvPicPr/>
          <p:nvPr/>
        </p:nvPicPr>
        <p:blipFill>
          <a:blip r:embed="rId1"/>
          <a:srcRect l="0" t="4360" r="72871" b="0"/>
          <a:stretch/>
        </p:blipFill>
        <p:spPr>
          <a:xfrm>
            <a:off x="0" y="2089080"/>
            <a:ext cx="1870200" cy="441324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3"/>
          <p:cNvSpPr/>
          <p:nvPr/>
        </p:nvSpPr>
        <p:spPr>
          <a:xfrm>
            <a:off x="1860480" y="458640"/>
            <a:ext cx="691524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95959"/>
                </a:solidFill>
                <a:latin typeface="Arial"/>
              </a:rPr>
              <a:t>Transitional Shelte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95959"/>
                </a:solidFill>
                <a:latin typeface="Arial"/>
              </a:rPr>
              <a:t>Standards &amp; Prototypes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Bring together in a Consortium the humanitarian community </a:t>
            </a: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of experienced donors, UN bodies and implementing agenc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Engage a series of manufacturers </a:t>
            </a: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to build confidence within the humanitarian community that </a:t>
            </a: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credible Transitional Shelters</a:t>
            </a: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 can be produc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Agree finalised Transitional Shelter Standa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Work with manufacturers to develop </a:t>
            </a: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a collection of </a:t>
            </a: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stockpilable</a:t>
            </a: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 family </a:t>
            </a: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Transitional Shelter Prototypes</a:t>
            </a: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 that achieve the Transitional Shelter Standard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8" descr=""/>
          <p:cNvPicPr/>
          <p:nvPr/>
        </p:nvPicPr>
        <p:blipFill>
          <a:blip r:embed="rId2"/>
          <a:srcRect l="5511" t="0" r="6594" b="0"/>
          <a:stretch/>
        </p:blipFill>
        <p:spPr>
          <a:xfrm>
            <a:off x="142920" y="584280"/>
            <a:ext cx="1450800" cy="137772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2"/>
          <p:cNvSpPr/>
          <p:nvPr/>
        </p:nvSpPr>
        <p:spPr>
          <a:xfrm>
            <a:off x="1865880" y="-3240"/>
            <a:ext cx="2530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. Objec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3"/>
          <p:cNvSpPr/>
          <p:nvPr/>
        </p:nvSpPr>
        <p:spPr>
          <a:xfrm>
            <a:off x="1860480" y="458640"/>
            <a:ext cx="69152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95959"/>
                </a:solidFill>
                <a:latin typeface="Arial"/>
              </a:rPr>
              <a:t>Transitional Shelte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95959"/>
                </a:solidFill>
                <a:latin typeface="Arial"/>
              </a:rPr>
              <a:t>Standards, Prototypes, and Guideli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The Transitional Shelter Standards &amp; Prototypes projects are part of a coordinated initiative with the Transitional Shelter Guidel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10" descr="HFHI T-Shelter Group Cabaret April 2010.jpg"/>
          <p:cNvPicPr/>
          <p:nvPr/>
        </p:nvPicPr>
        <p:blipFill>
          <a:blip r:embed="rId1"/>
          <a:srcRect l="27134" t="4125" r="45743" b="0"/>
          <a:stretch/>
        </p:blipFill>
        <p:spPr>
          <a:xfrm>
            <a:off x="0" y="2077920"/>
            <a:ext cx="1870200" cy="44244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"/>
          <p:cNvPicPr/>
          <p:nvPr/>
        </p:nvPicPr>
        <p:blipFill>
          <a:blip r:embed="rId2"/>
          <a:srcRect l="5511" t="0" r="6594" b="0"/>
          <a:stretch/>
        </p:blipFill>
        <p:spPr>
          <a:xfrm>
            <a:off x="142920" y="584280"/>
            <a:ext cx="1450800" cy="13777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"/>
          <p:cNvPicPr/>
          <p:nvPr/>
        </p:nvPicPr>
        <p:blipFill>
          <a:blip r:embed="rId3"/>
          <a:stretch/>
        </p:blipFill>
        <p:spPr>
          <a:xfrm>
            <a:off x="4033800" y="2981160"/>
            <a:ext cx="2389320" cy="338940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2"/>
          <p:cNvSpPr/>
          <p:nvPr/>
        </p:nvSpPr>
        <p:spPr>
          <a:xfrm>
            <a:off x="1869480" y="-3240"/>
            <a:ext cx="56656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. Transitional Shelter proje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3"/>
          <p:cNvSpPr/>
          <p:nvPr/>
        </p:nvSpPr>
        <p:spPr>
          <a:xfrm>
            <a:off x="1860480" y="458640"/>
            <a:ext cx="6915240" cy="24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95959"/>
                </a:solidFill>
                <a:latin typeface="Arial"/>
              </a:rPr>
              <a:t>Transitional Shelte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95959"/>
                </a:solidFill>
                <a:latin typeface="Arial"/>
              </a:rPr>
              <a:t>Standards &amp; Prototypes ro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Consorti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10" descr="HFHI T-Shelter Group Cabaret April 2010.jpg"/>
          <p:cNvPicPr/>
          <p:nvPr/>
        </p:nvPicPr>
        <p:blipFill>
          <a:blip r:embed="rId1"/>
          <a:srcRect l="27134" t="4125" r="45743" b="0"/>
          <a:stretch/>
        </p:blipFill>
        <p:spPr>
          <a:xfrm>
            <a:off x="0" y="2077920"/>
            <a:ext cx="1870200" cy="44244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8" descr=""/>
          <p:cNvPicPr/>
          <p:nvPr/>
        </p:nvPicPr>
        <p:blipFill>
          <a:blip r:embed="rId2"/>
          <a:srcRect l="5511" t="0" r="6594" b="0"/>
          <a:stretch/>
        </p:blipFill>
        <p:spPr>
          <a:xfrm>
            <a:off x="142920" y="584280"/>
            <a:ext cx="1450800" cy="1377720"/>
          </a:xfrm>
          <a:prstGeom prst="rect">
            <a:avLst/>
          </a:prstGeom>
          <a:ln w="0">
            <a:noFill/>
          </a:ln>
        </p:spPr>
      </p:pic>
      <p:sp>
        <p:nvSpPr>
          <p:cNvPr id="396" name="TextBox 12"/>
          <p:cNvSpPr/>
          <p:nvPr/>
        </p:nvSpPr>
        <p:spPr>
          <a:xfrm>
            <a:off x="1854360" y="2463840"/>
            <a:ext cx="646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Bring key stakeholders to agreement regarding </a:t>
            </a: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common standards and indicators for transitional family shelter</a:t>
            </a: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 following conflict and natural disaster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3"/>
          <a:stretch/>
        </p:blipFill>
        <p:spPr>
          <a:xfrm>
            <a:off x="5052960" y="3265560"/>
            <a:ext cx="4091040" cy="322740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2"/>
          <p:cNvSpPr/>
          <p:nvPr/>
        </p:nvSpPr>
        <p:spPr>
          <a:xfrm>
            <a:off x="1862280" y="-3240"/>
            <a:ext cx="1671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. Ro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3"/>
          <p:cNvSpPr/>
          <p:nvPr/>
        </p:nvSpPr>
        <p:spPr>
          <a:xfrm>
            <a:off x="1946160" y="533520"/>
            <a:ext cx="730584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95959"/>
                </a:solidFill>
                <a:latin typeface="Arial"/>
              </a:rPr>
              <a:t>Members of the project Consortiu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Cordaid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Medair International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Save the Childr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SDC/HA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UN-Habitat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USAID/OFD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UN/OCHA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HFHI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DF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Trócaire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CRS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Muslim A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RICS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JICA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Oxfam G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RedR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Practical Action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NR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MSF-Int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CARE International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CHF Internation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IOM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CAFOD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COH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ECHO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ODI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AMU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SFL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ProAct Network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Caritas Aust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Sphere Project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ProVention Consortium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Red Cross Socie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World Vision International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The project is also observed by the </a:t>
            </a:r>
            <a:r>
              <a:rPr b="1" lang="en-GB" sz="1800" spc="-1" strike="noStrike">
                <a:solidFill>
                  <a:srgbClr val="7f7f7f"/>
                </a:solidFill>
                <a:latin typeface="Arial"/>
              </a:rPr>
              <a:t>IFRC </a:t>
            </a:r>
            <a:r>
              <a:rPr b="0" lang="en-GB" sz="1800" spc="-1" strike="noStrike">
                <a:solidFill>
                  <a:srgbClr val="7f7f7f"/>
                </a:solidFill>
                <a:latin typeface="Arial"/>
              </a:rPr>
              <a:t>and </a:t>
            </a:r>
            <a:r>
              <a:rPr b="1" lang="en-GB" sz="1800" spc="-1" strike="noStrike">
                <a:solidFill>
                  <a:srgbClr val="7f7f7f"/>
                </a:solidFill>
                <a:latin typeface="Arial"/>
              </a:rPr>
              <a:t>UNHC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" descr="sm06b from side.jpg"/>
          <p:cNvPicPr/>
          <p:nvPr/>
        </p:nvPicPr>
        <p:blipFill>
          <a:blip r:embed="rId1"/>
          <a:srcRect l="17705" t="0" r="49812" b="0"/>
          <a:stretch/>
        </p:blipFill>
        <p:spPr>
          <a:xfrm>
            <a:off x="0" y="2185920"/>
            <a:ext cx="1866960" cy="43102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8" descr=""/>
          <p:cNvPicPr/>
          <p:nvPr/>
        </p:nvPicPr>
        <p:blipFill>
          <a:blip r:embed="rId2"/>
          <a:srcRect l="5511" t="0" r="6594" b="0"/>
          <a:stretch/>
        </p:blipFill>
        <p:spPr>
          <a:xfrm>
            <a:off x="142920" y="584280"/>
            <a:ext cx="1450800" cy="137772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2"/>
          <p:cNvSpPr/>
          <p:nvPr/>
        </p:nvSpPr>
        <p:spPr>
          <a:xfrm>
            <a:off x="1862280" y="-3240"/>
            <a:ext cx="1671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. Ro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3"/>
          <p:cNvSpPr/>
          <p:nvPr/>
        </p:nvSpPr>
        <p:spPr>
          <a:xfrm>
            <a:off x="1860480" y="458640"/>
            <a:ext cx="6915240" cy="27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95959"/>
                </a:solidFill>
                <a:latin typeface="Arial"/>
              </a:rPr>
              <a:t>Transitional Shelte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95959"/>
                </a:solidFill>
                <a:latin typeface="Arial"/>
              </a:rPr>
              <a:t>Standards &amp; Prototypes ro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Manufactur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10" descr="HFHI T-Shelter Group Cabaret April 2010.jpg"/>
          <p:cNvPicPr/>
          <p:nvPr/>
        </p:nvPicPr>
        <p:blipFill>
          <a:blip r:embed="rId1"/>
          <a:srcRect l="27134" t="4125" r="45743" b="0"/>
          <a:stretch/>
        </p:blipFill>
        <p:spPr>
          <a:xfrm>
            <a:off x="0" y="2124000"/>
            <a:ext cx="1870200" cy="43783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8" descr=""/>
          <p:cNvPicPr/>
          <p:nvPr/>
        </p:nvPicPr>
        <p:blipFill>
          <a:blip r:embed="rId2"/>
          <a:srcRect l="5511" t="0" r="6594" b="0"/>
          <a:stretch/>
        </p:blipFill>
        <p:spPr>
          <a:xfrm>
            <a:off x="142920" y="584280"/>
            <a:ext cx="1450800" cy="1377720"/>
          </a:xfrm>
          <a:prstGeom prst="rect">
            <a:avLst/>
          </a:prstGeom>
          <a:ln w="0">
            <a:noFill/>
          </a:ln>
        </p:spPr>
      </p:pic>
      <p:sp>
        <p:nvSpPr>
          <p:cNvPr id="406" name="TextBox 12"/>
          <p:cNvSpPr/>
          <p:nvPr/>
        </p:nvSpPr>
        <p:spPr>
          <a:xfrm>
            <a:off x="1854360" y="2592360"/>
            <a:ext cx="646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Take the standards agreed by the consortium members and develop prototypes which are presented at Shelter Meetings for review by consortium memb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2"/>
          <p:cNvSpPr/>
          <p:nvPr/>
        </p:nvSpPr>
        <p:spPr>
          <a:xfrm>
            <a:off x="4065480" y="4238640"/>
            <a:ext cx="2160720" cy="21607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3" descr=""/>
          <p:cNvPicPr/>
          <p:nvPr/>
        </p:nvPicPr>
        <p:blipFill>
          <a:blip r:embed="rId3"/>
          <a:stretch/>
        </p:blipFill>
        <p:spPr>
          <a:xfrm>
            <a:off x="7307280" y="5143680"/>
            <a:ext cx="1224000" cy="11840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"/>
          <p:cNvPicPr/>
          <p:nvPr/>
        </p:nvPicPr>
        <p:blipFill>
          <a:blip r:embed="rId4"/>
          <a:stretch/>
        </p:blipFill>
        <p:spPr>
          <a:xfrm>
            <a:off x="4354560" y="4743360"/>
            <a:ext cx="1655640" cy="1177920"/>
          </a:xfrm>
          <a:prstGeom prst="rect">
            <a:avLst/>
          </a:prstGeom>
          <a:ln w="0">
            <a:noFill/>
          </a:ln>
        </p:spPr>
      </p:pic>
      <p:sp>
        <p:nvSpPr>
          <p:cNvPr id="410" name="Oval 6"/>
          <p:cNvSpPr/>
          <p:nvPr/>
        </p:nvSpPr>
        <p:spPr>
          <a:xfrm>
            <a:off x="5794200" y="3519360"/>
            <a:ext cx="2160720" cy="21607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1" descr="Module SM06b frame"/>
          <p:cNvPicPr/>
          <p:nvPr/>
        </p:nvPicPr>
        <p:blipFill>
          <a:blip r:embed="rId5"/>
          <a:stretch/>
        </p:blipFill>
        <p:spPr>
          <a:xfrm>
            <a:off x="6010200" y="3951360"/>
            <a:ext cx="1700280" cy="125100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12"/>
          <p:cNvSpPr/>
          <p:nvPr/>
        </p:nvSpPr>
        <p:spPr>
          <a:xfrm>
            <a:off x="6515280" y="4340160"/>
            <a:ext cx="122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99cc00"/>
                </a:solidFill>
                <a:latin typeface="Wingdings"/>
                <a:ea typeface="Wingdings"/>
              </a:rPr>
              <a:t>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4"/>
          <p:cNvSpPr/>
          <p:nvPr/>
        </p:nvSpPr>
        <p:spPr>
          <a:xfrm>
            <a:off x="4786200" y="5030640"/>
            <a:ext cx="12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99cc00"/>
                </a:solidFill>
                <a:latin typeface="Wingdings"/>
                <a:ea typeface="Wingdings"/>
              </a:rPr>
              <a:t>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2"/>
          <p:cNvSpPr/>
          <p:nvPr/>
        </p:nvSpPr>
        <p:spPr>
          <a:xfrm>
            <a:off x="1862280" y="-3240"/>
            <a:ext cx="1671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. Ro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3:20:43Z</dcterms:created>
  <dc:creator>Licensed User</dc:creator>
  <dc:description/>
  <dc:language>en-US</dc:language>
  <cp:lastModifiedBy>federica</cp:lastModifiedBy>
  <dcterms:modified xsi:type="dcterms:W3CDTF">2010-06-02T10:40:43Z</dcterms:modified>
  <cp:revision>1268</cp:revision>
  <dc:subject/>
  <dc:title>Slide 1</dc:title>
</cp:coreProperties>
</file>