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34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7588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3814920" y="-36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700200" y="740880"/>
            <a:ext cx="5330880" cy="369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896400" y="4681080"/>
            <a:ext cx="4937400" cy="4435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3"/>
          </p:nvPr>
        </p:nvSpPr>
        <p:spPr>
          <a:xfrm>
            <a:off x="-360" y="936432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4"/>
          </p:nvPr>
        </p:nvSpPr>
        <p:spPr>
          <a:xfrm>
            <a:off x="3814920" y="9364320"/>
            <a:ext cx="2916000" cy="492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0B6FE01-DF12-4FE4-BEC9-69F28C25475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025720" y="150840"/>
            <a:ext cx="2625480" cy="1819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72960" y="2862360"/>
            <a:ext cx="5897520" cy="678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So, to co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BlueScope Steel is a global steel solutions Company and we are growing glob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We are an industry leader with a strong and consistent track record of financial perform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11CF-E528-40AA-95DA-0304A0BEC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87217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40" y="4077000"/>
            <a:ext cx="87217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AB0C-562C-4406-AD95-D5C89C559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5240" y="407700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4280" y="407700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EA99-66E7-4AB3-897F-2D7540F28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4000" y="166644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22760" y="166644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5240" y="407700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4000" y="407700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22760" y="407700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F132-053D-4B5E-93B7-02862CDD0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5240" y="1666440"/>
            <a:ext cx="87217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87217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5240" y="407700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25240" y="1666440"/>
            <a:ext cx="87217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BD0E-0676-47D8-8722-26CA1B3E2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94280" y="407700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5240" y="4077000"/>
            <a:ext cx="87217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87217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240" y="4077000"/>
            <a:ext cx="87217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240" y="407700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94280" y="407700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74000" y="166644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22760" y="166644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5240" y="407700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74000" y="407700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22760" y="4077000"/>
            <a:ext cx="280800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87217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83A8-E5F6-426D-AD3B-789C276EA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DC30-572B-4B03-A29E-7857037D1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3096-96E8-4804-B103-F4C8089DD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109E-06CE-4AC1-B221-10D02F111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240" y="407700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0BC6-89BC-41A1-8236-7F84DBFB2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4280" y="407700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54EB-D5A9-4529-B52E-B850657B2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24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4280" y="1666440"/>
            <a:ext cx="42559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5240" y="4077000"/>
            <a:ext cx="8721720" cy="22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5479-A583-469D-ACEB-D33B472989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49440"/>
            <a:ext cx="9906120" cy="530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15224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906120" cy="155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25240" y="1666440"/>
            <a:ext cx="87217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e58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  <a:p>
            <a:pPr lvl="1" marL="762120" indent="-285840">
              <a:lnSpc>
                <a:spcPct val="90000"/>
              </a:lnSpc>
              <a:spcBef>
                <a:spcPts val="751"/>
              </a:spcBef>
              <a:buClr>
                <a:srgbClr val="0b0e5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e58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  <a:p>
            <a:pPr lvl="2" marL="1333440" indent="-285840">
              <a:lnSpc>
                <a:spcPct val="90000"/>
              </a:lnSpc>
              <a:spcBef>
                <a:spcPts val="751"/>
              </a:spcBef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e58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  <a:p>
            <a:pPr lvl="3" marL="1905120" indent="-285840">
              <a:lnSpc>
                <a:spcPct val="90000"/>
              </a:lnSpc>
              <a:spcBef>
                <a:spcPts val="751"/>
              </a:spcBef>
              <a:buClr>
                <a:srgbClr val="0b0e58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e5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  <a:p>
            <a:pPr lvl="4" marL="2476440" indent="-285840">
              <a:lnSpc>
                <a:spcPct val="90000"/>
              </a:lnSpc>
              <a:spcBef>
                <a:spcPts val="751"/>
              </a:spcBef>
              <a:buClr>
                <a:srgbClr val="0b0e5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e5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  <a:p>
            <a:pPr lvl="5" marL="2476440" indent="-285840">
              <a:lnSpc>
                <a:spcPct val="90000"/>
              </a:lnSpc>
              <a:spcBef>
                <a:spcPts val="751"/>
              </a:spcBef>
              <a:buClr>
                <a:srgbClr val="0b0e5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e5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  <a:p>
            <a:pPr lvl="6" marL="2476440" indent="-285840">
              <a:lnSpc>
                <a:spcPct val="90000"/>
              </a:lnSpc>
              <a:spcBef>
                <a:spcPts val="751"/>
              </a:spcBef>
              <a:buClr>
                <a:srgbClr val="0b0e5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e5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9019800" y="6561000"/>
            <a:ext cx="7635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b0e58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C147-F927-4D49-9224-C12A56B3F2CE}" type="slidenum">
              <a:rPr b="0" lang="en-US" sz="1100" spc="-1" strike="noStrike">
                <a:solidFill>
                  <a:srgbClr val="0b0e58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25920" y="6643800"/>
            <a:ext cx="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3040" y="6526080"/>
            <a:ext cx="263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b0e58"/>
                </a:solidFill>
                <a:latin typeface="Arial Narrow"/>
              </a:rPr>
              <a:t>Shelter centre Presentation 26</a:t>
            </a:r>
            <a:r>
              <a:rPr b="1" lang="en-GB" sz="900" spc="-1" strike="noStrike" baseline="30000">
                <a:solidFill>
                  <a:srgbClr val="0b0e58"/>
                </a:solidFill>
                <a:latin typeface="Arial Narrow"/>
              </a:rPr>
              <a:t>th</a:t>
            </a:r>
            <a:r>
              <a:rPr b="1" lang="en-GB" sz="900" spc="-1" strike="noStrike">
                <a:solidFill>
                  <a:srgbClr val="0b0e58"/>
                </a:solidFill>
                <a:latin typeface="Arial Narrow"/>
              </a:rPr>
              <a:t> May 2010</a:t>
            </a:r>
            <a:endParaRPr b="0" lang="en-US" sz="9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73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911880" cy="6872400"/>
            <a:chOff x="0" y="0"/>
            <a:chExt cx="9911880" cy="68724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911880" cy="687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b0e58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40" y="1969920"/>
              <a:ext cx="9905040" cy="4469040"/>
            </a:xfrm>
            <a:custGeom>
              <a:avLst/>
              <a:gdLst/>
              <a:ahLst/>
              <a:rect l="l" t="t" r="r" b="b"/>
              <a:pathLst>
                <a:path w="17280" h="8444">
                  <a:moveTo>
                    <a:pt x="14523" y="987"/>
                  </a:moveTo>
                  <a:lnTo>
                    <a:pt x="14275" y="1031"/>
                  </a:lnTo>
                  <a:lnTo>
                    <a:pt x="14026" y="1070"/>
                  </a:lnTo>
                  <a:lnTo>
                    <a:pt x="13775" y="1105"/>
                  </a:lnTo>
                  <a:lnTo>
                    <a:pt x="13524" y="1135"/>
                  </a:lnTo>
                  <a:lnTo>
                    <a:pt x="13270" y="1160"/>
                  </a:lnTo>
                  <a:lnTo>
                    <a:pt x="13014" y="1181"/>
                  </a:lnTo>
                  <a:lnTo>
                    <a:pt x="12758" y="1199"/>
                  </a:lnTo>
                  <a:lnTo>
                    <a:pt x="12500" y="1212"/>
                  </a:lnTo>
                  <a:lnTo>
                    <a:pt x="12242" y="1221"/>
                  </a:lnTo>
                  <a:lnTo>
                    <a:pt x="11982" y="1228"/>
                  </a:lnTo>
                  <a:lnTo>
                    <a:pt x="11721" y="1232"/>
                  </a:lnTo>
                  <a:lnTo>
                    <a:pt x="11460" y="1232"/>
                  </a:lnTo>
                  <a:lnTo>
                    <a:pt x="11199" y="1231"/>
                  </a:lnTo>
                  <a:lnTo>
                    <a:pt x="10936" y="1226"/>
                  </a:lnTo>
                  <a:lnTo>
                    <a:pt x="10673" y="1219"/>
                  </a:lnTo>
                  <a:lnTo>
                    <a:pt x="10410" y="1210"/>
                  </a:lnTo>
                  <a:lnTo>
                    <a:pt x="10147" y="1200"/>
                  </a:lnTo>
                  <a:lnTo>
                    <a:pt x="9883" y="1188"/>
                  </a:lnTo>
                  <a:lnTo>
                    <a:pt x="9620" y="1175"/>
                  </a:lnTo>
                  <a:lnTo>
                    <a:pt x="9357" y="1160"/>
                  </a:lnTo>
                  <a:lnTo>
                    <a:pt x="9095" y="1145"/>
                  </a:lnTo>
                  <a:lnTo>
                    <a:pt x="8832" y="1127"/>
                  </a:lnTo>
                  <a:lnTo>
                    <a:pt x="8570" y="1111"/>
                  </a:lnTo>
                  <a:lnTo>
                    <a:pt x="8310" y="1094"/>
                  </a:lnTo>
                  <a:lnTo>
                    <a:pt x="7789" y="1059"/>
                  </a:lnTo>
                  <a:lnTo>
                    <a:pt x="7273" y="1026"/>
                  </a:lnTo>
                  <a:lnTo>
                    <a:pt x="7017" y="1010"/>
                  </a:lnTo>
                  <a:lnTo>
                    <a:pt x="6762" y="994"/>
                  </a:lnTo>
                  <a:lnTo>
                    <a:pt x="6508" y="981"/>
                  </a:lnTo>
                  <a:lnTo>
                    <a:pt x="6256" y="969"/>
                  </a:lnTo>
                  <a:lnTo>
                    <a:pt x="6051" y="960"/>
                  </a:lnTo>
                  <a:lnTo>
                    <a:pt x="5846" y="952"/>
                  </a:lnTo>
                  <a:lnTo>
                    <a:pt x="5642" y="945"/>
                  </a:lnTo>
                  <a:lnTo>
                    <a:pt x="5438" y="939"/>
                  </a:lnTo>
                  <a:lnTo>
                    <a:pt x="5235" y="935"/>
                  </a:lnTo>
                  <a:lnTo>
                    <a:pt x="5032" y="932"/>
                  </a:lnTo>
                  <a:lnTo>
                    <a:pt x="4830" y="930"/>
                  </a:lnTo>
                  <a:lnTo>
                    <a:pt x="4628" y="929"/>
                  </a:lnTo>
                  <a:lnTo>
                    <a:pt x="4427" y="930"/>
                  </a:lnTo>
                  <a:lnTo>
                    <a:pt x="4227" y="932"/>
                  </a:lnTo>
                  <a:lnTo>
                    <a:pt x="4026" y="936"/>
                  </a:lnTo>
                  <a:lnTo>
                    <a:pt x="3828" y="942"/>
                  </a:lnTo>
                  <a:lnTo>
                    <a:pt x="3629" y="948"/>
                  </a:lnTo>
                  <a:lnTo>
                    <a:pt x="3431" y="957"/>
                  </a:lnTo>
                  <a:lnTo>
                    <a:pt x="3234" y="967"/>
                  </a:lnTo>
                  <a:lnTo>
                    <a:pt x="3037" y="979"/>
                  </a:lnTo>
                  <a:lnTo>
                    <a:pt x="2841" y="994"/>
                  </a:lnTo>
                  <a:lnTo>
                    <a:pt x="2646" y="1010"/>
                  </a:lnTo>
                  <a:lnTo>
                    <a:pt x="2452" y="1028"/>
                  </a:lnTo>
                  <a:lnTo>
                    <a:pt x="2257" y="1048"/>
                  </a:lnTo>
                  <a:lnTo>
                    <a:pt x="2065" y="1071"/>
                  </a:lnTo>
                  <a:lnTo>
                    <a:pt x="1873" y="1095"/>
                  </a:lnTo>
                  <a:lnTo>
                    <a:pt x="1682" y="1122"/>
                  </a:lnTo>
                  <a:lnTo>
                    <a:pt x="1491" y="1151"/>
                  </a:lnTo>
                  <a:lnTo>
                    <a:pt x="1301" y="1182"/>
                  </a:lnTo>
                  <a:lnTo>
                    <a:pt x="1112" y="1216"/>
                  </a:lnTo>
                  <a:lnTo>
                    <a:pt x="926" y="1253"/>
                  </a:lnTo>
                  <a:lnTo>
                    <a:pt x="738" y="1290"/>
                  </a:lnTo>
                  <a:lnTo>
                    <a:pt x="552" y="1332"/>
                  </a:lnTo>
                  <a:lnTo>
                    <a:pt x="367" y="1376"/>
                  </a:lnTo>
                  <a:lnTo>
                    <a:pt x="184" y="1422"/>
                  </a:lnTo>
                  <a:lnTo>
                    <a:pt x="0" y="1472"/>
                  </a:lnTo>
                  <a:lnTo>
                    <a:pt x="0" y="8444"/>
                  </a:lnTo>
                  <a:lnTo>
                    <a:pt x="174" y="8403"/>
                  </a:lnTo>
                  <a:lnTo>
                    <a:pt x="349" y="8363"/>
                  </a:lnTo>
                  <a:lnTo>
                    <a:pt x="524" y="8327"/>
                  </a:lnTo>
                  <a:lnTo>
                    <a:pt x="701" y="8292"/>
                  </a:lnTo>
                  <a:lnTo>
                    <a:pt x="878" y="8260"/>
                  </a:lnTo>
                  <a:lnTo>
                    <a:pt x="1055" y="8229"/>
                  </a:lnTo>
                  <a:lnTo>
                    <a:pt x="1234" y="8200"/>
                  </a:lnTo>
                  <a:lnTo>
                    <a:pt x="1414" y="8174"/>
                  </a:lnTo>
                  <a:lnTo>
                    <a:pt x="1594" y="8149"/>
                  </a:lnTo>
                  <a:lnTo>
                    <a:pt x="1774" y="8128"/>
                  </a:lnTo>
                  <a:lnTo>
                    <a:pt x="1956" y="8107"/>
                  </a:lnTo>
                  <a:lnTo>
                    <a:pt x="2138" y="8089"/>
                  </a:lnTo>
                  <a:lnTo>
                    <a:pt x="2321" y="8072"/>
                  </a:lnTo>
                  <a:lnTo>
                    <a:pt x="2505" y="8057"/>
                  </a:lnTo>
                  <a:lnTo>
                    <a:pt x="2689" y="8044"/>
                  </a:lnTo>
                  <a:lnTo>
                    <a:pt x="2874" y="8032"/>
                  </a:lnTo>
                  <a:lnTo>
                    <a:pt x="3059" y="8022"/>
                  </a:lnTo>
                  <a:lnTo>
                    <a:pt x="3245" y="8013"/>
                  </a:lnTo>
                  <a:lnTo>
                    <a:pt x="3432" y="8007"/>
                  </a:lnTo>
                  <a:lnTo>
                    <a:pt x="3619" y="8001"/>
                  </a:lnTo>
                  <a:lnTo>
                    <a:pt x="3807" y="7997"/>
                  </a:lnTo>
                  <a:lnTo>
                    <a:pt x="3995" y="7995"/>
                  </a:lnTo>
                  <a:lnTo>
                    <a:pt x="4184" y="7993"/>
                  </a:lnTo>
                  <a:lnTo>
                    <a:pt x="4373" y="7993"/>
                  </a:lnTo>
                  <a:lnTo>
                    <a:pt x="4563" y="7994"/>
                  </a:lnTo>
                  <a:lnTo>
                    <a:pt x="4753" y="7997"/>
                  </a:lnTo>
                  <a:lnTo>
                    <a:pt x="4944" y="8000"/>
                  </a:lnTo>
                  <a:lnTo>
                    <a:pt x="5135" y="8005"/>
                  </a:lnTo>
                  <a:lnTo>
                    <a:pt x="5328" y="8010"/>
                  </a:lnTo>
                  <a:lnTo>
                    <a:pt x="5520" y="8018"/>
                  </a:lnTo>
                  <a:lnTo>
                    <a:pt x="5712" y="8025"/>
                  </a:lnTo>
                  <a:lnTo>
                    <a:pt x="5905" y="8033"/>
                  </a:lnTo>
                  <a:lnTo>
                    <a:pt x="6157" y="8046"/>
                  </a:lnTo>
                  <a:lnTo>
                    <a:pt x="6411" y="8059"/>
                  </a:lnTo>
                  <a:lnTo>
                    <a:pt x="6666" y="8074"/>
                  </a:lnTo>
                  <a:lnTo>
                    <a:pt x="6922" y="8089"/>
                  </a:lnTo>
                  <a:lnTo>
                    <a:pt x="7438" y="8122"/>
                  </a:lnTo>
                  <a:lnTo>
                    <a:pt x="7957" y="8157"/>
                  </a:lnTo>
                  <a:lnTo>
                    <a:pt x="8219" y="8174"/>
                  </a:lnTo>
                  <a:lnTo>
                    <a:pt x="8481" y="8192"/>
                  </a:lnTo>
                  <a:lnTo>
                    <a:pt x="8744" y="8208"/>
                  </a:lnTo>
                  <a:lnTo>
                    <a:pt x="9006" y="8223"/>
                  </a:lnTo>
                  <a:lnTo>
                    <a:pt x="9269" y="8238"/>
                  </a:lnTo>
                  <a:lnTo>
                    <a:pt x="9532" y="8252"/>
                  </a:lnTo>
                  <a:lnTo>
                    <a:pt x="9796" y="8264"/>
                  </a:lnTo>
                  <a:lnTo>
                    <a:pt x="10059" y="8275"/>
                  </a:lnTo>
                  <a:lnTo>
                    <a:pt x="10322" y="8283"/>
                  </a:lnTo>
                  <a:lnTo>
                    <a:pt x="10584" y="8290"/>
                  </a:lnTo>
                  <a:lnTo>
                    <a:pt x="10846" y="8294"/>
                  </a:lnTo>
                  <a:lnTo>
                    <a:pt x="11109" y="8296"/>
                  </a:lnTo>
                  <a:lnTo>
                    <a:pt x="11370" y="8295"/>
                  </a:lnTo>
                  <a:lnTo>
                    <a:pt x="11631" y="8292"/>
                  </a:lnTo>
                  <a:lnTo>
                    <a:pt x="11891" y="8286"/>
                  </a:lnTo>
                  <a:lnTo>
                    <a:pt x="12149" y="8276"/>
                  </a:lnTo>
                  <a:lnTo>
                    <a:pt x="12407" y="8262"/>
                  </a:lnTo>
                  <a:lnTo>
                    <a:pt x="12663" y="8244"/>
                  </a:lnTo>
                  <a:lnTo>
                    <a:pt x="12919" y="8224"/>
                  </a:lnTo>
                  <a:lnTo>
                    <a:pt x="13173" y="8198"/>
                  </a:lnTo>
                  <a:lnTo>
                    <a:pt x="13424" y="8169"/>
                  </a:lnTo>
                  <a:lnTo>
                    <a:pt x="13675" y="8134"/>
                  </a:lnTo>
                  <a:lnTo>
                    <a:pt x="13924" y="8095"/>
                  </a:lnTo>
                  <a:lnTo>
                    <a:pt x="14171" y="8051"/>
                  </a:lnTo>
                  <a:lnTo>
                    <a:pt x="14275" y="8032"/>
                  </a:lnTo>
                  <a:lnTo>
                    <a:pt x="14379" y="8010"/>
                  </a:lnTo>
                  <a:lnTo>
                    <a:pt x="14482" y="7986"/>
                  </a:lnTo>
                  <a:lnTo>
                    <a:pt x="14584" y="7963"/>
                  </a:lnTo>
                  <a:lnTo>
                    <a:pt x="14687" y="7938"/>
                  </a:lnTo>
                  <a:lnTo>
                    <a:pt x="14790" y="7911"/>
                  </a:lnTo>
                  <a:lnTo>
                    <a:pt x="14891" y="7883"/>
                  </a:lnTo>
                  <a:lnTo>
                    <a:pt x="14993" y="7855"/>
                  </a:lnTo>
                  <a:lnTo>
                    <a:pt x="15094" y="7824"/>
                  </a:lnTo>
                  <a:lnTo>
                    <a:pt x="15195" y="7793"/>
                  </a:lnTo>
                  <a:lnTo>
                    <a:pt x="15295" y="7761"/>
                  </a:lnTo>
                  <a:lnTo>
                    <a:pt x="15394" y="7727"/>
                  </a:lnTo>
                  <a:lnTo>
                    <a:pt x="15494" y="7694"/>
                  </a:lnTo>
                  <a:lnTo>
                    <a:pt x="15592" y="7658"/>
                  </a:lnTo>
                  <a:lnTo>
                    <a:pt x="15690" y="7621"/>
                  </a:lnTo>
                  <a:lnTo>
                    <a:pt x="15789" y="7585"/>
                  </a:lnTo>
                  <a:lnTo>
                    <a:pt x="15886" y="7546"/>
                  </a:lnTo>
                  <a:lnTo>
                    <a:pt x="15983" y="7507"/>
                  </a:lnTo>
                  <a:lnTo>
                    <a:pt x="16079" y="7467"/>
                  </a:lnTo>
                  <a:lnTo>
                    <a:pt x="16175" y="7426"/>
                  </a:lnTo>
                  <a:lnTo>
                    <a:pt x="16270" y="7384"/>
                  </a:lnTo>
                  <a:lnTo>
                    <a:pt x="16365" y="7341"/>
                  </a:lnTo>
                  <a:lnTo>
                    <a:pt x="16459" y="7297"/>
                  </a:lnTo>
                  <a:lnTo>
                    <a:pt x="16553" y="7253"/>
                  </a:lnTo>
                  <a:lnTo>
                    <a:pt x="16646" y="7208"/>
                  </a:lnTo>
                  <a:lnTo>
                    <a:pt x="16739" y="7161"/>
                  </a:lnTo>
                  <a:lnTo>
                    <a:pt x="16831" y="7115"/>
                  </a:lnTo>
                  <a:lnTo>
                    <a:pt x="16921" y="7067"/>
                  </a:lnTo>
                  <a:lnTo>
                    <a:pt x="17012" y="7019"/>
                  </a:lnTo>
                  <a:lnTo>
                    <a:pt x="17102" y="6970"/>
                  </a:lnTo>
                  <a:lnTo>
                    <a:pt x="17191" y="6920"/>
                  </a:lnTo>
                  <a:lnTo>
                    <a:pt x="17280" y="6871"/>
                  </a:lnTo>
                  <a:lnTo>
                    <a:pt x="17280" y="0"/>
                  </a:lnTo>
                  <a:lnTo>
                    <a:pt x="17200" y="42"/>
                  </a:lnTo>
                  <a:lnTo>
                    <a:pt x="17119" y="83"/>
                  </a:lnTo>
                  <a:lnTo>
                    <a:pt x="17039" y="124"/>
                  </a:lnTo>
                  <a:lnTo>
                    <a:pt x="16957" y="164"/>
                  </a:lnTo>
                  <a:lnTo>
                    <a:pt x="16875" y="203"/>
                  </a:lnTo>
                  <a:lnTo>
                    <a:pt x="16793" y="242"/>
                  </a:lnTo>
                  <a:lnTo>
                    <a:pt x="16711" y="281"/>
                  </a:lnTo>
                  <a:lnTo>
                    <a:pt x="16628" y="318"/>
                  </a:lnTo>
                  <a:lnTo>
                    <a:pt x="16543" y="355"/>
                  </a:lnTo>
                  <a:lnTo>
                    <a:pt x="16460" y="391"/>
                  </a:lnTo>
                  <a:lnTo>
                    <a:pt x="16375" y="426"/>
                  </a:lnTo>
                  <a:lnTo>
                    <a:pt x="16291" y="461"/>
                  </a:lnTo>
                  <a:lnTo>
                    <a:pt x="16205" y="495"/>
                  </a:lnTo>
                  <a:lnTo>
                    <a:pt x="16120" y="529"/>
                  </a:lnTo>
                  <a:lnTo>
                    <a:pt x="16034" y="561"/>
                  </a:lnTo>
                  <a:lnTo>
                    <a:pt x="15947" y="593"/>
                  </a:lnTo>
                  <a:lnTo>
                    <a:pt x="15861" y="624"/>
                  </a:lnTo>
                  <a:lnTo>
                    <a:pt x="15774" y="654"/>
                  </a:lnTo>
                  <a:lnTo>
                    <a:pt x="15687" y="683"/>
                  </a:lnTo>
                  <a:lnTo>
                    <a:pt x="15598" y="713"/>
                  </a:lnTo>
                  <a:lnTo>
                    <a:pt x="15511" y="741"/>
                  </a:lnTo>
                  <a:lnTo>
                    <a:pt x="15422" y="767"/>
                  </a:lnTo>
                  <a:lnTo>
                    <a:pt x="15334" y="794"/>
                  </a:lnTo>
                  <a:lnTo>
                    <a:pt x="15245" y="818"/>
                  </a:lnTo>
                  <a:lnTo>
                    <a:pt x="15156" y="843"/>
                  </a:lnTo>
                  <a:lnTo>
                    <a:pt x="15066" y="866"/>
                  </a:lnTo>
                  <a:lnTo>
                    <a:pt x="14976" y="889"/>
                  </a:lnTo>
                  <a:lnTo>
                    <a:pt x="14886" y="910"/>
                  </a:lnTo>
                  <a:lnTo>
                    <a:pt x="14795" y="931"/>
                  </a:lnTo>
                  <a:lnTo>
                    <a:pt x="14704" y="951"/>
                  </a:lnTo>
                  <a:lnTo>
                    <a:pt x="14613" y="970"/>
                  </a:lnTo>
                  <a:lnTo>
                    <a:pt x="14523" y="987"/>
                  </a:lnTo>
                  <a:close/>
                </a:path>
              </a:pathLst>
            </a:custGeom>
            <a:solidFill>
              <a:srgbClr val="5773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b0e58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40" y="1803240"/>
              <a:ext cx="9905040" cy="946440"/>
            </a:xfrm>
            <a:custGeom>
              <a:avLst/>
              <a:gdLst/>
              <a:ahLst/>
              <a:rect l="l" t="t" r="r" b="b"/>
              <a:pathLst>
                <a:path w="17280" h="1787">
                  <a:moveTo>
                    <a:pt x="0" y="1468"/>
                  </a:moveTo>
                  <a:lnTo>
                    <a:pt x="184" y="1419"/>
                  </a:lnTo>
                  <a:lnTo>
                    <a:pt x="368" y="1372"/>
                  </a:lnTo>
                  <a:lnTo>
                    <a:pt x="554" y="1328"/>
                  </a:lnTo>
                  <a:lnTo>
                    <a:pt x="740" y="1287"/>
                  </a:lnTo>
                  <a:lnTo>
                    <a:pt x="928" y="1247"/>
                  </a:lnTo>
                  <a:lnTo>
                    <a:pt x="1116" y="1211"/>
                  </a:lnTo>
                  <a:lnTo>
                    <a:pt x="1305" y="1177"/>
                  </a:lnTo>
                  <a:lnTo>
                    <a:pt x="1495" y="1145"/>
                  </a:lnTo>
                  <a:lnTo>
                    <a:pt x="1686" y="1116"/>
                  </a:lnTo>
                  <a:lnTo>
                    <a:pt x="1877" y="1089"/>
                  </a:lnTo>
                  <a:lnTo>
                    <a:pt x="2070" y="1064"/>
                  </a:lnTo>
                  <a:lnTo>
                    <a:pt x="2264" y="1042"/>
                  </a:lnTo>
                  <a:lnTo>
                    <a:pt x="2457" y="1021"/>
                  </a:lnTo>
                  <a:lnTo>
                    <a:pt x="2652" y="1003"/>
                  </a:lnTo>
                  <a:lnTo>
                    <a:pt x="2848" y="987"/>
                  </a:lnTo>
                  <a:lnTo>
                    <a:pt x="3045" y="972"/>
                  </a:lnTo>
                  <a:lnTo>
                    <a:pt x="3241" y="960"/>
                  </a:lnTo>
                  <a:lnTo>
                    <a:pt x="3440" y="950"/>
                  </a:lnTo>
                  <a:lnTo>
                    <a:pt x="3637" y="940"/>
                  </a:lnTo>
                  <a:lnTo>
                    <a:pt x="3837" y="934"/>
                  </a:lnTo>
                  <a:lnTo>
                    <a:pt x="4037" y="928"/>
                  </a:lnTo>
                  <a:lnTo>
                    <a:pt x="4237" y="924"/>
                  </a:lnTo>
                  <a:lnTo>
                    <a:pt x="4438" y="922"/>
                  </a:lnTo>
                  <a:lnTo>
                    <a:pt x="4640" y="921"/>
                  </a:lnTo>
                  <a:lnTo>
                    <a:pt x="4842" y="922"/>
                  </a:lnTo>
                  <a:lnTo>
                    <a:pt x="5045" y="923"/>
                  </a:lnTo>
                  <a:lnTo>
                    <a:pt x="5248" y="926"/>
                  </a:lnTo>
                  <a:lnTo>
                    <a:pt x="5452" y="931"/>
                  </a:lnTo>
                  <a:lnTo>
                    <a:pt x="5657" y="937"/>
                  </a:lnTo>
                  <a:lnTo>
                    <a:pt x="5861" y="943"/>
                  </a:lnTo>
                  <a:lnTo>
                    <a:pt x="6066" y="951"/>
                  </a:lnTo>
                  <a:lnTo>
                    <a:pt x="6273" y="961"/>
                  </a:lnTo>
                  <a:lnTo>
                    <a:pt x="6524" y="972"/>
                  </a:lnTo>
                  <a:lnTo>
                    <a:pt x="6778" y="987"/>
                  </a:lnTo>
                  <a:lnTo>
                    <a:pt x="7033" y="1001"/>
                  </a:lnTo>
                  <a:lnTo>
                    <a:pt x="7289" y="1017"/>
                  </a:lnTo>
                  <a:lnTo>
                    <a:pt x="7805" y="1050"/>
                  </a:lnTo>
                  <a:lnTo>
                    <a:pt x="8326" y="1085"/>
                  </a:lnTo>
                  <a:lnTo>
                    <a:pt x="8587" y="1102"/>
                  </a:lnTo>
                  <a:lnTo>
                    <a:pt x="8848" y="1119"/>
                  </a:lnTo>
                  <a:lnTo>
                    <a:pt x="9111" y="1136"/>
                  </a:lnTo>
                  <a:lnTo>
                    <a:pt x="9373" y="1151"/>
                  </a:lnTo>
                  <a:lnTo>
                    <a:pt x="9637" y="1166"/>
                  </a:lnTo>
                  <a:lnTo>
                    <a:pt x="9899" y="1180"/>
                  </a:lnTo>
                  <a:lnTo>
                    <a:pt x="10163" y="1192"/>
                  </a:lnTo>
                  <a:lnTo>
                    <a:pt x="10426" y="1201"/>
                  </a:lnTo>
                  <a:lnTo>
                    <a:pt x="10690" y="1211"/>
                  </a:lnTo>
                  <a:lnTo>
                    <a:pt x="10952" y="1218"/>
                  </a:lnTo>
                  <a:lnTo>
                    <a:pt x="11215" y="1222"/>
                  </a:lnTo>
                  <a:lnTo>
                    <a:pt x="11476" y="1224"/>
                  </a:lnTo>
                  <a:lnTo>
                    <a:pt x="11737" y="1223"/>
                  </a:lnTo>
                  <a:lnTo>
                    <a:pt x="11999" y="1220"/>
                  </a:lnTo>
                  <a:lnTo>
                    <a:pt x="12258" y="1213"/>
                  </a:lnTo>
                  <a:lnTo>
                    <a:pt x="12517" y="1203"/>
                  </a:lnTo>
                  <a:lnTo>
                    <a:pt x="12774" y="1190"/>
                  </a:lnTo>
                  <a:lnTo>
                    <a:pt x="13031" y="1172"/>
                  </a:lnTo>
                  <a:lnTo>
                    <a:pt x="13286" y="1151"/>
                  </a:lnTo>
                  <a:lnTo>
                    <a:pt x="13540" y="1126"/>
                  </a:lnTo>
                  <a:lnTo>
                    <a:pt x="13793" y="1096"/>
                  </a:lnTo>
                  <a:lnTo>
                    <a:pt x="14043" y="1062"/>
                  </a:lnTo>
                  <a:lnTo>
                    <a:pt x="14292" y="1022"/>
                  </a:lnTo>
                  <a:lnTo>
                    <a:pt x="14539" y="979"/>
                  </a:lnTo>
                  <a:lnTo>
                    <a:pt x="14630" y="961"/>
                  </a:lnTo>
                  <a:lnTo>
                    <a:pt x="14720" y="942"/>
                  </a:lnTo>
                  <a:lnTo>
                    <a:pt x="14810" y="923"/>
                  </a:lnTo>
                  <a:lnTo>
                    <a:pt x="14900" y="902"/>
                  </a:lnTo>
                  <a:lnTo>
                    <a:pt x="14989" y="881"/>
                  </a:lnTo>
                  <a:lnTo>
                    <a:pt x="15079" y="859"/>
                  </a:lnTo>
                  <a:lnTo>
                    <a:pt x="15169" y="835"/>
                  </a:lnTo>
                  <a:lnTo>
                    <a:pt x="15257" y="812"/>
                  </a:lnTo>
                  <a:lnTo>
                    <a:pt x="15346" y="787"/>
                  </a:lnTo>
                  <a:lnTo>
                    <a:pt x="15433" y="761"/>
                  </a:lnTo>
                  <a:lnTo>
                    <a:pt x="15522" y="734"/>
                  </a:lnTo>
                  <a:lnTo>
                    <a:pt x="15609" y="707"/>
                  </a:lnTo>
                  <a:lnTo>
                    <a:pt x="15696" y="678"/>
                  </a:lnTo>
                  <a:lnTo>
                    <a:pt x="15783" y="648"/>
                  </a:lnTo>
                  <a:lnTo>
                    <a:pt x="15870" y="619"/>
                  </a:lnTo>
                  <a:lnTo>
                    <a:pt x="15955" y="588"/>
                  </a:lnTo>
                  <a:lnTo>
                    <a:pt x="16041" y="557"/>
                  </a:lnTo>
                  <a:lnTo>
                    <a:pt x="16127" y="524"/>
                  </a:lnTo>
                  <a:lnTo>
                    <a:pt x="16212" y="492"/>
                  </a:lnTo>
                  <a:lnTo>
                    <a:pt x="16296" y="457"/>
                  </a:lnTo>
                  <a:lnTo>
                    <a:pt x="16380" y="423"/>
                  </a:lnTo>
                  <a:lnTo>
                    <a:pt x="16465" y="388"/>
                  </a:lnTo>
                  <a:lnTo>
                    <a:pt x="16548" y="353"/>
                  </a:lnTo>
                  <a:lnTo>
                    <a:pt x="16631" y="316"/>
                  </a:lnTo>
                  <a:lnTo>
                    <a:pt x="16713" y="278"/>
                  </a:lnTo>
                  <a:lnTo>
                    <a:pt x="16796" y="240"/>
                  </a:lnTo>
                  <a:lnTo>
                    <a:pt x="16877" y="202"/>
                  </a:lnTo>
                  <a:lnTo>
                    <a:pt x="16959" y="162"/>
                  </a:lnTo>
                  <a:lnTo>
                    <a:pt x="17040" y="124"/>
                  </a:lnTo>
                  <a:lnTo>
                    <a:pt x="17120" y="83"/>
                  </a:lnTo>
                  <a:lnTo>
                    <a:pt x="17200" y="42"/>
                  </a:lnTo>
                  <a:lnTo>
                    <a:pt x="17280" y="0"/>
                  </a:lnTo>
                  <a:lnTo>
                    <a:pt x="17280" y="315"/>
                  </a:lnTo>
                  <a:lnTo>
                    <a:pt x="17200" y="357"/>
                  </a:lnTo>
                  <a:lnTo>
                    <a:pt x="17119" y="398"/>
                  </a:lnTo>
                  <a:lnTo>
                    <a:pt x="17039" y="439"/>
                  </a:lnTo>
                  <a:lnTo>
                    <a:pt x="16957" y="479"/>
                  </a:lnTo>
                  <a:lnTo>
                    <a:pt x="16875" y="518"/>
                  </a:lnTo>
                  <a:lnTo>
                    <a:pt x="16793" y="557"/>
                  </a:lnTo>
                  <a:lnTo>
                    <a:pt x="16711" y="596"/>
                  </a:lnTo>
                  <a:lnTo>
                    <a:pt x="16628" y="633"/>
                  </a:lnTo>
                  <a:lnTo>
                    <a:pt x="16543" y="670"/>
                  </a:lnTo>
                  <a:lnTo>
                    <a:pt x="16460" y="706"/>
                  </a:lnTo>
                  <a:lnTo>
                    <a:pt x="16375" y="741"/>
                  </a:lnTo>
                  <a:lnTo>
                    <a:pt x="16291" y="776"/>
                  </a:lnTo>
                  <a:lnTo>
                    <a:pt x="16205" y="810"/>
                  </a:lnTo>
                  <a:lnTo>
                    <a:pt x="16120" y="844"/>
                  </a:lnTo>
                  <a:lnTo>
                    <a:pt x="16034" y="876"/>
                  </a:lnTo>
                  <a:lnTo>
                    <a:pt x="15947" y="908"/>
                  </a:lnTo>
                  <a:lnTo>
                    <a:pt x="15861" y="939"/>
                  </a:lnTo>
                  <a:lnTo>
                    <a:pt x="15774" y="969"/>
                  </a:lnTo>
                  <a:lnTo>
                    <a:pt x="15687" y="998"/>
                  </a:lnTo>
                  <a:lnTo>
                    <a:pt x="15598" y="1028"/>
                  </a:lnTo>
                  <a:lnTo>
                    <a:pt x="15511" y="1056"/>
                  </a:lnTo>
                  <a:lnTo>
                    <a:pt x="15422" y="1082"/>
                  </a:lnTo>
                  <a:lnTo>
                    <a:pt x="15334" y="1109"/>
                  </a:lnTo>
                  <a:lnTo>
                    <a:pt x="15245" y="1133"/>
                  </a:lnTo>
                  <a:lnTo>
                    <a:pt x="15156" y="1158"/>
                  </a:lnTo>
                  <a:lnTo>
                    <a:pt x="15066" y="1181"/>
                  </a:lnTo>
                  <a:lnTo>
                    <a:pt x="14976" y="1204"/>
                  </a:lnTo>
                  <a:lnTo>
                    <a:pt x="14886" y="1225"/>
                  </a:lnTo>
                  <a:lnTo>
                    <a:pt x="14795" y="1246"/>
                  </a:lnTo>
                  <a:lnTo>
                    <a:pt x="14704" y="1266"/>
                  </a:lnTo>
                  <a:lnTo>
                    <a:pt x="14613" y="1285"/>
                  </a:lnTo>
                  <a:lnTo>
                    <a:pt x="14523" y="1302"/>
                  </a:lnTo>
                  <a:lnTo>
                    <a:pt x="14275" y="1346"/>
                  </a:lnTo>
                  <a:lnTo>
                    <a:pt x="14026" y="1385"/>
                  </a:lnTo>
                  <a:lnTo>
                    <a:pt x="13775" y="1420"/>
                  </a:lnTo>
                  <a:lnTo>
                    <a:pt x="13524" y="1450"/>
                  </a:lnTo>
                  <a:lnTo>
                    <a:pt x="13270" y="1475"/>
                  </a:lnTo>
                  <a:lnTo>
                    <a:pt x="13014" y="1496"/>
                  </a:lnTo>
                  <a:lnTo>
                    <a:pt x="12758" y="1514"/>
                  </a:lnTo>
                  <a:lnTo>
                    <a:pt x="12500" y="1527"/>
                  </a:lnTo>
                  <a:lnTo>
                    <a:pt x="12242" y="1536"/>
                  </a:lnTo>
                  <a:lnTo>
                    <a:pt x="11982" y="1543"/>
                  </a:lnTo>
                  <a:lnTo>
                    <a:pt x="11721" y="1547"/>
                  </a:lnTo>
                  <a:lnTo>
                    <a:pt x="11460" y="1547"/>
                  </a:lnTo>
                  <a:lnTo>
                    <a:pt x="11199" y="1546"/>
                  </a:lnTo>
                  <a:lnTo>
                    <a:pt x="10936" y="1541"/>
                  </a:lnTo>
                  <a:lnTo>
                    <a:pt x="10673" y="1534"/>
                  </a:lnTo>
                  <a:lnTo>
                    <a:pt x="10410" y="1525"/>
                  </a:lnTo>
                  <a:lnTo>
                    <a:pt x="10147" y="1515"/>
                  </a:lnTo>
                  <a:lnTo>
                    <a:pt x="9883" y="1503"/>
                  </a:lnTo>
                  <a:lnTo>
                    <a:pt x="9620" y="1490"/>
                  </a:lnTo>
                  <a:lnTo>
                    <a:pt x="9357" y="1475"/>
                  </a:lnTo>
                  <a:lnTo>
                    <a:pt x="9095" y="1460"/>
                  </a:lnTo>
                  <a:lnTo>
                    <a:pt x="8832" y="1442"/>
                  </a:lnTo>
                  <a:lnTo>
                    <a:pt x="8570" y="1426"/>
                  </a:lnTo>
                  <a:lnTo>
                    <a:pt x="8310" y="1409"/>
                  </a:lnTo>
                  <a:lnTo>
                    <a:pt x="7789" y="1374"/>
                  </a:lnTo>
                  <a:lnTo>
                    <a:pt x="7273" y="1341"/>
                  </a:lnTo>
                  <a:lnTo>
                    <a:pt x="7017" y="1325"/>
                  </a:lnTo>
                  <a:lnTo>
                    <a:pt x="6762" y="1309"/>
                  </a:lnTo>
                  <a:lnTo>
                    <a:pt x="6508" y="1296"/>
                  </a:lnTo>
                  <a:lnTo>
                    <a:pt x="6256" y="1284"/>
                  </a:lnTo>
                  <a:lnTo>
                    <a:pt x="6051" y="1275"/>
                  </a:lnTo>
                  <a:lnTo>
                    <a:pt x="5846" y="1267"/>
                  </a:lnTo>
                  <a:lnTo>
                    <a:pt x="5642" y="1260"/>
                  </a:lnTo>
                  <a:lnTo>
                    <a:pt x="5438" y="1254"/>
                  </a:lnTo>
                  <a:lnTo>
                    <a:pt x="5235" y="1250"/>
                  </a:lnTo>
                  <a:lnTo>
                    <a:pt x="5032" y="1247"/>
                  </a:lnTo>
                  <a:lnTo>
                    <a:pt x="4830" y="1245"/>
                  </a:lnTo>
                  <a:lnTo>
                    <a:pt x="4628" y="1244"/>
                  </a:lnTo>
                  <a:lnTo>
                    <a:pt x="4427" y="1245"/>
                  </a:lnTo>
                  <a:lnTo>
                    <a:pt x="4227" y="1247"/>
                  </a:lnTo>
                  <a:lnTo>
                    <a:pt x="4026" y="1251"/>
                  </a:lnTo>
                  <a:lnTo>
                    <a:pt x="3828" y="1257"/>
                  </a:lnTo>
                  <a:lnTo>
                    <a:pt x="3629" y="1263"/>
                  </a:lnTo>
                  <a:lnTo>
                    <a:pt x="3431" y="1272"/>
                  </a:lnTo>
                  <a:lnTo>
                    <a:pt x="3234" y="1282"/>
                  </a:lnTo>
                  <a:lnTo>
                    <a:pt x="3037" y="1294"/>
                  </a:lnTo>
                  <a:lnTo>
                    <a:pt x="2841" y="1309"/>
                  </a:lnTo>
                  <a:lnTo>
                    <a:pt x="2646" y="1325"/>
                  </a:lnTo>
                  <a:lnTo>
                    <a:pt x="2452" y="1343"/>
                  </a:lnTo>
                  <a:lnTo>
                    <a:pt x="2257" y="1363"/>
                  </a:lnTo>
                  <a:lnTo>
                    <a:pt x="2065" y="1386"/>
                  </a:lnTo>
                  <a:lnTo>
                    <a:pt x="1873" y="1410"/>
                  </a:lnTo>
                  <a:lnTo>
                    <a:pt x="1682" y="1437"/>
                  </a:lnTo>
                  <a:lnTo>
                    <a:pt x="1491" y="1466"/>
                  </a:lnTo>
                  <a:lnTo>
                    <a:pt x="1301" y="1497"/>
                  </a:lnTo>
                  <a:lnTo>
                    <a:pt x="1112" y="1531"/>
                  </a:lnTo>
                  <a:lnTo>
                    <a:pt x="926" y="1568"/>
                  </a:lnTo>
                  <a:lnTo>
                    <a:pt x="738" y="1605"/>
                  </a:lnTo>
                  <a:lnTo>
                    <a:pt x="552" y="1647"/>
                  </a:lnTo>
                  <a:lnTo>
                    <a:pt x="367" y="1691"/>
                  </a:lnTo>
                  <a:lnTo>
                    <a:pt x="184" y="1737"/>
                  </a:lnTo>
                  <a:lnTo>
                    <a:pt x="0" y="1787"/>
                  </a:lnTo>
                  <a:lnTo>
                    <a:pt x="0" y="1468"/>
                  </a:lnTo>
                  <a:close/>
                </a:path>
              </a:pathLst>
            </a:custGeom>
            <a:solidFill>
              <a:srgbClr val="d4df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b0e58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40" y="5605560"/>
              <a:ext cx="9905040" cy="1266840"/>
            </a:xfrm>
            <a:custGeom>
              <a:avLst/>
              <a:gdLst/>
              <a:ahLst/>
              <a:rect l="l" t="t" r="r" b="b"/>
              <a:pathLst>
                <a:path w="17280" h="2393">
                  <a:moveTo>
                    <a:pt x="0" y="2393"/>
                  </a:moveTo>
                  <a:lnTo>
                    <a:pt x="0" y="1573"/>
                  </a:lnTo>
                  <a:lnTo>
                    <a:pt x="174" y="1532"/>
                  </a:lnTo>
                  <a:lnTo>
                    <a:pt x="349" y="1492"/>
                  </a:lnTo>
                  <a:lnTo>
                    <a:pt x="524" y="1456"/>
                  </a:lnTo>
                  <a:lnTo>
                    <a:pt x="701" y="1421"/>
                  </a:lnTo>
                  <a:lnTo>
                    <a:pt x="878" y="1389"/>
                  </a:lnTo>
                  <a:lnTo>
                    <a:pt x="1055" y="1358"/>
                  </a:lnTo>
                  <a:lnTo>
                    <a:pt x="1234" y="1329"/>
                  </a:lnTo>
                  <a:lnTo>
                    <a:pt x="1414" y="1303"/>
                  </a:lnTo>
                  <a:lnTo>
                    <a:pt x="1594" y="1278"/>
                  </a:lnTo>
                  <a:lnTo>
                    <a:pt x="1774" y="1257"/>
                  </a:lnTo>
                  <a:lnTo>
                    <a:pt x="1956" y="1236"/>
                  </a:lnTo>
                  <a:lnTo>
                    <a:pt x="2138" y="1218"/>
                  </a:lnTo>
                  <a:lnTo>
                    <a:pt x="2321" y="1201"/>
                  </a:lnTo>
                  <a:lnTo>
                    <a:pt x="2505" y="1186"/>
                  </a:lnTo>
                  <a:lnTo>
                    <a:pt x="2689" y="1173"/>
                  </a:lnTo>
                  <a:lnTo>
                    <a:pt x="2874" y="1161"/>
                  </a:lnTo>
                  <a:lnTo>
                    <a:pt x="3059" y="1151"/>
                  </a:lnTo>
                  <a:lnTo>
                    <a:pt x="3245" y="1142"/>
                  </a:lnTo>
                  <a:lnTo>
                    <a:pt x="3432" y="1136"/>
                  </a:lnTo>
                  <a:lnTo>
                    <a:pt x="3619" y="1130"/>
                  </a:lnTo>
                  <a:lnTo>
                    <a:pt x="3807" y="1126"/>
                  </a:lnTo>
                  <a:lnTo>
                    <a:pt x="3995" y="1124"/>
                  </a:lnTo>
                  <a:lnTo>
                    <a:pt x="4184" y="1122"/>
                  </a:lnTo>
                  <a:lnTo>
                    <a:pt x="4373" y="1122"/>
                  </a:lnTo>
                  <a:lnTo>
                    <a:pt x="4563" y="1123"/>
                  </a:lnTo>
                  <a:lnTo>
                    <a:pt x="4753" y="1126"/>
                  </a:lnTo>
                  <a:lnTo>
                    <a:pt x="4944" y="1129"/>
                  </a:lnTo>
                  <a:lnTo>
                    <a:pt x="5135" y="1134"/>
                  </a:lnTo>
                  <a:lnTo>
                    <a:pt x="5328" y="1139"/>
                  </a:lnTo>
                  <a:lnTo>
                    <a:pt x="5520" y="1147"/>
                  </a:lnTo>
                  <a:lnTo>
                    <a:pt x="5712" y="1154"/>
                  </a:lnTo>
                  <a:lnTo>
                    <a:pt x="5905" y="1162"/>
                  </a:lnTo>
                  <a:lnTo>
                    <a:pt x="6157" y="1175"/>
                  </a:lnTo>
                  <a:lnTo>
                    <a:pt x="6411" y="1188"/>
                  </a:lnTo>
                  <a:lnTo>
                    <a:pt x="6666" y="1203"/>
                  </a:lnTo>
                  <a:lnTo>
                    <a:pt x="6922" y="1218"/>
                  </a:lnTo>
                  <a:lnTo>
                    <a:pt x="7438" y="1251"/>
                  </a:lnTo>
                  <a:lnTo>
                    <a:pt x="7957" y="1286"/>
                  </a:lnTo>
                  <a:lnTo>
                    <a:pt x="8219" y="1303"/>
                  </a:lnTo>
                  <a:lnTo>
                    <a:pt x="8481" y="1321"/>
                  </a:lnTo>
                  <a:lnTo>
                    <a:pt x="8744" y="1337"/>
                  </a:lnTo>
                  <a:lnTo>
                    <a:pt x="9006" y="1352"/>
                  </a:lnTo>
                  <a:lnTo>
                    <a:pt x="9269" y="1367"/>
                  </a:lnTo>
                  <a:lnTo>
                    <a:pt x="9532" y="1381"/>
                  </a:lnTo>
                  <a:lnTo>
                    <a:pt x="9796" y="1393"/>
                  </a:lnTo>
                  <a:lnTo>
                    <a:pt x="10059" y="1404"/>
                  </a:lnTo>
                  <a:lnTo>
                    <a:pt x="10322" y="1412"/>
                  </a:lnTo>
                  <a:lnTo>
                    <a:pt x="10584" y="1419"/>
                  </a:lnTo>
                  <a:lnTo>
                    <a:pt x="10846" y="1423"/>
                  </a:lnTo>
                  <a:lnTo>
                    <a:pt x="11109" y="1425"/>
                  </a:lnTo>
                  <a:lnTo>
                    <a:pt x="11370" y="1424"/>
                  </a:lnTo>
                  <a:lnTo>
                    <a:pt x="11631" y="1421"/>
                  </a:lnTo>
                  <a:lnTo>
                    <a:pt x="11891" y="1415"/>
                  </a:lnTo>
                  <a:lnTo>
                    <a:pt x="12149" y="1405"/>
                  </a:lnTo>
                  <a:lnTo>
                    <a:pt x="12407" y="1391"/>
                  </a:lnTo>
                  <a:lnTo>
                    <a:pt x="12663" y="1373"/>
                  </a:lnTo>
                  <a:lnTo>
                    <a:pt x="12919" y="1353"/>
                  </a:lnTo>
                  <a:lnTo>
                    <a:pt x="13173" y="1327"/>
                  </a:lnTo>
                  <a:lnTo>
                    <a:pt x="13424" y="1298"/>
                  </a:lnTo>
                  <a:lnTo>
                    <a:pt x="13675" y="1263"/>
                  </a:lnTo>
                  <a:lnTo>
                    <a:pt x="13924" y="1224"/>
                  </a:lnTo>
                  <a:lnTo>
                    <a:pt x="14171" y="1180"/>
                  </a:lnTo>
                  <a:lnTo>
                    <a:pt x="14275" y="1161"/>
                  </a:lnTo>
                  <a:lnTo>
                    <a:pt x="14379" y="1139"/>
                  </a:lnTo>
                  <a:lnTo>
                    <a:pt x="14482" y="1115"/>
                  </a:lnTo>
                  <a:lnTo>
                    <a:pt x="14584" y="1092"/>
                  </a:lnTo>
                  <a:lnTo>
                    <a:pt x="14687" y="1067"/>
                  </a:lnTo>
                  <a:lnTo>
                    <a:pt x="14790" y="1040"/>
                  </a:lnTo>
                  <a:lnTo>
                    <a:pt x="14891" y="1012"/>
                  </a:lnTo>
                  <a:lnTo>
                    <a:pt x="14993" y="984"/>
                  </a:lnTo>
                  <a:lnTo>
                    <a:pt x="15094" y="953"/>
                  </a:lnTo>
                  <a:lnTo>
                    <a:pt x="15195" y="922"/>
                  </a:lnTo>
                  <a:lnTo>
                    <a:pt x="15295" y="890"/>
                  </a:lnTo>
                  <a:lnTo>
                    <a:pt x="15394" y="856"/>
                  </a:lnTo>
                  <a:lnTo>
                    <a:pt x="15494" y="823"/>
                  </a:lnTo>
                  <a:lnTo>
                    <a:pt x="15592" y="787"/>
                  </a:lnTo>
                  <a:lnTo>
                    <a:pt x="15690" y="750"/>
                  </a:lnTo>
                  <a:lnTo>
                    <a:pt x="15789" y="714"/>
                  </a:lnTo>
                  <a:lnTo>
                    <a:pt x="15886" y="675"/>
                  </a:lnTo>
                  <a:lnTo>
                    <a:pt x="15983" y="636"/>
                  </a:lnTo>
                  <a:lnTo>
                    <a:pt x="16079" y="596"/>
                  </a:lnTo>
                  <a:lnTo>
                    <a:pt x="16175" y="555"/>
                  </a:lnTo>
                  <a:lnTo>
                    <a:pt x="16270" y="513"/>
                  </a:lnTo>
                  <a:lnTo>
                    <a:pt x="16365" y="470"/>
                  </a:lnTo>
                  <a:lnTo>
                    <a:pt x="16459" y="426"/>
                  </a:lnTo>
                  <a:lnTo>
                    <a:pt x="16553" y="382"/>
                  </a:lnTo>
                  <a:lnTo>
                    <a:pt x="16646" y="337"/>
                  </a:lnTo>
                  <a:lnTo>
                    <a:pt x="16739" y="290"/>
                  </a:lnTo>
                  <a:lnTo>
                    <a:pt x="16831" y="244"/>
                  </a:lnTo>
                  <a:lnTo>
                    <a:pt x="16921" y="196"/>
                  </a:lnTo>
                  <a:lnTo>
                    <a:pt x="17012" y="148"/>
                  </a:lnTo>
                  <a:lnTo>
                    <a:pt x="17102" y="99"/>
                  </a:lnTo>
                  <a:lnTo>
                    <a:pt x="17191" y="49"/>
                  </a:lnTo>
                  <a:lnTo>
                    <a:pt x="17280" y="0"/>
                  </a:lnTo>
                  <a:lnTo>
                    <a:pt x="17280" y="2393"/>
                  </a:lnTo>
                  <a:lnTo>
                    <a:pt x="0" y="2393"/>
                  </a:lnTo>
                  <a:close/>
                </a:path>
              </a:pathLst>
            </a:custGeom>
            <a:solidFill>
              <a:srgbClr val="9aa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b0e58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754280"/>
              <a:ext cx="9905040" cy="50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570600" y="371520"/>
              <a:ext cx="2498400" cy="16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990720" y="6267600"/>
            <a:ext cx="69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3880" y="3495240"/>
            <a:ext cx="8420040" cy="12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84240" y="4981320"/>
            <a:ext cx="69343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lick to add Tex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e58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  <a:p>
            <a:pPr lvl="1" marL="21924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e58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b0e58"/>
              </a:solidFill>
              <a:latin typeface="Arial Narrow"/>
            </a:endParaRPr>
          </a:p>
          <a:p>
            <a:pPr lvl="2" marL="571680" algn="ctr">
              <a:lnSpc>
                <a:spcPct val="90000"/>
              </a:lnSpc>
              <a:spcBef>
                <a:spcPts val="675"/>
              </a:spcBef>
              <a:buClr>
                <a:srgbClr val="0b0e58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e58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b0e58"/>
              </a:solidFill>
              <a:latin typeface="Arial Narrow"/>
            </a:endParaRPr>
          </a:p>
          <a:p>
            <a:pPr lvl="3" marL="1028880" algn="ctr">
              <a:lnSpc>
                <a:spcPct val="90000"/>
              </a:lnSpc>
              <a:spcBef>
                <a:spcPts val="675"/>
              </a:spcBef>
              <a:buClr>
                <a:srgbClr val="0b0e58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e58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b0e58"/>
              </a:solidFill>
              <a:latin typeface="Arial Narrow"/>
            </a:endParaRPr>
          </a:p>
          <a:p>
            <a:pPr lvl="4" marL="1486080" algn="ctr">
              <a:lnSpc>
                <a:spcPct val="90000"/>
              </a:lnSpc>
              <a:spcBef>
                <a:spcPts val="675"/>
              </a:spcBef>
              <a:buClr>
                <a:srgbClr val="0b0e58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e58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b0e58"/>
              </a:solidFill>
              <a:latin typeface="Arial Narrow"/>
            </a:endParaRPr>
          </a:p>
          <a:p>
            <a:pPr lvl="5" marL="1486080">
              <a:spcBef>
                <a:spcPts val="451"/>
              </a:spcBef>
              <a:buClr>
                <a:srgbClr val="0b0e5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e58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b0e58"/>
              </a:solidFill>
              <a:latin typeface="Arial Narrow"/>
            </a:endParaRPr>
          </a:p>
          <a:p>
            <a:pPr lvl="6" marL="1486080">
              <a:spcBef>
                <a:spcPts val="451"/>
              </a:spcBef>
              <a:buClr>
                <a:srgbClr val="0b0e58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e58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b0e5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8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73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6000" y="2700360"/>
            <a:ext cx="9375840" cy="12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Narrow"/>
              </a:rPr>
              <a:t>Thin High Strength/Light Weight, Durable Steel Shelters for Emergency Relief</a:t>
            </a:r>
            <a:br>
              <a:rPr sz="4400"/>
            </a:b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Carl Perry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BlueScope Steel International Ltd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ondo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9" name="Picture 4" descr="IMG_2720"/>
          <p:cNvPicPr/>
          <p:nvPr/>
        </p:nvPicPr>
        <p:blipFill>
          <a:blip r:embed="rId1"/>
          <a:stretch/>
        </p:blipFill>
        <p:spPr>
          <a:xfrm>
            <a:off x="1509840" y="5473800"/>
            <a:ext cx="4473360" cy="1384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1030565"/>
          <p:cNvPicPr/>
          <p:nvPr/>
        </p:nvPicPr>
        <p:blipFill>
          <a:blip r:embed="rId2"/>
          <a:srcRect l="0" t="20315" r="38286" b="20276"/>
          <a:stretch/>
        </p:blipFill>
        <p:spPr>
          <a:xfrm>
            <a:off x="7999560" y="5481720"/>
            <a:ext cx="1906560" cy="13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98resource"/>
          <p:cNvPicPr/>
          <p:nvPr/>
        </p:nvPicPr>
        <p:blipFill>
          <a:blip r:embed="rId3"/>
          <a:srcRect l="0" t="26341" r="6599" b="0"/>
          <a:stretch/>
        </p:blipFill>
        <p:spPr>
          <a:xfrm>
            <a:off x="4870440" y="5479920"/>
            <a:ext cx="2287440" cy="1435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18680" t="0" r="7923" b="0"/>
          <a:stretch/>
        </p:blipFill>
        <p:spPr>
          <a:xfrm>
            <a:off x="6832440" y="5477040"/>
            <a:ext cx="1265400" cy="138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rcRect l="8620" t="26673" r="19315" b="18100"/>
          <a:stretch/>
        </p:blipFill>
        <p:spPr>
          <a:xfrm>
            <a:off x="0" y="5473800"/>
            <a:ext cx="1936800" cy="1384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25240" y="1666440"/>
            <a:ext cx="872172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b0e58"/>
              </a:solidFill>
              <a:latin typeface="Arial Narrow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4200" t="9262" r="0" b="5788"/>
          <a:stretch/>
        </p:blipFill>
        <p:spPr>
          <a:xfrm>
            <a:off x="293760" y="1446120"/>
            <a:ext cx="9434520" cy="50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720" y="65160"/>
            <a:ext cx="91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Emergency Relief projects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Buddhist Village – TzuChi-Desa Panteriek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E061-87D7-4CFA-93BB-6BA673B7A0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14321" t="7554" r="0" b="8430"/>
          <a:stretch/>
        </p:blipFill>
        <p:spPr>
          <a:xfrm>
            <a:off x="6351480" y="1206360"/>
            <a:ext cx="3318120" cy="2565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5179" t="0" r="7797" b="2495"/>
          <a:stretch/>
        </p:blipFill>
        <p:spPr>
          <a:xfrm>
            <a:off x="3632040" y="1195560"/>
            <a:ext cx="2776680" cy="2552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7464" t="0" r="0" b="11040"/>
          <a:stretch/>
        </p:blipFill>
        <p:spPr>
          <a:xfrm>
            <a:off x="181080" y="1203480"/>
            <a:ext cx="3504960" cy="2554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434400" y="3711600"/>
            <a:ext cx="3219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b0e58"/>
                </a:solidFill>
                <a:uFillTx/>
                <a:latin typeface="Arial Narrow"/>
              </a:rPr>
              <a:t>Water tank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400Kg, 19,000l, USD$2000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2 men, 2 hour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b0e58"/>
                </a:solidFill>
                <a:uFillTx/>
                <a:latin typeface="Arial Narrow"/>
              </a:rPr>
              <a:t>Core Shelter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800Kg, 12m2 * 2 storie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USD2800, 6 men, 4 hrs 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for the second shelter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rcRect l="8227" t="0" r="0" b="0"/>
          <a:stretch/>
        </p:blipFill>
        <p:spPr>
          <a:xfrm>
            <a:off x="174600" y="3740040"/>
            <a:ext cx="3235320" cy="2587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rcRect l="6326" t="0" r="5887" b="0"/>
          <a:stretch/>
        </p:blipFill>
        <p:spPr>
          <a:xfrm>
            <a:off x="6615000" y="3749760"/>
            <a:ext cx="3046680" cy="2647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520" y="232920"/>
            <a:ext cx="916128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 u="sng">
                <a:solidFill>
                  <a:srgbClr val="ffffff"/>
                </a:solidFill>
                <a:uFillTx/>
                <a:latin typeface="Arial Narrow"/>
              </a:rPr>
              <a:t>Emergency Relief projects</a:t>
            </a:r>
            <a:r>
              <a:rPr b="0" lang="en-GB" sz="34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en-GB" sz="2600" spc="-1" strike="noStrike">
                <a:solidFill>
                  <a:srgbClr val="ffffff"/>
                </a:solidFill>
                <a:latin typeface="Arial Narrow"/>
              </a:rPr>
              <a:t>Haiti Relief – Water Tanks &amp; shelter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13A1-202E-4706-88E4-643BB4C1BF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19320" y="65160"/>
            <a:ext cx="24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CONCLUSION</a:t>
            </a:r>
            <a:endParaRPr b="0" lang="en-US" sz="32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6480" y="1312920"/>
            <a:ext cx="894096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b0e58"/>
                </a:solidFill>
                <a:latin typeface="Arial Narrow"/>
              </a:rPr>
              <a:t>Please consider steel structures for your stage II &amp; Stage III shelter solutions.</a:t>
            </a:r>
            <a:endParaRPr b="0" lang="en-US" sz="3200" spc="-1" strike="noStrike">
              <a:solidFill>
                <a:srgbClr val="0b0e58"/>
              </a:solidFill>
              <a:latin typeface="Times New Roman"/>
            </a:endParaRPr>
          </a:p>
          <a:p>
            <a:pPr lvl="2" marL="1390680" indent="-343080">
              <a:lnSpc>
                <a:spcPct val="90000"/>
              </a:lnSpc>
              <a:spcBef>
                <a:spcPts val="901"/>
              </a:spcBef>
              <a:buClr>
                <a:srgbClr val="0b0e58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It offers unique material advantages in strength &amp; weight.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lvl="2" marL="1390680" indent="-343080">
              <a:lnSpc>
                <a:spcPct val="90000"/>
              </a:lnSpc>
              <a:spcBef>
                <a:spcPts val="901"/>
              </a:spcBef>
              <a:buClr>
                <a:srgbClr val="0b0e58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It offers sustainable solutions to community challenge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lvl="2" marL="1390680" indent="-343080">
              <a:lnSpc>
                <a:spcPct val="90000"/>
              </a:lnSpc>
              <a:spcBef>
                <a:spcPts val="901"/>
              </a:spcBef>
              <a:buClr>
                <a:srgbClr val="0b0e58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It can be designed for a wide range of condition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lvl="3" marL="1962000" indent="-342720">
              <a:lnSpc>
                <a:spcPct val="90000"/>
              </a:lnSpc>
              <a:spcBef>
                <a:spcPts val="751"/>
              </a:spcBef>
              <a:buClr>
                <a:srgbClr val="0b0e58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0e58"/>
                </a:solidFill>
                <a:latin typeface="Arial Narrow"/>
              </a:rPr>
              <a:t>Earthquakes, Typhoons. Hurricanes, floods etc etc</a:t>
            </a:r>
            <a:endParaRPr b="0" lang="en-US" sz="2000" spc="-1" strike="noStrike">
              <a:solidFill>
                <a:srgbClr val="0b0e58"/>
              </a:solidFill>
              <a:latin typeface="Times New Roman"/>
            </a:endParaRPr>
          </a:p>
          <a:p>
            <a:pPr lvl="2" marL="1390680" indent="-343080">
              <a:lnSpc>
                <a:spcPct val="90000"/>
              </a:lnSpc>
              <a:spcBef>
                <a:spcPts val="901"/>
              </a:spcBef>
              <a:buClr>
                <a:srgbClr val="0b0e58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It improves peoples lives providing pre engineered structures, whilst allowing for cultural adaption to local norms.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lvl="2" marL="1390680" indent="-343080">
              <a:lnSpc>
                <a:spcPct val="90000"/>
              </a:lnSpc>
              <a:spcBef>
                <a:spcPts val="901"/>
              </a:spcBef>
              <a:buClr>
                <a:srgbClr val="0b0e58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It can be adapted/extended by families for future needs.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lvl="2" marL="1390680" indent="-343080">
              <a:lnSpc>
                <a:spcPct val="90000"/>
              </a:lnSpc>
              <a:spcBef>
                <a:spcPts val="901"/>
              </a:spcBef>
              <a:buClr>
                <a:srgbClr val="0b0e58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Can be erected with minimal tools and access to electricity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lvl="2" marL="13906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6360" y="5877000"/>
            <a:ext cx="9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b0e58"/>
                </a:solidFill>
                <a:latin typeface="Arial Narrow"/>
              </a:rPr>
              <a:t>Helps people regain their sense of dignity, identity and belonging.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51F6E-CD5A-46B2-8756-4C935E24CBDC}" type="slidenum">
              <a:t>12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676440"/>
            <a:ext cx="9906120" cy="6181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25560" y="0"/>
            <a:ext cx="9931680" cy="13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331120" y="5902200"/>
            <a:ext cx="24526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e58"/>
                </a:solidFill>
                <a:latin typeface="Arial Narrow"/>
              </a:rPr>
              <a:t>Acting </a:t>
            </a:r>
            <a:endParaRPr b="0" lang="en-US" sz="3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e58"/>
                </a:solidFill>
                <a:latin typeface="Arial Narrow"/>
              </a:rPr>
              <a:t>Locally</a:t>
            </a:r>
            <a:endParaRPr b="0" lang="en-US" sz="38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1600" y="1619280"/>
            <a:ext cx="35053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e58"/>
                </a:solidFill>
                <a:latin typeface="Arial Narrow"/>
              </a:rPr>
              <a:t>Thinking </a:t>
            </a:r>
            <a:endParaRPr b="0" lang="en-US" sz="3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e58"/>
                </a:solidFill>
                <a:latin typeface="Arial Narrow"/>
              </a:rPr>
              <a:t>Globally</a:t>
            </a:r>
            <a:endParaRPr b="0" lang="en-US" sz="3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53080" y="0"/>
            <a:ext cx="285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b0e58"/>
                </a:solidFill>
                <a:latin typeface="Arial Narrow"/>
              </a:rPr>
              <a:t>THANK YOU</a:t>
            </a:r>
            <a:endParaRPr b="0" lang="en-US" sz="4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7CB7-FAF4-40D2-A663-9D75CF6FD63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0600" y="286920"/>
            <a:ext cx="8915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 Narrow"/>
              </a:rPr>
              <a:t>What is our objective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8280" y="1434600"/>
            <a:ext cx="87217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To work in partnership with Aid Organisations/NGO’s to develop products that</a:t>
            </a:r>
            <a:endParaRPr b="0" lang="en-US" sz="2400" spc="-1" strike="noStrike">
              <a:solidFill>
                <a:srgbClr val="0b0e58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>
            <a:off x="418680" y="1787400"/>
            <a:ext cx="66790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- enhance peoples sense of dignity, identity and belonging.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" y="2109960"/>
            <a:ext cx="72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- to improve safety, quality of life and comfort over the long term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880" y="2955960"/>
            <a:ext cx="8363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- provide sustainable long term solutions that are adaptable to local norm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160" y="3316320"/>
            <a:ext cx="79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- that are available in large numbers, on site, 6-8 weeks from the need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2200" y="4381560"/>
            <a:ext cx="922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BY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Creating a core house solution that can transition into a permanent home for displaced people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5000" y="2558880"/>
            <a:ext cx="7624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- can be erected by local labour with minimal tools, power and skill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7760" y="370512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- that are cost effective and acceptable to local population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CB8A-7611-454B-B33D-48617EFEF4F4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9600" y="65160"/>
            <a:ext cx="63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What is Steel Structures value proposition</a:t>
            </a:r>
            <a:endParaRPr b="0" lang="en-US" sz="32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560" y="1379520"/>
            <a:ext cx="8899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s strong, light, tough, strong &amp; durable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 will not rot, burn, distort or be attacked by insects/bacteria/mould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 can be formed, worked, shaped &amp; joined into almost any 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structure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 is resistant to most environments with appropriate treatments 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 allows buildings to be redeveloped &amp; altered at low cost to meet 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 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changing needs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 can be readily recycled &amp; reused at the end of its life.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 is readily transported either as  a component, panel or module.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 lends itself to a variety of construction techniques.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b0e58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b0e58"/>
                </a:solidFill>
                <a:latin typeface="Arial Narrow"/>
              </a:rPr>
              <a:t>It offers the most cost effective solution many building applications</a:t>
            </a:r>
            <a:endParaRPr b="0" lang="en-US" sz="28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E79F-CC35-41D6-AE87-4D5106F76E0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5206" t="29041" r="49440" b="1668"/>
          <a:stretch/>
        </p:blipFill>
        <p:spPr>
          <a:xfrm>
            <a:off x="4994280" y="2003400"/>
            <a:ext cx="4471920" cy="4016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42103" t="29041" r="10649" b="2863"/>
          <a:stretch/>
        </p:blipFill>
        <p:spPr>
          <a:xfrm>
            <a:off x="358920" y="1969920"/>
            <a:ext cx="4448160" cy="4051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61680" y="1197000"/>
            <a:ext cx="88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Two flexible core designs that can be adapted to many environments/products 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4640" y="0"/>
            <a:ext cx="93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Case Stud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0" lang="en-GB" sz="2600" spc="-1" strike="noStrike">
                <a:solidFill>
                  <a:srgbClr val="ffffff"/>
                </a:solidFill>
                <a:latin typeface="Arial Narrow"/>
              </a:rPr>
              <a:t>Core Shelters/frames that transition into permanent homes</a:t>
            </a:r>
            <a:endParaRPr b="0" lang="en-US" sz="26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600" y="1954080"/>
            <a:ext cx="4476600" cy="4081680"/>
          </a:xfrm>
          <a:prstGeom prst="rect">
            <a:avLst/>
          </a:prstGeom>
          <a:noFill/>
          <a:ln w="2232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2840" y="1996920"/>
            <a:ext cx="4476600" cy="3999240"/>
          </a:xfrm>
          <a:prstGeom prst="rect">
            <a:avLst/>
          </a:prstGeom>
          <a:noFill/>
          <a:ln w="2232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720" y="6054840"/>
            <a:ext cx="41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0e58"/>
                </a:solidFill>
                <a:latin typeface="Arial Narrow"/>
              </a:rPr>
              <a:t>Built in Mezzanine floor for flood protection</a:t>
            </a:r>
            <a:endParaRPr b="0" lang="en-US" sz="20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01040" y="6045120"/>
            <a:ext cx="47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b0e58"/>
                </a:solidFill>
                <a:latin typeface="Arial Narrow"/>
              </a:rPr>
              <a:t>Free Standing with no walls for easy replacement</a:t>
            </a:r>
            <a:endParaRPr b="0" lang="en-US" sz="20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01600" y="6384960"/>
            <a:ext cx="29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ource – BlueScope Steel International Ltd</a:t>
            </a:r>
            <a:endParaRPr b="0" lang="en-US" sz="1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E7DC-A5ED-477C-A51E-624588992D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6400" y="1081080"/>
            <a:ext cx="3600720" cy="2733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2275" t="0" r="0" b="0"/>
          <a:stretch/>
        </p:blipFill>
        <p:spPr>
          <a:xfrm>
            <a:off x="836640" y="3873600"/>
            <a:ext cx="3564000" cy="2765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195880" y="3924360"/>
            <a:ext cx="3600360" cy="272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0040" y="65160"/>
            <a:ext cx="45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Case Stud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Delivery mechanism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4040" y="1079640"/>
            <a:ext cx="3601800" cy="272880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6400" y="3914640"/>
            <a:ext cx="3602160" cy="272916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32240" y="1087560"/>
            <a:ext cx="3602160" cy="272880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2880" y="3892680"/>
            <a:ext cx="3601800" cy="272880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4320" y="1093680"/>
            <a:ext cx="3592440" cy="269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501600" y="6570720"/>
            <a:ext cx="29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ource – BlueScope Steel International Ltd</a:t>
            </a:r>
            <a:endParaRPr b="0" lang="en-US" sz="1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F2C2-728D-44C1-AE54-9A7046337E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30680" y="6227640"/>
            <a:ext cx="37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0e58"/>
                </a:solidFill>
                <a:latin typeface="Arial Narrow"/>
              </a:rPr>
              <a:t>Screw Pier Foundation</a:t>
            </a:r>
            <a:endParaRPr b="0" lang="en-US" sz="1600" spc="-1" strike="noStrike">
              <a:solidFill>
                <a:srgbClr val="0b0e58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03720" y="38908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49120" y="38908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303720" y="175752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49120" y="175752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357960" y="38908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6357960" y="1757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0040" y="65160"/>
            <a:ext cx="35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Case Stud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Foundation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2640" y="108900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Simple Steel screw in foundations for the frame to be bolted onto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01600" y="6384960"/>
            <a:ext cx="29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ource – BlueScope Steel International Ltd</a:t>
            </a:r>
            <a:endParaRPr b="0" lang="en-US" sz="1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E802-9DE2-4F37-B1F6-4C905D3320D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7880" y="65160"/>
            <a:ext cx="33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Case Stud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Assembly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4040" y="1079640"/>
            <a:ext cx="3601800" cy="272880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16400" y="3914640"/>
            <a:ext cx="3602160" cy="272916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32240" y="1087560"/>
            <a:ext cx="3602160" cy="272880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8374" t="0" r="0" b="0"/>
          <a:stretch/>
        </p:blipFill>
        <p:spPr>
          <a:xfrm>
            <a:off x="812880" y="1082520"/>
            <a:ext cx="3608280" cy="2721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0" t="0" r="11502" b="0"/>
          <a:stretch/>
        </p:blipFill>
        <p:spPr>
          <a:xfrm>
            <a:off x="5241960" y="1084320"/>
            <a:ext cx="3579840" cy="2722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4500" t="0" r="4825" b="0"/>
          <a:stretch/>
        </p:blipFill>
        <p:spPr>
          <a:xfrm>
            <a:off x="5227560" y="3932280"/>
            <a:ext cx="3583080" cy="2705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72160" y="3844800"/>
            <a:ext cx="490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b0e5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Light weight steel component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b0e5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All components pre punched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b0e5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Simple bolts used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b0e5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No power required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b0e5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Only a spanner &amp; level needed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b0e58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Buildings can be disassembled, 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b0e58"/>
                </a:solidFill>
                <a:latin typeface="Arial Narrow"/>
              </a:rPr>
              <a:t>moved &amp; reassembled as required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1600" y="6570720"/>
            <a:ext cx="29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ource – BlueScope Steel International Ltd</a:t>
            </a:r>
            <a:endParaRPr b="0" lang="en-US" sz="1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C17D-9591-4499-AD98-EF4E465F75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2920" y="65160"/>
            <a:ext cx="47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Case Study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A sustainable solution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2960" y="1214280"/>
            <a:ext cx="3602160" cy="272916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76800" y="3873600"/>
            <a:ext cx="3602160" cy="272880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9600" y="1209600"/>
            <a:ext cx="3602160" cy="272916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6314" r="0" b="10527"/>
          <a:stretch/>
        </p:blipFill>
        <p:spPr>
          <a:xfrm>
            <a:off x="6056280" y="3892680"/>
            <a:ext cx="3575160" cy="2695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11470" r="13347" b="0"/>
          <a:stretch/>
        </p:blipFill>
        <p:spPr>
          <a:xfrm>
            <a:off x="2874960" y="3902040"/>
            <a:ext cx="3533760" cy="253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13160" t="19912" r="7041" b="8588"/>
          <a:stretch/>
        </p:blipFill>
        <p:spPr>
          <a:xfrm>
            <a:off x="398520" y="1236600"/>
            <a:ext cx="3483000" cy="2683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rcRect l="10350" t="0" r="0" b="0"/>
          <a:stretch/>
        </p:blipFill>
        <p:spPr>
          <a:xfrm>
            <a:off x="6377040" y="1189080"/>
            <a:ext cx="3216240" cy="2695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359400" y="1189080"/>
            <a:ext cx="3235320" cy="271476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954160" y="1225440"/>
            <a:ext cx="3708720" cy="2546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rcRect l="0" t="0" r="0" b="12500"/>
          <a:stretch/>
        </p:blipFill>
        <p:spPr>
          <a:xfrm>
            <a:off x="298440" y="3859200"/>
            <a:ext cx="3774960" cy="25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50A6-BC9A-4DEF-927A-4919FF8544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94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15278" t="0" r="6353" b="6739"/>
          <a:stretch/>
        </p:blipFill>
        <p:spPr>
          <a:xfrm>
            <a:off x="5187960" y="1211400"/>
            <a:ext cx="4545000" cy="3579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811080" y="1260360"/>
            <a:ext cx="44434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e58"/>
                </a:solidFill>
                <a:latin typeface="Arial Narrow"/>
              </a:rPr>
              <a:t>150 houses being  supplied within 4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e5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b0e58"/>
                </a:solidFill>
                <a:latin typeface="Arial Narrow"/>
              </a:rPr>
              <a:t>weeks of flooding disaster in Thailand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2908" t="0" r="15171" b="15722"/>
          <a:stretch/>
        </p:blipFill>
        <p:spPr>
          <a:xfrm>
            <a:off x="214200" y="2868480"/>
            <a:ext cx="4897440" cy="3532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203800" y="5264280"/>
            <a:ext cx="46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e58"/>
                </a:solidFill>
                <a:latin typeface="Arial Narrow"/>
              </a:rPr>
              <a:t>Low cost hospital supplied to north eastern Thailand within weeks of flooding.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9240" y="2852640"/>
            <a:ext cx="4884480" cy="353376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6800" y="1203480"/>
            <a:ext cx="4556160" cy="358776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1960" y="1201680"/>
            <a:ext cx="4340160" cy="91440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18120" y="5349960"/>
            <a:ext cx="4081320" cy="1036440"/>
          </a:xfrm>
          <a:prstGeom prst="rect">
            <a:avLst/>
          </a:prstGeom>
          <a:noFill/>
          <a:ln w="28440">
            <a:solidFill>
              <a:srgbClr val="0b0e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01600" y="6384960"/>
            <a:ext cx="29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ource – BlueScope Steel International Ltd</a:t>
            </a:r>
            <a:endParaRPr b="0" lang="en-US" sz="1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080" y="65160"/>
            <a:ext cx="55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 Narrow"/>
              </a:rPr>
              <a:t>Emergency Relief projects </a:t>
            </a: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0b0e5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1385-8356-4A8A-9A48-B3717DCA2C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2:00:59Z</dcterms:created>
  <dc:creator>mabriw</dc:creator>
  <dc:description/>
  <dc:language>en-US</dc:language>
  <cp:lastModifiedBy>Perry, Carl</cp:lastModifiedBy>
  <cp:lastPrinted>2003-10-13T13:24:55Z</cp:lastPrinted>
  <dcterms:modified xsi:type="dcterms:W3CDTF">2010-05-26T05:05:24Z</dcterms:modified>
  <cp:revision>171</cp:revision>
  <dc:subject/>
  <dc:title>Guidelines – BlueScope Steel PowerPoint Template BlueScope Steel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HP Steel">
    <vt:lpwstr>PPT97-15 PPA</vt:lpwstr>
  </property>
</Properties>
</file>