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1.wmf" ContentType="image/x-wmf"/>
  <Override PartName="/ppt/media/image17.jpeg" ContentType="image/jpeg"/>
  <Override PartName="/ppt/media/image7.png" ContentType="image/png"/>
  <Override PartName="/ppt/media/image13.png" ContentType="image/png"/>
  <Override PartName="/ppt/media/image12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6.jpeg" ContentType="image/jpeg"/>
  <Override PartName="/ppt/media/image1.wmf" ContentType="image/x-wmf"/>
  <Override PartName="/ppt/media/image3.jpeg" ContentType="image/jpeg"/>
  <Override PartName="/ppt/media/image15.png" ContentType="image/pn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0"/>
          <p:cNvSpPr/>
          <p:nvPr/>
        </p:nvSpPr>
        <p:spPr>
          <a:xfrm>
            <a:off x="-3240" y="625320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-3240" y="598644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0"/>
          <p:cNvSpPr/>
          <p:nvPr/>
        </p:nvSpPr>
        <p:spPr>
          <a:xfrm>
            <a:off x="0" y="489600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9"/>
          <p:cNvSpPr/>
          <p:nvPr/>
        </p:nvSpPr>
        <p:spPr>
          <a:xfrm>
            <a:off x="0" y="3232080"/>
            <a:ext cx="914868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7"/>
          <p:cNvSpPr/>
          <p:nvPr/>
        </p:nvSpPr>
        <p:spPr>
          <a:xfrm>
            <a:off x="0" y="214776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9"/>
          <p:cNvSpPr/>
          <p:nvPr/>
        </p:nvSpPr>
        <p:spPr>
          <a:xfrm>
            <a:off x="1789200" y="453960"/>
            <a:ext cx="7316640" cy="66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 and agend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&amp; humanitarian sector engagement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 present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o da Silv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Aru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Mark Cutt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/OCH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dvertisement for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reakout Group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 from breakout group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5 minute presentations for each grou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Agreed actions and priorit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tion and agenda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Lupoli Pasquale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O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GIS systems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Einar Bjorgo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OS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helter funding strategy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Denis Heidebroek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lipse too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Ian Pearc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Habitat for Humanit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raining craftsmen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ory Downham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Bioforc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egistration for urban displacement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HC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hallenges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ocio Sanz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IOM </a:t>
            </a:r>
            <a:r>
              <a:rPr b="1" i="1" lang="en-GB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Shelter Meeting dinner: La Broche, Rue du Stand 3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1789200" y="-20520"/>
            <a:ext cx="720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da for 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0" y="463680"/>
            <a:ext cx="182736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5 – 09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30 – 10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00 – 10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30 – 10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0:45 – 11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15 – 12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00 – 12: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20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00 – 14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15 – 14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30 – 14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45 – 15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5:00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6:00 – 16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6:30 – 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7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20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0"/>
          <p:cNvSpPr/>
          <p:nvPr/>
        </p:nvSpPr>
        <p:spPr>
          <a:xfrm>
            <a:off x="0" y="434988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1440" y="3247920"/>
            <a:ext cx="915192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3240" y="545292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-7920" y="1871640"/>
            <a:ext cx="915192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3"/>
          <p:cNvSpPr/>
          <p:nvPr/>
        </p:nvSpPr>
        <p:spPr>
          <a:xfrm>
            <a:off x="1790640" y="-20520"/>
            <a:ext cx="731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da for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1790640" y="453960"/>
            <a:ext cx="735336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tion and agend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w World Bank handbook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ennifer Duyn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World Habit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w urban guideline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Kate Crawford &amp; Martin Suvatn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NR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helter Centre Training option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Shelter Cluster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BC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s from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CCM, CWGER, PCWG &amp; WAS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dvertisement for cross cluster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gree dates of next Shelter Meet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ross cluster coordina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3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 from breakout group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greed actions and priorit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haired by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Mark Cutt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/OCHA  and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ost family support programme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s from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BC, TBC &amp; 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BC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463680"/>
            <a:ext cx="182880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5 – 09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45 – 10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15 – 10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45 – 11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15 – 11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45 – 12:4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40 – 12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50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00 – 14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45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00 – 16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30 – 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0"/>
          <p:cNvSpPr/>
          <p:nvPr/>
        </p:nvSpPr>
        <p:spPr>
          <a:xfrm>
            <a:off x="-1440" y="624528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0" y="570708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0" y="515160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-3240" y="597384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0" y="405936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7"/>
          <p:cNvSpPr/>
          <p:nvPr/>
        </p:nvSpPr>
        <p:spPr>
          <a:xfrm>
            <a:off x="0" y="3230640"/>
            <a:ext cx="914400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1789200" y="453960"/>
            <a:ext cx="731664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, agenda and introduc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 launch Transitional Shelter Innovations Case Stud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Kim Scriven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LNA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launch Transitional Shelter Guideline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Brian Kelly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OM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Tom Corselli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 Transitional Shelter Standards &amp; Prototypes project 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s for Stockpiled Transitional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dvertisements for breakout groups: Transitional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reakout groups: Transitional Shelt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4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: Transitional Shelter, 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presentations from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lastminute.org”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erome Michon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SF-IT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s for Stockpiled shelter spectr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xt steps for the Transitional Shelter Standards &amp; Prototypes projec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tailed Review per shelter prototype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1 Shelter Centre rapporteur per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Dinner: Il Fornello Napoletano, Rue de Lausanne, 5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omedy Evening : Geneva Palladium, Rue du Stand 3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1789200" y="-42840"/>
            <a:ext cx="720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0" y="463680"/>
            <a:ext cx="182736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0 – 09: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20 – 09:4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40 – 09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50 – 10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50 – 11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1:00 – 11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30 – 12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15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00 – 14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30 – 14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50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18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20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1878120" y="6480"/>
            <a:ext cx="7253280" cy="64800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0" y="617400"/>
            <a:ext cx="91472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00 – 09: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10 – 09: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20 – 09: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40 – 09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50 – 10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50 – 11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1:00 – 11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30 – 12: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15 – 13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3:00 – 14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00 – 14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30 – 14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50 – 15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5:30 – 16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00 – 17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7: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1878120" y="6480"/>
            <a:ext cx="7253280" cy="64800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874880" y="-19080"/>
            <a:ext cx="7308720" cy="651672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7"/>
          <p:cNvSpPr/>
          <p:nvPr/>
        </p:nvSpPr>
        <p:spPr>
          <a:xfrm>
            <a:off x="0" y="0"/>
            <a:ext cx="18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5840" y="1514520"/>
            <a:ext cx="1940040" cy="32364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241720" y="1692360"/>
            <a:ext cx="763884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Project launch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ransitional Shelter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Apologies:</a:t>
            </a: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 Bryan Kelly, </a:t>
            </a: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O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Tom Corsellis, </a:t>
            </a: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Shelter Cent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1860480" y="557280"/>
            <a:ext cx="691524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he project objectives are t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clearly define transitional she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inform all stakeholders of its u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provide instruction on best practice in implementing a transitional shelter programme as part of a humanitarian respon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integrate with Transitional Standards and Prototypes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develop an evaluation method for transitional she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provide replicable cas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1865880" y="-3240"/>
            <a:ext cx="2530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6" descr="CHF shelter.JPG"/>
          <p:cNvPicPr/>
          <p:nvPr/>
        </p:nvPicPr>
        <p:blipFill>
          <a:blip r:embed="rId1"/>
          <a:srcRect l="13829" t="9965" r="35482" b="0"/>
          <a:stretch/>
        </p:blipFill>
        <p:spPr>
          <a:xfrm>
            <a:off x="0" y="1979640"/>
            <a:ext cx="18684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6" descr=""/>
          <p:cNvPicPr/>
          <p:nvPr/>
        </p:nvPicPr>
        <p:blipFill>
          <a:blip r:embed="rId1"/>
          <a:srcRect l="0" t="13704" r="10117" b="10211"/>
          <a:stretch/>
        </p:blipFill>
        <p:spPr>
          <a:xfrm>
            <a:off x="4619520" y="3282840"/>
            <a:ext cx="1265400" cy="11224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1860480" y="471600"/>
            <a:ext cx="691524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Agreement with I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An agreement has been made between Shelter Centre and the International Organisation for Migration (IOM)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further develop the Transitional Shelter Guide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conduct case study evalu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1863720" y="-3240"/>
            <a:ext cx="1963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Laun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7" descr="Shelter haiti.JPG"/>
          <p:cNvPicPr/>
          <p:nvPr/>
        </p:nvPicPr>
        <p:blipFill>
          <a:blip r:embed="rId2"/>
          <a:srcRect l="19222" t="0" r="25404" b="0"/>
          <a:stretch/>
        </p:blipFill>
        <p:spPr>
          <a:xfrm>
            <a:off x="0" y="1994040"/>
            <a:ext cx="1870200" cy="45021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6" descr="SC logo"/>
          <p:cNvPicPr/>
          <p:nvPr/>
        </p:nvPicPr>
        <p:blipFill>
          <a:blip r:embed="rId3"/>
          <a:stretch/>
        </p:blipFill>
        <p:spPr>
          <a:xfrm>
            <a:off x="4375080" y="6006960"/>
            <a:ext cx="1839960" cy="339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Z:\S1_ShelterMeeting\SM10a\SM Presentation\Images presentation SM10a\Hands.PNG"/>
          <p:cNvPicPr/>
          <p:nvPr/>
        </p:nvPicPr>
        <p:blipFill>
          <a:blip r:embed="rId4"/>
          <a:stretch/>
        </p:blipFill>
        <p:spPr>
          <a:xfrm>
            <a:off x="4073400" y="4514760"/>
            <a:ext cx="24368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216000" y="568440"/>
            <a:ext cx="85597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August – December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TEP1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Form a Working Group and Contact List</a:t>
            </a:r>
            <a:br>
              <a:rPr sz="2000"/>
            </a:b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TEP 2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Agree structure and outline for Guidelines</a:t>
            </a:r>
            <a:br>
              <a:rPr sz="2000"/>
            </a:b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peer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TEP 3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Undertake 1st case study evaluation</a:t>
            </a:r>
            <a:br>
              <a:rPr sz="2000"/>
            </a:b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peer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TEP 4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Draft full Guidelines</a:t>
            </a:r>
            <a:br>
              <a:rPr sz="2000"/>
            </a:b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peer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TEP 5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Undertake further Guidelines</a:t>
            </a:r>
            <a:br>
              <a:rPr sz="2000"/>
            </a:b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peer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1865880" y="-3240"/>
            <a:ext cx="255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6686640" y="3546360"/>
            <a:ext cx="2143080" cy="29448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3"/>
          <p:cNvSpPr/>
          <p:nvPr/>
        </p:nvSpPr>
        <p:spPr>
          <a:xfrm>
            <a:off x="1914480" y="1014480"/>
            <a:ext cx="6915240" cy="47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Do you want to be part of t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Working Grou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We will contact you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ask if you wish to be kept inform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ask if you wish to help outline </a:t>
            </a:r>
            <a:br>
              <a:rPr sz="2000"/>
            </a:b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he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ask if you wish to be involved in </a:t>
            </a:r>
            <a:br>
              <a:rPr sz="2000"/>
            </a:b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peer revi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1888560" y="-3240"/>
            <a:ext cx="3477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. Working grou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1860480" y="471600"/>
            <a:ext cx="691524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Working grou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"/>
          <p:cNvSpPr/>
          <p:nvPr/>
        </p:nvSpPr>
        <p:spPr>
          <a:xfrm>
            <a:off x="1862280" y="-3240"/>
            <a:ext cx="160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Z:\S1_ShelterMeeting\SM10a\SM Presentation\Images presentation SM10a\John Walden_Leogane_7 May 2010 044.jpg"/>
          <p:cNvPicPr/>
          <p:nvPr/>
        </p:nvPicPr>
        <p:blipFill>
          <a:blip r:embed="rId1"/>
          <a:srcRect l="30520" t="0" r="39125" b="0"/>
          <a:stretch/>
        </p:blipFill>
        <p:spPr>
          <a:xfrm>
            <a:off x="0" y="1892160"/>
            <a:ext cx="186372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860480" y="471600"/>
            <a:ext cx="6915240" cy="49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Guideline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were first discussed at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M08a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by a breakout group who identified the need for such guid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project is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coordinated by Shelter Centre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and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funded by DFID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and engages a wide peer review pane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Independent humanitarian specia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Don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UN bo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NG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1st Transitional Shelter Guidelines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project booklet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was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drafted and circulated in July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Shelter haiti.JPG"/>
          <p:cNvPicPr/>
          <p:nvPr/>
        </p:nvPicPr>
        <p:blipFill>
          <a:blip r:embed="rId1"/>
          <a:srcRect l="19222" t="0" r="25404" b="0"/>
          <a:stretch/>
        </p:blipFill>
        <p:spPr>
          <a:xfrm>
            <a:off x="0" y="1638360"/>
            <a:ext cx="1870200" cy="4857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C:\Documents and Settings\user\Desktop\DFID_logo.JPG"/>
          <p:cNvPicPr/>
          <p:nvPr/>
        </p:nvPicPr>
        <p:blipFill>
          <a:blip r:embed="rId2"/>
          <a:stretch/>
        </p:blipFill>
        <p:spPr>
          <a:xfrm>
            <a:off x="2398680" y="5530680"/>
            <a:ext cx="1838520" cy="61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6" descr="SC logo"/>
          <p:cNvPicPr/>
          <p:nvPr/>
        </p:nvPicPr>
        <p:blipFill>
          <a:blip r:embed="rId3"/>
          <a:stretch/>
        </p:blipFill>
        <p:spPr>
          <a:xfrm>
            <a:off x="4676760" y="5675400"/>
            <a:ext cx="1839960" cy="3394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S:\S1_ShelterMeeting\SM09b\Marketing\flyer\globe.jpg"/>
          <p:cNvPicPr/>
          <p:nvPr/>
        </p:nvPicPr>
        <p:blipFill>
          <a:blip r:embed="rId4"/>
          <a:stretch/>
        </p:blipFill>
        <p:spPr>
          <a:xfrm>
            <a:off x="7018200" y="5416560"/>
            <a:ext cx="90180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860480" y="503280"/>
            <a:ext cx="691524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Guideline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had a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wide review pa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0" y="455760"/>
            <a:ext cx="1854360" cy="263196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8"/>
          <p:cNvGrpSpPr/>
          <p:nvPr/>
        </p:nvGrpSpPr>
        <p:grpSpPr>
          <a:xfrm>
            <a:off x="1849320" y="1496880"/>
            <a:ext cx="7196400" cy="3967200"/>
            <a:chOff x="1849320" y="1496880"/>
            <a:chExt cx="7196400" cy="3967200"/>
          </a:xfrm>
        </p:grpSpPr>
        <p:pic>
          <p:nvPicPr>
            <p:cNvPr id="385" name="Picture 4" descr=""/>
            <p:cNvPicPr/>
            <p:nvPr/>
          </p:nvPicPr>
          <p:blipFill>
            <a:blip r:embed="rId2"/>
            <a:srcRect l="5085" t="44271" r="17313" b="9791"/>
            <a:stretch/>
          </p:blipFill>
          <p:spPr>
            <a:xfrm>
              <a:off x="1849320" y="1966320"/>
              <a:ext cx="7196400" cy="34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4" descr=""/>
            <p:cNvPicPr/>
            <p:nvPr/>
          </p:nvPicPr>
          <p:blipFill>
            <a:blip r:embed="rId3"/>
            <a:srcRect l="5085" t="3985" r="17313" b="89850"/>
            <a:stretch/>
          </p:blipFill>
          <p:spPr>
            <a:xfrm>
              <a:off x="1849320" y="1496880"/>
              <a:ext cx="7196400" cy="46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860480" y="471600"/>
            <a:ext cx="691524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Guideline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displayed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four type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of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ype 1: Upgrad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ype 2: Reus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ype 3: Resel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ype 4: Recyc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082960" y="1749600"/>
            <a:ext cx="876240" cy="928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2058840" y="2774880"/>
            <a:ext cx="909720" cy="854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tretch/>
        </p:blipFill>
        <p:spPr>
          <a:xfrm>
            <a:off x="2090880" y="3575160"/>
            <a:ext cx="1455480" cy="13856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4"/>
          <a:stretch/>
        </p:blipFill>
        <p:spPr>
          <a:xfrm>
            <a:off x="2081160" y="4960800"/>
            <a:ext cx="1189080" cy="1300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5"/>
          <a:stretch/>
        </p:blipFill>
        <p:spPr>
          <a:xfrm>
            <a:off x="0" y="455760"/>
            <a:ext cx="18543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1860480" y="471600"/>
            <a:ext cx="6915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Guideline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were aimed at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stakeholders in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ransitional shelter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3335" t="0" r="17588" b="41803"/>
          <a:stretch/>
        </p:blipFill>
        <p:spPr>
          <a:xfrm>
            <a:off x="1851120" y="1531800"/>
            <a:ext cx="7126200" cy="43340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0" y="455760"/>
            <a:ext cx="18543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rcRect l="5875" t="3185" r="14604" b="44793"/>
          <a:stretch/>
        </p:blipFill>
        <p:spPr>
          <a:xfrm>
            <a:off x="1854360" y="1486080"/>
            <a:ext cx="7061040" cy="45496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3"/>
          <p:cNvSpPr/>
          <p:nvPr/>
        </p:nvSpPr>
        <p:spPr>
          <a:xfrm>
            <a:off x="1860480" y="471600"/>
            <a:ext cx="6915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Guidelines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contained a full draft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able of cont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0" y="455760"/>
            <a:ext cx="18543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1"/>
          <a:srcRect l="7102" t="7511" r="18110" b="11405"/>
          <a:stretch/>
        </p:blipFill>
        <p:spPr>
          <a:xfrm>
            <a:off x="1763640" y="1549440"/>
            <a:ext cx="7139160" cy="479736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1860480" y="471600"/>
            <a:ext cx="6915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Guidelines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contained a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imeline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 for </a:t>
            </a: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ransitional shelter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Straight Arrow Connector 9"/>
          <p:cNvCxnSpPr/>
          <p:nvPr/>
        </p:nvCxnSpPr>
        <p:spPr>
          <a:xfrm>
            <a:off x="1657080" y="1436760"/>
            <a:ext cx="1075320" cy="9939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06" name="Straight Arrow Connector 11"/>
          <p:cNvCxnSpPr/>
          <p:nvPr/>
        </p:nvCxnSpPr>
        <p:spPr>
          <a:xfrm>
            <a:off x="1854360" y="1897200"/>
            <a:ext cx="513360" cy="2319840"/>
          </a:xfrm>
          <a:prstGeom prst="straightConnector1">
            <a:avLst/>
          </a:prstGeom>
          <a:ln w="0">
            <a:noFill/>
          </a:ln>
        </p:spPr>
      </p:cxnSp>
      <p:pic>
        <p:nvPicPr>
          <p:cNvPr id="407" name="Picture 2" descr=""/>
          <p:cNvPicPr/>
          <p:nvPr/>
        </p:nvPicPr>
        <p:blipFill>
          <a:blip r:embed="rId2"/>
          <a:stretch/>
        </p:blipFill>
        <p:spPr>
          <a:xfrm>
            <a:off x="0" y="455760"/>
            <a:ext cx="185436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3"/>
          <p:cNvSpPr/>
          <p:nvPr/>
        </p:nvSpPr>
        <p:spPr>
          <a:xfrm>
            <a:off x="1860480" y="471600"/>
            <a:ext cx="6915240" cy="37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Activities since July 2008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sought further funding for the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worked to develop Transitional Shelter Standards and Prototypes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Z:\S1_ShelterMeeting\SM10a\SM Presentation\Images presentation SM10a\P1070841.JPG"/>
          <p:cNvPicPr/>
          <p:nvPr/>
        </p:nvPicPr>
        <p:blipFill>
          <a:blip r:embed="rId1"/>
          <a:srcRect l="20758" t="2945" r="48721" b="0"/>
          <a:stretch/>
        </p:blipFill>
        <p:spPr>
          <a:xfrm>
            <a:off x="0" y="1905120"/>
            <a:ext cx="18702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3:20:43Z</dcterms:created>
  <dc:creator>Licensed User</dc:creator>
  <dc:description/>
  <dc:language>en-US</dc:language>
  <cp:lastModifiedBy>federica</cp:lastModifiedBy>
  <dcterms:modified xsi:type="dcterms:W3CDTF">2010-06-02T10:35:00Z</dcterms:modified>
  <cp:revision>1268</cp:revision>
  <dc:subject/>
  <dc:title>Slide 1</dc:title>
</cp:coreProperties>
</file>