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media/image1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0"/>
          <p:cNvSpPr/>
          <p:nvPr/>
        </p:nvSpPr>
        <p:spPr>
          <a:xfrm>
            <a:off x="-3240" y="6253200"/>
            <a:ext cx="9144000" cy="271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0"/>
          <p:cNvSpPr/>
          <p:nvPr/>
        </p:nvSpPr>
        <p:spPr>
          <a:xfrm>
            <a:off x="-3240" y="5986440"/>
            <a:ext cx="914400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0"/>
          <p:cNvSpPr/>
          <p:nvPr/>
        </p:nvSpPr>
        <p:spPr>
          <a:xfrm>
            <a:off x="0" y="4896000"/>
            <a:ext cx="914400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9"/>
          <p:cNvSpPr/>
          <p:nvPr/>
        </p:nvSpPr>
        <p:spPr>
          <a:xfrm>
            <a:off x="0" y="3232080"/>
            <a:ext cx="914868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7"/>
          <p:cNvSpPr/>
          <p:nvPr/>
        </p:nvSpPr>
        <p:spPr>
          <a:xfrm>
            <a:off x="0" y="2147760"/>
            <a:ext cx="914400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9"/>
          <p:cNvSpPr/>
          <p:nvPr/>
        </p:nvSpPr>
        <p:spPr>
          <a:xfrm>
            <a:off x="1789200" y="453960"/>
            <a:ext cx="7316640" cy="66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rrival and coffe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elcome and agenda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 &amp; humanitarian sector engagement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 presenta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BC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Jo da Silva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Arup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BC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Mark Cutt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UN/OCH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dvertisement for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reakout Groups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 parallel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eedback from breakout group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5 minute presentations for each group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Agreed actions and prioriti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roduction and agenda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elcome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Lupoli Pasquale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O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GIS systems in Haiti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Einar Bjorgo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UNOS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helter funding strategy in Haiti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Denis Heidebroek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clipse tool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Ian Pearc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Habitat for Humanit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raining craftsmen in Haiti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Rory Downham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Bioforc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Registration for urban displacement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BC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UNHC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hallenges in Haiti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Rocio Sanz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IOM </a:t>
            </a:r>
            <a:r>
              <a:rPr b="1" i="1" lang="en-GB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Shelter Meeting dinner: La Broche, Rue du Stand 36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0"/>
          <p:cNvSpPr/>
          <p:nvPr/>
        </p:nvSpPr>
        <p:spPr>
          <a:xfrm>
            <a:off x="1789200" y="-20520"/>
            <a:ext cx="720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enda for Day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-12600" y="0"/>
            <a:ext cx="183996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0" y="463680"/>
            <a:ext cx="1827360" cy="61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8:30 – 09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00 – 09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15 – 09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30 – 10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:00 – 10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:30 – 10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0:45 – 11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:15 – 12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:00 – 12:2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:20 – 13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3:00 – 14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4:00 – 14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4:15 – 14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4:30 – 14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4:45 – 15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5:00 – 15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5:30 – 16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6:00 – 16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6:30 – 17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7:00 – 17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7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20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0"/>
          <p:cNvSpPr/>
          <p:nvPr/>
        </p:nvSpPr>
        <p:spPr>
          <a:xfrm>
            <a:off x="0" y="4349880"/>
            <a:ext cx="914400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4"/>
          <p:cNvSpPr/>
          <p:nvPr/>
        </p:nvSpPr>
        <p:spPr>
          <a:xfrm>
            <a:off x="1440" y="3247920"/>
            <a:ext cx="915192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3240" y="5452920"/>
            <a:ext cx="914400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-7920" y="1871640"/>
            <a:ext cx="9151920" cy="271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1"/>
          <p:cNvSpPr/>
          <p:nvPr/>
        </p:nvSpPr>
        <p:spPr>
          <a:xfrm>
            <a:off x="179280" y="96840"/>
            <a:ext cx="24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3"/>
          <p:cNvSpPr/>
          <p:nvPr/>
        </p:nvSpPr>
        <p:spPr>
          <a:xfrm>
            <a:off x="1790640" y="-20520"/>
            <a:ext cx="7318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enda for Day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9"/>
          <p:cNvSpPr/>
          <p:nvPr/>
        </p:nvSpPr>
        <p:spPr>
          <a:xfrm>
            <a:off x="1790640" y="453960"/>
            <a:ext cx="7353360" cy="52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rrival and coffe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roduction and agenda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Shelter Centre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ew World Bank handbook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Jennifer Duyn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World Habita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ew urban guideline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Kate Crawford &amp; Martin Suvatn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NRC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helter Centre Training option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, 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Shelter Cluster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TBC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TBC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Updates from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CCM, CWGER, PCWG &amp; WASH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dvertisement for cross cluster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gree dates of next Shelter Meeti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ross cluster coordinatio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3 parallel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eedback from breakout groups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greed actions and prioriti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haired by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Mark Cutt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UN/OCHA  and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ost family support programme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CHF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Updates from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BC, TBC &amp; TBC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BC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BC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BC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0" y="463680"/>
            <a:ext cx="1828800" cy="52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8:30 – 09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00 – 09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15 – 09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45 – 10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:15 – 10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:45 – 11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:15 – 11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:45 – 12:4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:40 – 12:5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:50 – 13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3:00 – 14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:00 – 14:4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:45 – 15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:30 – 16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6:00 – 16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6:30 – 17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7:00 – 17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7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0"/>
          <p:cNvSpPr/>
          <p:nvPr/>
        </p:nvSpPr>
        <p:spPr>
          <a:xfrm>
            <a:off x="-1440" y="6245280"/>
            <a:ext cx="9144000" cy="271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0" y="5707080"/>
            <a:ext cx="9148680" cy="271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0" y="5151600"/>
            <a:ext cx="9148680" cy="271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0"/>
          <p:cNvSpPr/>
          <p:nvPr/>
        </p:nvSpPr>
        <p:spPr>
          <a:xfrm>
            <a:off x="-3240" y="5973840"/>
            <a:ext cx="9144000" cy="271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9"/>
          <p:cNvSpPr/>
          <p:nvPr/>
        </p:nvSpPr>
        <p:spPr>
          <a:xfrm>
            <a:off x="0" y="4059360"/>
            <a:ext cx="9148680" cy="271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7"/>
          <p:cNvSpPr/>
          <p:nvPr/>
        </p:nvSpPr>
        <p:spPr>
          <a:xfrm>
            <a:off x="0" y="3230640"/>
            <a:ext cx="9144000" cy="271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9"/>
          <p:cNvSpPr/>
          <p:nvPr/>
        </p:nvSpPr>
        <p:spPr>
          <a:xfrm>
            <a:off x="1789200" y="453960"/>
            <a:ext cx="7316640" cy="61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rrival and coffe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elcome, agenda and introduction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ation launch Transitional Shelter Innovations Case Stud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Kim Scriven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LNAP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launch Transitional Shelter Guideline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Brian Kelly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OM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 Tom Corsellis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Update Transitional Shelter Standards &amp; Prototypes project 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Tom Corsellis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helter Centr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Updates for Stockpiled Transitional Shelte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dvertisements for breakout groups: Transitional Shelte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reakout groups: Transitional Shelter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4 parallel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eedback: Transitional Shelter, 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presentations from breakout group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lastminute.org”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Jerome Michon,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SF-ITC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Updates for Stockpiled shelter spectrum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ext steps for the Transitional Shelter Standards &amp; Prototypes project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ffee break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tailed Review per shelter prototype, </a:t>
            </a: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1 Shelter Centre rapporteur per shelte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Dinner: Il Fornello Napoletano, Rue de Lausanne, 52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Comedy Evening : Geneva Palladium, Rue du Stand 3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0"/>
          <p:cNvSpPr/>
          <p:nvPr/>
        </p:nvSpPr>
        <p:spPr>
          <a:xfrm>
            <a:off x="1789200" y="-42840"/>
            <a:ext cx="720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-12600" y="0"/>
            <a:ext cx="183996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0" y="463680"/>
            <a:ext cx="1827360" cy="61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8:30 – 09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00 – 09:1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10 – 09:2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20 – 09:4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40 – 09:5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09:50 – 10:5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0:50 – 11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1:00 – 11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1:30 – 12:15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2:15 – 13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3:00 – 14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:00 – 14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4:30 – 14:5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:50 – 15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:30 – 16:0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6:00 – 17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33333"/>
                </a:solidFill>
                <a:latin typeface="Arial"/>
              </a:rPr>
              <a:t>17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18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20:30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1878120" y="6480"/>
            <a:ext cx="7253280" cy="6480000"/>
          </a:xfrm>
          <a:prstGeom prst="rect">
            <a:avLst/>
          </a:prstGeom>
          <a:solidFill>
            <a:srgbClr val="b2b2b2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79280" y="96840"/>
            <a:ext cx="24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0" y="617400"/>
            <a:ext cx="914724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8:30 – 09: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9:00 – 09: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9:10 – 09: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9:20 – 09:4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9:40 – 09: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9:50 – 10: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50 – 11: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</a:rPr>
              <a:t>11:00 – 11: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30 – 12: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15 – 13: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</a:rPr>
              <a:t>13:00 – 14: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00 – 14: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30 – 14: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50 – 15: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</a:rPr>
              <a:t>15:30 – 16: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00 – 17: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</a:rPr>
              <a:t>17:3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-12600" y="0"/>
            <a:ext cx="183996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79280" y="96840"/>
            <a:ext cx="24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-12600" y="0"/>
            <a:ext cx="183996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1878120" y="6480"/>
            <a:ext cx="7253280" cy="6480000"/>
          </a:xfrm>
          <a:prstGeom prst="rect">
            <a:avLst/>
          </a:prstGeom>
          <a:solidFill>
            <a:srgbClr val="b2b2b2"/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5"/>
          <p:cNvSpPr/>
          <p:nvPr/>
        </p:nvSpPr>
        <p:spPr>
          <a:xfrm>
            <a:off x="376200" y="6504120"/>
            <a:ext cx="1496880" cy="347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6" descr="SC logo"/>
          <p:cNvPicPr/>
          <p:nvPr/>
        </p:nvPicPr>
        <p:blipFill>
          <a:blip r:embed="rId2"/>
          <a:stretch/>
        </p:blipFill>
        <p:spPr>
          <a:xfrm>
            <a:off x="7286760" y="6500880"/>
            <a:ext cx="1866600" cy="3603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58"/>
          <p:cNvSpPr/>
          <p:nvPr/>
        </p:nvSpPr>
        <p:spPr>
          <a:xfrm>
            <a:off x="333360" y="6537240"/>
            <a:ext cx="48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Transitional Shelte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3"/>
          <a:srcRect l="5511" t="0" r="6594" b="0"/>
          <a:stretch/>
        </p:blipFill>
        <p:spPr>
          <a:xfrm>
            <a:off x="-1440" y="6499080"/>
            <a:ext cx="377640" cy="3589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55"/>
          <p:cNvSpPr/>
          <p:nvPr/>
        </p:nvSpPr>
        <p:spPr>
          <a:xfrm>
            <a:off x="1876320" y="6504120"/>
            <a:ext cx="5445360" cy="34596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874880" y="-19080"/>
            <a:ext cx="7308720" cy="6516720"/>
          </a:xfrm>
          <a:prstGeom prst="rect">
            <a:avLst/>
          </a:prstGeom>
          <a:solidFill>
            <a:srgbClr val="4d4d4d"/>
          </a:soli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7"/>
          <p:cNvSpPr/>
          <p:nvPr/>
        </p:nvSpPr>
        <p:spPr>
          <a:xfrm>
            <a:off x="0" y="0"/>
            <a:ext cx="18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33"/>
                </a:solidFill>
                <a:latin typeface="Arial"/>
              </a:rPr>
              <a:t>Day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.wmf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15840" y="946080"/>
            <a:ext cx="1940040" cy="324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530440" y="1886040"/>
            <a:ext cx="691524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o Transitional Shel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7f7f7f"/>
                </a:solidFill>
                <a:latin typeface="Arial"/>
              </a:rPr>
              <a:t>Tom Corsellis, </a:t>
            </a:r>
            <a:r>
              <a:rPr b="1" lang="en-GB" sz="2800" spc="-1" strike="noStrike">
                <a:solidFill>
                  <a:srgbClr val="7f7f7f"/>
                </a:solidFill>
                <a:latin typeface="Arial"/>
              </a:rPr>
              <a:t>Shelter Cent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R0010696.JPG"/>
          <p:cNvPicPr/>
          <p:nvPr/>
        </p:nvPicPr>
        <p:blipFill>
          <a:blip r:embed="rId1"/>
          <a:srcRect l="0" t="11236" r="0" b="26417"/>
          <a:stretch/>
        </p:blipFill>
        <p:spPr>
          <a:xfrm>
            <a:off x="2668680" y="3473280"/>
            <a:ext cx="647532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3"/>
          <p:cNvSpPr/>
          <p:nvPr/>
        </p:nvSpPr>
        <p:spPr>
          <a:xfrm>
            <a:off x="2000160" y="687240"/>
            <a:ext cx="6915240" cy="36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f7f7f"/>
                </a:solidFill>
                <a:latin typeface="Arial"/>
              </a:rPr>
              <a:t>Defi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f7f7f"/>
                </a:solidFill>
                <a:latin typeface="Arial"/>
              </a:rPr>
              <a:t>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f7f7f"/>
                </a:solidFill>
                <a:latin typeface="Arial"/>
              </a:rPr>
              <a:t>Pro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7f7f7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f7f7f"/>
                </a:solidFill>
                <a:latin typeface="Arial"/>
              </a:rPr>
              <a:t>Aims of the 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2002320" y="-3240"/>
            <a:ext cx="160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Z:\S1_ShelterMeeting\SM10a\SM Presentation\Images presentation SM10a\John Walden_Leogane_7 May 2010 044.jpg"/>
          <p:cNvPicPr/>
          <p:nvPr/>
        </p:nvPicPr>
        <p:blipFill>
          <a:blip r:embed="rId1"/>
          <a:srcRect l="30520" t="0" r="39125" b="0"/>
          <a:stretch/>
        </p:blipFill>
        <p:spPr>
          <a:xfrm>
            <a:off x="0" y="1892160"/>
            <a:ext cx="1863720" cy="4604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"/>
          <p:cNvPicPr/>
          <p:nvPr/>
        </p:nvPicPr>
        <p:blipFill>
          <a:blip r:embed="rId2"/>
          <a:srcRect l="5511" t="0" r="6594" b="0"/>
          <a:stretch/>
        </p:blipFill>
        <p:spPr>
          <a:xfrm>
            <a:off x="142920" y="574560"/>
            <a:ext cx="14508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1822320" y="1138320"/>
            <a:ext cx="691524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What is Transitional Shelt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7f7f7f"/>
                </a:solidFill>
                <a:latin typeface="Arial"/>
              </a:rPr>
              <a:t>“</a:t>
            </a:r>
            <a:r>
              <a:rPr b="0" i="1" lang="en-GB" sz="2000" spc="-1" strike="noStrike">
                <a:solidFill>
                  <a:srgbClr val="7f7f7f"/>
                </a:solidFill>
                <a:latin typeface="Arial"/>
              </a:rPr>
              <a:t>Shelter which provides a habitable covered living space and a secure, healthy environment, with privacy and dignity, to those within it, during the period between a conflict or natural disaster and the achievement of a durable solution” (Corsellis and Vitale, 200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1867320" y="-3240"/>
            <a:ext cx="2323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Defin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P1100311.JPG"/>
          <p:cNvPicPr/>
          <p:nvPr/>
        </p:nvPicPr>
        <p:blipFill>
          <a:blip r:embed="rId1"/>
          <a:srcRect l="0" t="27150" r="0" b="25945"/>
          <a:stretch/>
        </p:blipFill>
        <p:spPr>
          <a:xfrm>
            <a:off x="1863720" y="4356000"/>
            <a:ext cx="7289640" cy="2144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2"/>
          <a:srcRect l="5511" t="0" r="6594" b="0"/>
          <a:stretch/>
        </p:blipFill>
        <p:spPr>
          <a:xfrm>
            <a:off x="142920" y="584280"/>
            <a:ext cx="145080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1860480" y="1041480"/>
            <a:ext cx="6915240" cy="42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Transitional Shelter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ransitional shelter was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introduced by Shelter Centre 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ollowing the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South Asia Tsunami in 2004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e approach has since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accommodated millions 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of conflict and disaster affected people, from Kenya to Indonesi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More recently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Transitional Shelter 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has been a key part of the shelter strategy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in Hai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f7f7f"/>
                </a:solidFill>
                <a:latin typeface="Arial"/>
              </a:rPr>
              <a:t>The need to support transitional shelter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was identified and prioritised by participants at Shelter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rcRect l="5511" t="0" r="6594" b="0"/>
          <a:stretch/>
        </p:blipFill>
        <p:spPr>
          <a:xfrm>
            <a:off x="142920" y="584280"/>
            <a:ext cx="1450800" cy="1377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IMG_2091.JPG"/>
          <p:cNvPicPr/>
          <p:nvPr/>
        </p:nvPicPr>
        <p:blipFill>
          <a:blip r:embed="rId2"/>
          <a:srcRect l="37162" t="457" r="36104" b="22076"/>
          <a:stretch/>
        </p:blipFill>
        <p:spPr>
          <a:xfrm>
            <a:off x="0" y="2054160"/>
            <a:ext cx="1870200" cy="44467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2"/>
          <p:cNvSpPr/>
          <p:nvPr/>
        </p:nvSpPr>
        <p:spPr>
          <a:xfrm>
            <a:off x="1863000" y="-3240"/>
            <a:ext cx="1898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His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"/>
          <p:cNvSpPr/>
          <p:nvPr/>
        </p:nvSpPr>
        <p:spPr>
          <a:xfrm>
            <a:off x="1593720" y="800280"/>
            <a:ext cx="5732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Transitional Shelter pro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Transitional Shelter Guidelines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 are </a:t>
            </a:r>
            <a:br>
              <a:rPr sz="2000"/>
            </a:b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a set of practical field guidelines for using</a:t>
            </a:r>
            <a:br>
              <a:rPr sz="2000"/>
            </a:b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ransitional shelter in programmes, </a:t>
            </a:r>
            <a:br>
              <a:rPr sz="2000"/>
            </a:b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unded by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DFID 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now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 I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Transitional Shelter Standards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 are common standards and indicators agreed by the Project Consortium to improve the quality and consistency of transitional shelters in response programmes, funded by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DFID 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 USA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Transitional Shelter Prototypes 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are examples of stockpilable transitional shelters developed by manufacturers that meet the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Standards, 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funded by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DFID </a:t>
            </a: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 R&amp;D from manufacturing partn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7523280" y="1844640"/>
            <a:ext cx="1230120" cy="12891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"/>
          <p:cNvPicPr/>
          <p:nvPr/>
        </p:nvPicPr>
        <p:blipFill>
          <a:blip r:embed="rId2"/>
          <a:stretch/>
        </p:blipFill>
        <p:spPr>
          <a:xfrm>
            <a:off x="509760" y="5154480"/>
            <a:ext cx="855360" cy="1214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3"/>
          <a:stretch/>
        </p:blipFill>
        <p:spPr>
          <a:xfrm>
            <a:off x="490680" y="3467160"/>
            <a:ext cx="871560" cy="1260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4"/>
          <a:stretch/>
        </p:blipFill>
        <p:spPr>
          <a:xfrm>
            <a:off x="487440" y="1865160"/>
            <a:ext cx="874800" cy="124164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2"/>
          <p:cNvSpPr/>
          <p:nvPr/>
        </p:nvSpPr>
        <p:spPr>
          <a:xfrm>
            <a:off x="1659240" y="-3240"/>
            <a:ext cx="2100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Proj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"/>
          <p:cNvPicPr/>
          <p:nvPr/>
        </p:nvPicPr>
        <p:blipFill>
          <a:blip r:embed="rId5"/>
          <a:srcRect l="5511" t="0" r="6594" b="0"/>
          <a:stretch/>
        </p:blipFill>
        <p:spPr>
          <a:xfrm>
            <a:off x="142920" y="466560"/>
            <a:ext cx="1450800" cy="1378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6"/>
          <a:stretch/>
        </p:blipFill>
        <p:spPr>
          <a:xfrm>
            <a:off x="7623000" y="4000680"/>
            <a:ext cx="1033560" cy="39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3" name="Picture 6" descr="C:\Documents and Settings\user\Desktop\DFID_logo.JPG"/>
          <p:cNvPicPr/>
          <p:nvPr/>
        </p:nvPicPr>
        <p:blipFill>
          <a:blip r:embed="rId7"/>
          <a:stretch/>
        </p:blipFill>
        <p:spPr>
          <a:xfrm>
            <a:off x="7623000" y="3484440"/>
            <a:ext cx="1033560" cy="3445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C:\Documents and Settings\user\Desktop\DFID_logo.JPG"/>
          <p:cNvPicPr/>
          <p:nvPr/>
        </p:nvPicPr>
        <p:blipFill>
          <a:blip r:embed="rId8"/>
          <a:stretch/>
        </p:blipFill>
        <p:spPr>
          <a:xfrm>
            <a:off x="7628040" y="1671480"/>
            <a:ext cx="1031760" cy="344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C:\Documents and Settings\user\Desktop\DFID_logo.JPG"/>
          <p:cNvPicPr/>
          <p:nvPr/>
        </p:nvPicPr>
        <p:blipFill>
          <a:blip r:embed="rId9"/>
          <a:stretch/>
        </p:blipFill>
        <p:spPr>
          <a:xfrm>
            <a:off x="7623000" y="5402160"/>
            <a:ext cx="1033560" cy="3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1909800" y="966960"/>
            <a:ext cx="5815080" cy="64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7960" indent="-743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95959"/>
                </a:solidFill>
                <a:latin typeface="Arial"/>
              </a:rPr>
              <a:t>Aims for Transitional Shelter 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Launch of Transitional Shelt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Guidelines publication, funded by DFI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and now I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Progress in Transitional Shelter Standards and Proto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Understand more about good practice in procu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Understand more about the spectrum of Stockpiled Transitional Shel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77960" indent="-743040">
              <a:lnSpc>
                <a:spcPct val="8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6" descr="Shelter haiti 2.JPG"/>
          <p:cNvPicPr/>
          <p:nvPr/>
        </p:nvPicPr>
        <p:blipFill>
          <a:blip r:embed="rId1"/>
          <a:srcRect l="55318" t="6638" r="14168" b="0"/>
          <a:stretch/>
        </p:blipFill>
        <p:spPr>
          <a:xfrm>
            <a:off x="0" y="2287440"/>
            <a:ext cx="1870200" cy="42116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2"/>
          <p:cNvSpPr/>
          <p:nvPr/>
        </p:nvSpPr>
        <p:spPr>
          <a:xfrm>
            <a:off x="1873080" y="-3240"/>
            <a:ext cx="15354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A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8" descr=""/>
          <p:cNvPicPr/>
          <p:nvPr/>
        </p:nvPicPr>
        <p:blipFill>
          <a:blip r:embed="rId2"/>
          <a:srcRect l="5511" t="0" r="6594" b="0"/>
          <a:stretch/>
        </p:blipFill>
        <p:spPr>
          <a:xfrm>
            <a:off x="142920" y="584280"/>
            <a:ext cx="1450800" cy="13777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"/>
          <p:cNvPicPr/>
          <p:nvPr/>
        </p:nvPicPr>
        <p:blipFill>
          <a:blip r:embed="rId3"/>
          <a:stretch/>
        </p:blipFill>
        <p:spPr>
          <a:xfrm>
            <a:off x="7523280" y="2533680"/>
            <a:ext cx="1230120" cy="1289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C:\Documents and Settings\user\Desktop\DFID_logo.JPG"/>
          <p:cNvPicPr/>
          <p:nvPr/>
        </p:nvPicPr>
        <p:blipFill>
          <a:blip r:embed="rId4"/>
          <a:stretch/>
        </p:blipFill>
        <p:spPr>
          <a:xfrm>
            <a:off x="7628040" y="2360520"/>
            <a:ext cx="1031760" cy="3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3:20:43Z</dcterms:created>
  <dc:creator>Licensed User</dc:creator>
  <dc:description/>
  <dc:language>en-US</dc:language>
  <cp:lastModifiedBy>federica</cp:lastModifiedBy>
  <dcterms:modified xsi:type="dcterms:W3CDTF">2010-06-02T10:30:46Z</dcterms:modified>
  <cp:revision>1268</cp:revision>
  <dc:subject/>
  <dc:title>Slide 1</dc:title>
</cp:coreProperties>
</file>