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383B-74FB-4EA8-9E7C-25A7E8177C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thanks for the invite – just back from holiday. Will aim to be informal and prova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se who want more detail can go to the discussion paper which can be downloaded free on th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is based on an ongoing research project that aimed to ask a a basic question. Not just about cash versus food aid but money as an alternative or complement to all types of in-kind assistance – shelter kits, non food items,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ming to stimulate thinking and more evidence based research, monitoring and evaluation about when cash is and isn’t appropriate and when it is how it can be programmed effectively and safel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growing experience with cash based responses and more all the time. Wide variety of contexts – all types of emergencies, many different ways of giving people money and many different actors involv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grants, cash for work, conditional cash transfers, community grants, vouchers for seeds, livestock, shel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opia, Somalia, Kenya, cash playing a role in the Tsunami response, DRC, Ingushetia, Mongolia, Gujarat, Mozambique floods, Afghanist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still marginal and small scale compared to in-kind assistance – standardised responses – food aid, shelter, NF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of course the vast majority of in-kind distributions are in fact a mixture of cash and in-kind assistance because people sell part of what they are giv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wing interest and experience with cash is coming from 2 directions – use in emergency relief by aid agencies and growing interest in the use of cash in social protection programmes – pensions, conditional cash transfers in Latin America – pilot programmes in southern Afric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growing experience with cash based responses and more all the time. Wide variety of contexts – all types of emergencies, many different ways of giving people money and many different actors involv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grants, cash for work, conditional cash transfers, community grants, vouchers for seeds, livestock, shel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opia, Somalia, Kenya, cash playing a role in the Tsunami response, DRC, Ingushetia, Mongolia, Gujarat, Mozambique floods, Afghanist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still marginal and small scale compared to in-kind assistance – standardised responses – food aid, shelter, NF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of course the vast majority of in-kind distributions are in fact a mixture of cash and in-kind assistance because people sell part of what they are giv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wing interest and experience with cash is coming from 2 directions – use in emergency relief by aid agencies and growing interest in the use of cash in social protection programmes – pensions, conditional cash transfers in Latin America – pilot programmes in southern Afric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perience reviewed so far suggests that cash programmes can be effective and they have been largely positively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ten they have been seen as more cost effective, allowing people greater choice and dignity, creating greater multiplier effects in local econo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 fears about cash have not been realised. Use has not been anti-social, people have spent the money sensibly, women have been able to have a say in how the money is used, it has been possible to deliver it safely and there have not been major problems of security or corruption. Innovations around use of remittanc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 firstly most evaluations are positive – need for more rigorous research. Not often implemented on a large scale – questions about both inflationary impact and capacity (e.g Ethiopia safety nets). And times when it will not be appropriate – when markets are disrupted, inflationary effects are likely or insecurity is too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ten seen as an alternative but can also be complementary to in-kind approach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n this largely positive response and strong theoretical case why so much scepticism and reluctance. Cash is peculiarly threatening in all sorts of interesting ways – institutionally, organisationally and in terms of 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ly a potential threat to the role of food aid and the current international food aid system. But also I’ll argue an opportunity which I’ll come back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a more fundamental threat to how we construct what we do – rather than deciding what people need – cash implies handing over power, control and responsibility to people to decide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interesting signs of governments seeing a shift to cash as part of an assertion of greater control – Afghan government and the more cash less kind paper, Ethiopia government and PSNP process and Tsunami affected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gue in the Discussion paper that the evidence points to a strong case for expanding the use of cash in emergencies. But a need to rigorously evaluate and document less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essments – need to be less resource driven and consider alternativ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 – need for cash to be possible – at the moment not clear where it fits within the UN system – WFP. Donors should stop tying aid and both agencies and donors have a responsibility to provide the most appropriate re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ise – interesting finding that where cash has been implemented it’s often because someone who has worked on a previous project sees it as a possibility – eg Mercy Corps in Indonesia. Need to expand the people with the skills and experience to consider it. Not rocket science more an openness to possi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evangelism – clearly not a panacea – need to carefully consider when and where it is and isn’t possible and what else needs to be done. – as part of the toolbox not as the answ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gue in the Discussion paper that the evidence points to a strong case for expanding the use of cash in emergencies. But a need to rigorously evaluate and document less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essments – need to be less resource driven and consider alternativ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 – need for cash to be possible – at the moment not clear where it fits within the UN system – WFP. Donors should stop tying aid and both agencies and donors have a responsibility to provide the most appropriate re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ise – interesting finding that where cash has been implemented it’s often because someone who has worked on a previous project sees it as a possibility – eg Mercy Corps in Indonesia. Need to expand the people with the skills and experience to consider it. Not rocket science more an openness to possi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evangelism – clearly not a panacea – need to carefully consider when and where it is and isn’t possible and what else needs to be done. – as part of the toolbox not as the answ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if you’re interested in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ion paper is on the website and more products will be coming up – report in a few weeks on Ethiopia by Lesley Adams and Emeb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resources being developed and will be po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is ongoing – want to capture further examples, issues and thoughts. Do write to me – particularly if you have negativ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f you want to get published we always welcome submissions to HPN or to the Disasters journal on this or any other issues relating to humanitarian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13CF4-58B5-4183-8577-F3D01712D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25AE4-A687-40D1-AF2F-820F6BDFF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590F4-6FEE-40CD-8F5B-AA665EB47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87588-134E-4547-9A46-3EA840ED7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19F3B-C7A3-4DC9-B596-940A8F1E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DA1A-FC21-4503-BCFA-C2555BF0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986C-810C-44AB-92BD-7A0492FB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0B41-0861-4A42-BCAE-5A8F9AC0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6C124-CBFB-4D02-AFE7-45A606DF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D6E7-5EC7-4240-9F13-A55DAF40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A365-CC37-4394-8DF8-81767046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B5E6-0CAA-42A7-89DC-828C8AEA5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EE11-A5A8-4162-A368-50AB02850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mailto:p.harvey@odi.org.uk" TargetMode="External"/><Relationship Id="rId6" Type="http://schemas.openxmlformats.org/officeDocument/2006/relationships/slideLayout" Target="../slideLayouts/slideLayout2.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7885080" y="6165720"/>
          <a:ext cx="1085760" cy="542880"/>
        </p:xfrm>
        <a:graphic>
          <a:graphicData uri="http://schemas.openxmlformats.org/presentationml/2006/ole">
            <p:oleObj r:id="rId1" spid="">
              <p:embed/>
              <p:pic>
                <p:nvPicPr>
                  <p:cNvPr id="49"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50" name="" descr=""/>
          <p:cNvPicPr/>
          <p:nvPr/>
        </p:nvPicPr>
        <p:blipFill>
          <a:blip r:embed="rId3"/>
          <a:stretch/>
        </p:blipFill>
        <p:spPr>
          <a:xfrm>
            <a:off x="0" y="0"/>
            <a:ext cx="9144000" cy="1428840"/>
          </a:xfrm>
          <a:prstGeom prst="rect">
            <a:avLst/>
          </a:prstGeom>
          <a:ln w="0">
            <a:noFill/>
          </a:ln>
        </p:spPr>
      </p:pic>
      <p:pic>
        <p:nvPicPr>
          <p:cNvPr id="51" name="" descr=""/>
          <p:cNvPicPr/>
          <p:nvPr/>
        </p:nvPicPr>
        <p:blipFill>
          <a:blip r:embed="rId4"/>
          <a:stretch/>
        </p:blipFill>
        <p:spPr>
          <a:xfrm>
            <a:off x="324000" y="260280"/>
            <a:ext cx="952200" cy="486000"/>
          </a:xfrm>
          <a:prstGeom prst="rect">
            <a:avLst/>
          </a:prstGeom>
          <a:ln w="0">
            <a:noFill/>
          </a:ln>
        </p:spPr>
      </p:pic>
      <p:sp>
        <p:nvSpPr>
          <p:cNvPr id="52" name=""/>
          <p:cNvSpPr/>
          <p:nvPr/>
        </p:nvSpPr>
        <p:spPr>
          <a:xfrm>
            <a:off x="755640" y="1958400"/>
            <a:ext cx="76327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h and vouchers in emergen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es it make sense to give people money rather than stuf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7885080" y="6165720"/>
          <a:ext cx="1085760" cy="542880"/>
        </p:xfrm>
        <a:graphic>
          <a:graphicData uri="http://schemas.openxmlformats.org/presentationml/2006/ole">
            <p:oleObj r:id="rId1" spid="">
              <p:embed/>
              <p:pic>
                <p:nvPicPr>
                  <p:cNvPr id="54"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55" name="" descr=""/>
          <p:cNvPicPr/>
          <p:nvPr/>
        </p:nvPicPr>
        <p:blipFill>
          <a:blip r:embed="rId3"/>
          <a:stretch/>
        </p:blipFill>
        <p:spPr>
          <a:xfrm>
            <a:off x="0" y="0"/>
            <a:ext cx="9144000" cy="1428840"/>
          </a:xfrm>
          <a:prstGeom prst="rect">
            <a:avLst/>
          </a:prstGeom>
          <a:ln w="0">
            <a:noFill/>
          </a:ln>
        </p:spPr>
      </p:pic>
      <p:pic>
        <p:nvPicPr>
          <p:cNvPr id="56" name="" descr=""/>
          <p:cNvPicPr/>
          <p:nvPr/>
        </p:nvPicPr>
        <p:blipFill>
          <a:blip r:embed="rId4"/>
          <a:stretch/>
        </p:blipFill>
        <p:spPr>
          <a:xfrm>
            <a:off x="324000" y="260280"/>
            <a:ext cx="952200" cy="486000"/>
          </a:xfrm>
          <a:prstGeom prst="rect">
            <a:avLst/>
          </a:prstGeom>
          <a:ln w="0">
            <a:noFill/>
          </a:ln>
        </p:spPr>
      </p:pic>
      <p:sp>
        <p:nvSpPr>
          <p:cNvPr id="57" name=""/>
          <p:cNvSpPr/>
          <p:nvPr/>
        </p:nvSpPr>
        <p:spPr>
          <a:xfrm>
            <a:off x="611280" y="2127600"/>
            <a:ext cx="806436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rrent Pictu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xperience, positively evalua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ginal compared to in-kind assist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ed examples from the shelter se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7885080" y="6165720"/>
          <a:ext cx="1085760" cy="542880"/>
        </p:xfrm>
        <a:graphic>
          <a:graphicData uri="http://schemas.openxmlformats.org/presentationml/2006/ole">
            <p:oleObj r:id="rId1" spid="">
              <p:embed/>
              <p:pic>
                <p:nvPicPr>
                  <p:cNvPr id="59"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60" name="" descr=""/>
          <p:cNvPicPr/>
          <p:nvPr/>
        </p:nvPicPr>
        <p:blipFill>
          <a:blip r:embed="rId3"/>
          <a:stretch/>
        </p:blipFill>
        <p:spPr>
          <a:xfrm>
            <a:off x="0" y="0"/>
            <a:ext cx="9144000" cy="1428840"/>
          </a:xfrm>
          <a:prstGeom prst="rect">
            <a:avLst/>
          </a:prstGeom>
          <a:ln w="0">
            <a:noFill/>
          </a:ln>
        </p:spPr>
      </p:pic>
      <p:pic>
        <p:nvPicPr>
          <p:cNvPr id="61" name="" descr=""/>
          <p:cNvPicPr/>
          <p:nvPr/>
        </p:nvPicPr>
        <p:blipFill>
          <a:blip r:embed="rId4"/>
          <a:stretch/>
        </p:blipFill>
        <p:spPr>
          <a:xfrm>
            <a:off x="324000" y="260280"/>
            <a:ext cx="952200" cy="486000"/>
          </a:xfrm>
          <a:prstGeom prst="rect">
            <a:avLst/>
          </a:prstGeom>
          <a:ln w="0">
            <a:noFill/>
          </a:ln>
        </p:spPr>
      </p:pic>
      <p:sp>
        <p:nvSpPr>
          <p:cNvPr id="62" name=""/>
          <p:cNvSpPr/>
          <p:nvPr/>
        </p:nvSpPr>
        <p:spPr>
          <a:xfrm>
            <a:off x="611280" y="1915200"/>
            <a:ext cx="806436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elter Examp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DC projects giving cash to host families in Ingushetia and Indones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DC cash for reconstruction in Kosov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yone else, anywhere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7885080" y="6165720"/>
          <a:ext cx="1085760" cy="542880"/>
        </p:xfrm>
        <a:graphic>
          <a:graphicData uri="http://schemas.openxmlformats.org/presentationml/2006/ole">
            <p:oleObj r:id="rId1" spid="">
              <p:embed/>
              <p:pic>
                <p:nvPicPr>
                  <p:cNvPr id="64"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65" name="" descr=""/>
          <p:cNvPicPr/>
          <p:nvPr/>
        </p:nvPicPr>
        <p:blipFill>
          <a:blip r:embed="rId3"/>
          <a:stretch/>
        </p:blipFill>
        <p:spPr>
          <a:xfrm>
            <a:off x="0" y="0"/>
            <a:ext cx="9144000" cy="1428840"/>
          </a:xfrm>
          <a:prstGeom prst="rect">
            <a:avLst/>
          </a:prstGeom>
          <a:ln w="0">
            <a:noFill/>
          </a:ln>
        </p:spPr>
      </p:pic>
      <p:pic>
        <p:nvPicPr>
          <p:cNvPr id="66" name="" descr=""/>
          <p:cNvPicPr/>
          <p:nvPr/>
        </p:nvPicPr>
        <p:blipFill>
          <a:blip r:embed="rId4"/>
          <a:stretch/>
        </p:blipFill>
        <p:spPr>
          <a:xfrm>
            <a:off x="324000" y="260280"/>
            <a:ext cx="952200" cy="486000"/>
          </a:xfrm>
          <a:prstGeom prst="rect">
            <a:avLst/>
          </a:prstGeom>
          <a:ln w="0">
            <a:noFill/>
          </a:ln>
        </p:spPr>
      </p:pic>
      <p:sp>
        <p:nvSpPr>
          <p:cNvPr id="67" name=""/>
          <p:cNvSpPr/>
          <p:nvPr/>
        </p:nvSpPr>
        <p:spPr>
          <a:xfrm>
            <a:off x="611280" y="2126160"/>
            <a:ext cx="806436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Case for Expan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eaper, greater choice, and multiplier effec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ernative or complementa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ing integration and mo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7885080" y="6165720"/>
          <a:ext cx="1085760" cy="542880"/>
        </p:xfrm>
        <a:graphic>
          <a:graphicData uri="http://schemas.openxmlformats.org/presentationml/2006/ole">
            <p:oleObj r:id="rId1" spid="">
              <p:embed/>
              <p:pic>
                <p:nvPicPr>
                  <p:cNvPr id="69"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70" name="" descr=""/>
          <p:cNvPicPr/>
          <p:nvPr/>
        </p:nvPicPr>
        <p:blipFill>
          <a:blip r:embed="rId3"/>
          <a:stretch/>
        </p:blipFill>
        <p:spPr>
          <a:xfrm>
            <a:off x="0" y="0"/>
            <a:ext cx="9144000" cy="1428840"/>
          </a:xfrm>
          <a:prstGeom prst="rect">
            <a:avLst/>
          </a:prstGeom>
          <a:ln w="0">
            <a:noFill/>
          </a:ln>
        </p:spPr>
      </p:pic>
      <p:pic>
        <p:nvPicPr>
          <p:cNvPr id="71" name="" descr=""/>
          <p:cNvPicPr/>
          <p:nvPr/>
        </p:nvPicPr>
        <p:blipFill>
          <a:blip r:embed="rId4"/>
          <a:stretch/>
        </p:blipFill>
        <p:spPr>
          <a:xfrm>
            <a:off x="324000" y="260280"/>
            <a:ext cx="952200" cy="486000"/>
          </a:xfrm>
          <a:prstGeom prst="rect">
            <a:avLst/>
          </a:prstGeom>
          <a:ln w="0">
            <a:noFill/>
          </a:ln>
        </p:spPr>
      </p:pic>
      <p:sp>
        <p:nvSpPr>
          <p:cNvPr id="72" name=""/>
          <p:cNvSpPr/>
          <p:nvPr/>
        </p:nvSpPr>
        <p:spPr>
          <a:xfrm>
            <a:off x="611280" y="1701360"/>
            <a:ext cx="80643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so litt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ors won’t let 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s are too disrup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Arial"/>
              </a:rPr>
              <a:t>People won’t build safely or with ethical timb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might not be spent on shel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7885080" y="6165720"/>
          <a:ext cx="1085760" cy="542880"/>
        </p:xfrm>
        <a:graphic>
          <a:graphicData uri="http://schemas.openxmlformats.org/presentationml/2006/ole">
            <p:oleObj r:id="rId1" spid="">
              <p:embed/>
              <p:pic>
                <p:nvPicPr>
                  <p:cNvPr id="74"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75" name="" descr=""/>
          <p:cNvPicPr/>
          <p:nvPr/>
        </p:nvPicPr>
        <p:blipFill>
          <a:blip r:embed="rId3"/>
          <a:stretch/>
        </p:blipFill>
        <p:spPr>
          <a:xfrm>
            <a:off x="0" y="0"/>
            <a:ext cx="9144000" cy="1428840"/>
          </a:xfrm>
          <a:prstGeom prst="rect">
            <a:avLst/>
          </a:prstGeom>
          <a:ln w="0">
            <a:noFill/>
          </a:ln>
        </p:spPr>
      </p:pic>
      <p:pic>
        <p:nvPicPr>
          <p:cNvPr id="76" name="" descr=""/>
          <p:cNvPicPr/>
          <p:nvPr/>
        </p:nvPicPr>
        <p:blipFill>
          <a:blip r:embed="rId4"/>
          <a:stretch/>
        </p:blipFill>
        <p:spPr>
          <a:xfrm>
            <a:off x="324000" y="260280"/>
            <a:ext cx="952200" cy="486000"/>
          </a:xfrm>
          <a:prstGeom prst="rect">
            <a:avLst/>
          </a:prstGeom>
          <a:ln w="0">
            <a:noFill/>
          </a:ln>
        </p:spPr>
      </p:pic>
      <p:sp>
        <p:nvSpPr>
          <p:cNvPr id="77" name=""/>
          <p:cNvSpPr/>
          <p:nvPr/>
        </p:nvSpPr>
        <p:spPr>
          <a:xfrm>
            <a:off x="611280" y="2126160"/>
            <a:ext cx="806436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y forw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ansion of cash relief program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essments, architecture and experti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 cash evangel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7885080" y="6165720"/>
          <a:ext cx="1085760" cy="542880"/>
        </p:xfrm>
        <a:graphic>
          <a:graphicData uri="http://schemas.openxmlformats.org/presentationml/2006/ole">
            <p:oleObj r:id="rId1" spid="">
              <p:embed/>
              <p:pic>
                <p:nvPicPr>
                  <p:cNvPr id="79"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80" name="" descr=""/>
          <p:cNvPicPr/>
          <p:nvPr/>
        </p:nvPicPr>
        <p:blipFill>
          <a:blip r:embed="rId3"/>
          <a:stretch/>
        </p:blipFill>
        <p:spPr>
          <a:xfrm>
            <a:off x="0" y="0"/>
            <a:ext cx="9144000" cy="1428840"/>
          </a:xfrm>
          <a:prstGeom prst="rect">
            <a:avLst/>
          </a:prstGeom>
          <a:ln w="0">
            <a:noFill/>
          </a:ln>
        </p:spPr>
      </p:pic>
      <p:pic>
        <p:nvPicPr>
          <p:cNvPr id="81" name="" descr=""/>
          <p:cNvPicPr/>
          <p:nvPr/>
        </p:nvPicPr>
        <p:blipFill>
          <a:blip r:embed="rId4"/>
          <a:stretch/>
        </p:blipFill>
        <p:spPr>
          <a:xfrm>
            <a:off x="324000" y="260280"/>
            <a:ext cx="952200" cy="486000"/>
          </a:xfrm>
          <a:prstGeom prst="rect">
            <a:avLst/>
          </a:prstGeom>
          <a:ln w="0">
            <a:noFill/>
          </a:ln>
        </p:spPr>
      </p:pic>
      <p:sp>
        <p:nvSpPr>
          <p:cNvPr id="82" name=""/>
          <p:cNvSpPr/>
          <p:nvPr/>
        </p:nvSpPr>
        <p:spPr>
          <a:xfrm>
            <a:off x="611280" y="1491840"/>
            <a:ext cx="806436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ay forward for Shel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assess the appropriateness of cas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analysis of markets for shelter materials, rental markets, hosting arrangements, displacement tren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 programming expertise in cash for shel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7885080" y="6165720"/>
          <a:ext cx="1085760" cy="542880"/>
        </p:xfrm>
        <a:graphic>
          <a:graphicData uri="http://schemas.openxmlformats.org/presentationml/2006/ole">
            <p:oleObj r:id="rId1" spid="">
              <p:embed/>
              <p:pic>
                <p:nvPicPr>
                  <p:cNvPr id="84" name="" descr=""/>
                  <p:cNvPicPr/>
                  <p:nvPr/>
                </p:nvPicPr>
                <p:blipFill>
                  <a:blip r:embed="rId2"/>
                  <a:stretch/>
                </p:blipFill>
                <p:spPr>
                  <a:xfrm>
                    <a:off x="7885080" y="6165720"/>
                    <a:ext cx="1085760" cy="542880"/>
                  </a:xfrm>
                  <a:prstGeom prst="rect">
                    <a:avLst/>
                  </a:prstGeom>
                  <a:ln w="0">
                    <a:noFill/>
                  </a:ln>
                </p:spPr>
              </p:pic>
            </p:oleObj>
          </a:graphicData>
        </a:graphic>
      </p:graphicFrame>
      <p:pic>
        <p:nvPicPr>
          <p:cNvPr id="85" name="" descr=""/>
          <p:cNvPicPr/>
          <p:nvPr/>
        </p:nvPicPr>
        <p:blipFill>
          <a:blip r:embed="rId3"/>
          <a:stretch/>
        </p:blipFill>
        <p:spPr>
          <a:xfrm>
            <a:off x="0" y="0"/>
            <a:ext cx="9144000" cy="1428840"/>
          </a:xfrm>
          <a:prstGeom prst="rect">
            <a:avLst/>
          </a:prstGeom>
          <a:ln w="0">
            <a:noFill/>
          </a:ln>
        </p:spPr>
      </p:pic>
      <p:pic>
        <p:nvPicPr>
          <p:cNvPr id="86" name="" descr=""/>
          <p:cNvPicPr/>
          <p:nvPr/>
        </p:nvPicPr>
        <p:blipFill>
          <a:blip r:embed="rId4"/>
          <a:stretch/>
        </p:blipFill>
        <p:spPr>
          <a:xfrm>
            <a:off x="324000" y="260280"/>
            <a:ext cx="952200" cy="486000"/>
          </a:xfrm>
          <a:prstGeom prst="rect">
            <a:avLst/>
          </a:prstGeom>
          <a:ln w="0">
            <a:noFill/>
          </a:ln>
        </p:spPr>
      </p:pic>
      <p:sp>
        <p:nvSpPr>
          <p:cNvPr id="87" name=""/>
          <p:cNvSpPr/>
          <p:nvPr/>
        </p:nvSpPr>
        <p:spPr>
          <a:xfrm>
            <a:off x="611280" y="1913760"/>
            <a:ext cx="806436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et Involved / More Inform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orts on the ODI website: odi.org.uk/hp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d me your thoughts or experience: </a:t>
            </a:r>
            <a:r>
              <a:rPr b="0" lang="en-GB" sz="2800" spc="-1" strike="noStrike" u="sng">
                <a:solidFill>
                  <a:srgbClr val="009999"/>
                </a:solidFill>
                <a:uFillTx/>
                <a:latin typeface="Arial"/>
                <a:hlinkClick r:id="rId5"/>
              </a:rPr>
              <a:t>p.harvey@odi.org.u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for HPN or Disa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0:52:45Z</dcterms:created>
  <dc:creator>ckern</dc:creator>
  <dc:description/>
  <dc:language>en-US</dc:language>
  <cp:lastModifiedBy>user</cp:lastModifiedBy>
  <dcterms:modified xsi:type="dcterms:W3CDTF">2008-07-29T09:45:16Z</dcterms:modified>
  <cp:revision>38</cp:revision>
  <dc:subject/>
  <dc:title>Slide 1</dc:title>
</cp:coreProperties>
</file>