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06520"/>
            <a:ext cx="9144000" cy="5451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01520" y="88920"/>
            <a:ext cx="2309760" cy="8697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406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00"/>
                </a:solidFill>
                <a:latin typeface="Tahoma"/>
              </a:rPr>
              <a:t>Rammed Earth Block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for Oxfam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201600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24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809880" cy="4038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3810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7494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types used in te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2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y pit with 40% clay with 50% fine sand and silt. (add 25% 6mm gravel and san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2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ource taken from a metre deep trench, with 20% clay and well graded from fine particle to gravel. (use as dug, removing stones &lt; 10m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OPICAL LATERITIC SOI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87640" y="290520"/>
            <a:ext cx="61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arth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9280" y="2276280"/>
            <a:ext cx="8964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:20  5% 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:12   8% l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minimal. Typical recommended figures suggest 12 – 1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concrete would be better in such conditions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56000" y="363600"/>
            <a:ext cx="65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tab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87280" y="1430280"/>
            <a:ext cx="72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819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gordon.browne@solent.ac.u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1892160"/>
            <a:ext cx="7272360" cy="4561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56000" y="-27000"/>
            <a:ext cx="658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INVA RAM and MAKIGA 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kindle old technology for 21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cen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st the Makiga 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st CINVA 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lication in transitional sett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-27000"/>
            <a:ext cx="658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im of Research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000" y="198108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4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 a block that is cheaper and easier to produce than concrete blocks or fired bri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4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lock that is environmentally sound and du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4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minimal stabilisation (lime or c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19640" y="189000"/>
            <a:ext cx="57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78469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4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 and latrine l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4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structure to latr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4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t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4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lls to she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4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4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warf walls to 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4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s,hospitals, stores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51280" y="13824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ressive strength is not an issue with rammed earth blocks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aker hand moulded blocks reach  strengths of 2-4 N/m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urability is an issue.  Stabilisation with cement or lime will significantly improve du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296280" cy="70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0:27:36Z</dcterms:created>
  <dc:creator>Administrator</dc:creator>
  <dc:description/>
  <dc:language>en-US</dc:language>
  <cp:lastModifiedBy>Antonella</cp:lastModifiedBy>
  <dcterms:modified xsi:type="dcterms:W3CDTF">2005-12-14T14:42:11Z</dcterms:modified>
  <cp:revision>12</cp:revision>
  <dc:subject/>
  <dc:title>Slide 1</dc:title>
</cp:coreProperties>
</file>