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wmf" ContentType="image/x-wmf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4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238-2B2C-4B94-A673-ACD6440AB9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3B7A-EBE1-4A26-9453-2E05A2389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3FB-3AFD-4964-91B0-7849E561C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163-A1E1-425E-8561-B3ED0D0058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8876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8200" y="129492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0968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8876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8200" y="3125880"/>
            <a:ext cx="2075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09680" y="232920"/>
            <a:ext cx="64454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12680" y="312588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215640"/>
            <a:ext cx="644544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12680" y="1294920"/>
            <a:ext cx="31453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680" y="3125880"/>
            <a:ext cx="64454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0"/>
            <a:ext cx="1905120" cy="639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28800" y="0"/>
            <a:ext cx="7315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7400" y="378000"/>
            <a:ext cx="685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2360" y="233280"/>
            <a:ext cx="616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22360" y="1584360"/>
            <a:ext cx="58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32920"/>
            <a:ext cx="6445440" cy="608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09680" y="1294920"/>
            <a:ext cx="64454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5892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58920" indent="-35892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90600" y="6480000"/>
            <a:ext cx="1123920" cy="219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399360"/>
            <a:ext cx="91440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6496200"/>
            <a:ext cx="51055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17th - 18th November 2005  |  Geneva   |  hosted by UN-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20" y="6437160"/>
            <a:ext cx="1871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8892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39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1189080"/>
            <a:ext cx="65422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programme 2005 - 2008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 Corsellis &amp; Antonella V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572000"/>
            <a:ext cx="5288040" cy="828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ollowed b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review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Corsellis &amp; Antonella Vitale, Shelter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1127160"/>
            <a:ext cx="678204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and agreement of guiding principles for th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last Shelter Meeting (November 2004) it was agreed to develo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mmon set of guiding princi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transitional settlement and shelt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wou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ece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different sub-sets of princi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those who a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) displaced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b) affected by natural disaster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 reconstructing their homes following confli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will be a brief and clear consensus approach to future dis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152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38960" y="594360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024600"/>
            <a:ext cx="121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6428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359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68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4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83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41148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questions or commen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1127160"/>
            <a:ext cx="586764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Principle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ich publications can these principles be integrated i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ich other initiatives should these principles be linked wi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ich languages should they be available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68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084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83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152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024600"/>
            <a:ext cx="121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6428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359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127160"/>
            <a:ext cx="685800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tion, development, testing, and publication of the specifications for a new transitional family shelter, involving a consort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itional shelter for both conflict and natural dis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ed to be adapted by beneficia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to manufacture, stock pile and air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creased availability of shelters that can be stockpiled for emergency response and that can be manufactured using open source specs and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0" t="-3795" r="50243" b="873"/>
          <a:stretch/>
        </p:blipFill>
        <p:spPr>
          <a:xfrm>
            <a:off x="2209680" y="4897440"/>
            <a:ext cx="981360" cy="150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97560" y="4933800"/>
            <a:ext cx="1955520" cy="146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705720" y="4943520"/>
            <a:ext cx="2438280" cy="1457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rcRect l="45898" t="0" r="0" b="0"/>
          <a:stretch/>
        </p:blipFill>
        <p:spPr>
          <a:xfrm>
            <a:off x="3352680" y="4940280"/>
            <a:ext cx="10670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1127160"/>
            <a:ext cx="668340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h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ding by USAID/OFDA for the development of a performance specification for the 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or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onsortiu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J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1143000"/>
            <a:ext cx="1752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performance spec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how many square metres floor are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col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3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594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294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90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6480" y="6005520"/>
            <a:ext cx="1523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127160"/>
            <a:ext cx="582768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has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aison with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ing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 of techn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 response by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11520" y="5454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68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594504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62000" y="6002280"/>
            <a:ext cx="1524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529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103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594360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 sp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8680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1143000"/>
            <a:ext cx="1752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cold climate compli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530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1127160"/>
            <a:ext cx="58276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odul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ding by USAID/OFDA for the development of a performance specification for the 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o would like to join the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3048120"/>
            <a:ext cx="582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aise with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ing of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 of techn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 response by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o would like to join the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594504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62000" y="6002280"/>
            <a:ext cx="1524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529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594684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594360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 sp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57974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143000"/>
            <a:ext cx="1752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transitional shelter module do you n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 this the right approach to developing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1127160"/>
            <a:ext cx="69343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a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agree simple sectoral coordination to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b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seminate, practise and contribute to existing sector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ols for coordination and preparedness capac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)  develop a delivery system for deliverable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eveloping and implementing strategies in the field in the past, we found that the steps on the next slide were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is deliverable, it may not be possible to develop and agree tools for all of these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should be possible to agree what the steps should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will be tools for sectoral coordination agreed and practis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y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1127160"/>
            <a:ext cx="647712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ordination struc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rom emergency transiting to return/reconstr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2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mmon assessment 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linking to monitoring and evalu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3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where people are in what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at proportion are with host families, and wher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4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a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 responsi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what capacity is where to ensure equitable support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the progress of work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updated regular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6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gree specific guiding principles and stand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adopting those relevant to the situ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7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the appropriate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g what support should be offered to host families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8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major implementing ste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at will happen in winter, or in another quak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9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public consultation and information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eneficiaries, government, and aid comm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0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handover or exit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hen should each phase stop and how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n the past we’ve found these 10 steps useful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3962520"/>
            <a:ext cx="1676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uilding on our websites and CD we are developing a better delivery system… Shelter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480000" y="4319640"/>
            <a:ext cx="2268720" cy="20970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2209680" y="152280"/>
            <a:ext cx="6445440" cy="608040"/>
            <a:chOff x="2209680" y="152280"/>
            <a:chExt cx="6445440" cy="608040"/>
          </a:xfrm>
        </p:grpSpPr>
        <p:sp>
          <p:nvSpPr>
            <p:cNvPr id="330" name=""/>
            <p:cNvSpPr/>
            <p:nvPr/>
          </p:nvSpPr>
          <p:spPr>
            <a:xfrm>
              <a:off x="2209680" y="152280"/>
              <a:ext cx="644544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09680" y="155160"/>
              <a:ext cx="6445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00"/>
                  </a:solidFill>
                  <a:latin typeface="Arial"/>
                  <a:ea typeface="Arial"/>
                </a:rPr>
                <a:t>Shelter Centre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ab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209680" y="1179000"/>
            <a:ext cx="69343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helter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Base will be developed over the next year as the delivery mechanism for Shelter Coordination and all Shelter Cent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Base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eed to be installed on your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off Hard Drive, USB key, RWCD-ROM, 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freely distrib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ontinuously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6044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33"/>
                </a:solidFill>
                <a:latin typeface="Arial"/>
              </a:rPr>
              <a:t>update itself at your command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0" y="1252440"/>
            <a:ext cx="21337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Shelter B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will inclu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helter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320" y="4456080"/>
            <a:ext cx="1752480" cy="1158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resent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tthew S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elter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209680" y="152280"/>
            <a:ext cx="6445440" cy="608040"/>
            <a:chOff x="2209680" y="152280"/>
            <a:chExt cx="6445440" cy="608040"/>
          </a:xfrm>
        </p:grpSpPr>
        <p:sp>
          <p:nvSpPr>
            <p:cNvPr id="344" name=""/>
            <p:cNvSpPr/>
            <p:nvPr/>
          </p:nvSpPr>
          <p:spPr>
            <a:xfrm>
              <a:off x="2209680" y="152280"/>
              <a:ext cx="644544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09680" y="155160"/>
              <a:ext cx="6445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00"/>
                  </a:solidFill>
                  <a:latin typeface="Arial"/>
                  <a:ea typeface="Arial"/>
                </a:rPr>
                <a:t>Shelter Centre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ab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09680" y="1182600"/>
            <a:ext cx="67341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4. Shelte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ere is new information available, you will receive a small message asking you which information you wish to download to update your Shelter Base, e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-8985240" y="-3429000"/>
          <a:ext cx="6526080" cy="284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-8985240" y="-342900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-8985240" y="-3429000"/>
          <a:ext cx="6526080" cy="28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8985240" y="-342900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2160720" y="3419640"/>
            <a:ext cx="66024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112716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entre has received funding from DFID-CHAD to develop the follow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deliver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next 3 ye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se products and services were derived from conversations with participants at past Shelter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description of deliverables and services will follow shor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286000"/>
            <a:ext cx="3083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liver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303640"/>
            <a:ext cx="301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Volun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5920" y="4689360"/>
            <a:ext cx="695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rogramme review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inform you of our progress every Shelter Me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 can feedback through working groups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liverable an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209680" y="152280"/>
            <a:ext cx="6445440" cy="608040"/>
            <a:chOff x="2209680" y="152280"/>
            <a:chExt cx="6445440" cy="608040"/>
          </a:xfrm>
        </p:grpSpPr>
        <p:sp>
          <p:nvSpPr>
            <p:cNvPr id="361" name=""/>
            <p:cNvSpPr/>
            <p:nvPr/>
          </p:nvSpPr>
          <p:spPr>
            <a:xfrm>
              <a:off x="2209680" y="152280"/>
              <a:ext cx="644544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155160"/>
              <a:ext cx="6445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00"/>
                  </a:solidFill>
                  <a:latin typeface="Arial"/>
                  <a:ea typeface="Arial"/>
                </a:rPr>
                <a:t>Shelter Centre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ab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209680" y="1142640"/>
            <a:ext cx="6734160" cy="589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helter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Base can be expanded to include a number of coordination, implementation, and management tool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share maps, assessments, strategi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make maps, such as for area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run coordinati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to share contac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se tools will be simple to use, withou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s will look like web si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60440"/>
                <a:tab algn="l" pos="5396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you will be able to edit them like Wor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-9094680" y="-3395520"/>
          <a:ext cx="6526080" cy="28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9094680" y="-3395520"/>
                    <a:ext cx="6526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209680" y="898560"/>
            <a:ext cx="647712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Coordination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ordination struc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2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velop a common assessment 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3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where people are in what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4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a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sponsi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p the progress of work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6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gree specific guiding principles and stand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7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the appropriate TS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8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be major implementing ste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9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public consultation and information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4.10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 handover or exit strate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971640"/>
            <a:ext cx="1600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comments on the 10 ste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 this the right way to proc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re any coordination elements not included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1640" y="591192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91280" y="591192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67360" y="591192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4680" y="559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40400" y="559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510400" y="559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5911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07000" y="6099120"/>
            <a:ext cx="10764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05320" y="5911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68640" y="486396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18280" y="486396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94360" y="486396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41680" y="4549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7400" y="4549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37400" y="4549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134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7138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70800" y="486396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62360" y="5067360"/>
            <a:ext cx="1035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3232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708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5640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75320" y="48639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13400" y="486396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567684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elter Base 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24200" y="4581360"/>
            <a:ext cx="12189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ols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07000" y="5067360"/>
            <a:ext cx="1524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97720" y="5067360"/>
            <a:ext cx="1523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12360" y="486396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11640" y="6089760"/>
            <a:ext cx="1523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1628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6280" y="6089760"/>
            <a:ext cx="887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ta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97720" y="6099120"/>
            <a:ext cx="1076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eas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4200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35960" y="6099120"/>
            <a:ext cx="1076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ease 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4380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67720" y="591192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09680" y="1189080"/>
            <a:ext cx="65422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Shelter Centre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 Corsellis &amp; Antonella V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933560" y="4048200"/>
            <a:ext cx="3657600" cy="2341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112716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entre has received funding from DFID-CHAD to develop the follow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deliver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next 3 ye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286000"/>
            <a:ext cx="416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liver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Volun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1089000"/>
            <a:ext cx="64580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of the sectoral forum www.sheltermeeting.org to include stakeholders appropriate to the guidelines revision and other outputs, including Southern and IFI representation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6280" y="933480"/>
            <a:ext cx="1665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past participant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DFID CHAD-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IC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SAID OFD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H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/O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-HABITA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FRC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N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Oxfam GB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RedR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FL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e Sphere Proje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SF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&amp;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idworld Humanitarian I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ranfield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am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3124080"/>
            <a:ext cx="65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how is Shelter Meeting to be conducted in the fu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0" t="13489" r="0" b="50101"/>
          <a:stretch/>
        </p:blipFill>
        <p:spPr>
          <a:xfrm>
            <a:off x="2232000" y="3657600"/>
            <a:ext cx="6454800" cy="17636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04164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9128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67360" y="6073920"/>
            <a:ext cx="2025720" cy="134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9568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0376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51040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49236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7804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416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0844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880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5000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598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55904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48460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56712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57224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865476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1089000"/>
            <a:ext cx="65930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Meet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st it has been 2 days every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elter Centre programme review will now take one of those days… should it then be 2 days plus 1 day for the Shelter Centre programme re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ues outside Genev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satellite meetings in the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Shelter Meeting welcome hosting the sectoral cluster meeting, should the cluster reques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80" y="933480"/>
            <a:ext cx="1665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past participant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MSF-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DFID CHAD-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IC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SAID OFD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H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/O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-HABITA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FRC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N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Oxfam GB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RedR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FL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e Sphere Proje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SF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&amp;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idworld Humanitarian ICT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ranfield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University of Cam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164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67360" y="6073920"/>
            <a:ext cx="2025720" cy="134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9568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0376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51040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49236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804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6416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08440" y="62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880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88440" y="62197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59880" y="6219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0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55904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8460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56712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572240" y="6073920"/>
            <a:ext cx="1296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654760" y="6073920"/>
            <a:ext cx="1260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1089000"/>
            <a:ext cx="663732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a fund to be managed by Shelter Centre but guided by the Shelter Meeting and following DFID Conflict and Humanitarian Fun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ill be 6 meetings over 3 years, each with a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se th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who is to undertake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other revenue streams for Shelter Funding,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pecific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d capacity, engagement of donors, advocacy, sustainability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164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91280" y="6073920"/>
            <a:ext cx="2025720" cy="1346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67360" y="6073920"/>
            <a:ext cx="2025720" cy="134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864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6868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607392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0376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1040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78040" y="5759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9680" y="1089000"/>
            <a:ext cx="69343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Funding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previous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‘Translation of the transitional settlement guidelines into oth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nguag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 publicly-available on-line library on reconstruction issues, … case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mission reports, contributed by the Shelter Meeting participant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. Field assessment tools should also be included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ll as countr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ific lessons learned.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 training programme for decision makers and government officials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 toolkit and procurement manual for wood, and later oth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erial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An independent study should be rapidly made of impregnated plastic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eeting, concentrating upon safety, effectiveness, appropriateness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cost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Guidelines on the use of plastic sheeting should be updated and ma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eely available (ref Howard and Spice, Oxfam GB, 1979) 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Preliminary review of existing NFIs guidelines, prior to final decision 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uidelines on the use of plastic sheeting including other shelter NFIs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ch as shadow netting, blankets, and stov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39625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40" y="2998800"/>
            <a:ext cx="1582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uideline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bmission of proposals for funding will be circulated by the end of January 2006 to elicit first proposals to be discussed at 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108900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Fund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30481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ny other project proposa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can we finalise a l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o will do the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0664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78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0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3236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2272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1344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1200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902720" y="6019920"/>
            <a:ext cx="914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09680" y="1133640"/>
            <a:ext cx="663732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training capacity for th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and expans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sheltertraining.org, including training from ot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at you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adquarters, leaving you with a training 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ed for the needs of your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fiel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1143000"/>
            <a:ext cx="1800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lates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sic GPS training will be developed by Shelter Centre and Ma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 Oxfam GB, which has kindly granted permission to make it freely available on the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78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0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25920" y="5994360"/>
            <a:ext cx="472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ailable to train at headquarters or in the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41280" y="6145200"/>
            <a:ext cx="58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97720" y="61437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143000"/>
            <a:ext cx="1719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Arial"/>
              </a:rPr>
              <a:t>deliver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After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Arial"/>
              </a:rPr>
              <a:t>serv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F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Volun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1127160"/>
            <a:ext cx="647712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you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re these the most important deliverables and servic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at other deliverables and services would you like develop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1133640"/>
            <a:ext cx="66294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73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Train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and expansion of www.sheltertraining.org, including training from other organisations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other training would you like us to develop? what other training do you have that we can post on Shelter Trai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at your headquarters, leaving you with a training course developed for the needs of your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o wants free trai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elivery by Shelter Centre of free training in some fiel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o would host Shelter Cent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133640"/>
            <a:ext cx="693432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nteer and internship capacit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database of potential volunteers for non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projects undertaken outside the aid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experienced professionals as well as gradu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Meeting organisations should feel free to contact volunteers through th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ased sectoral capacity, advocacy, innovation an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1551240" cy="1163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32000" y="6100920"/>
            <a:ext cx="112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51280" y="6100920"/>
            <a:ext cx="14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72360" y="6100920"/>
            <a:ext cx="148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837560" y="6100920"/>
            <a:ext cx="110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71364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09680" y="1133640"/>
            <a:ext cx="69343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Volunteering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database of potential volunteers for non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do you need volunte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projects undertaken outside the aid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ould you like to be able to request proj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lve experienced professionals as well as gradu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basic training should be offered to make them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suitable for first miss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basic experience do volunteers need?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information about them do you ne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what information about them do you need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an online order for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contact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- brief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09680" y="1133640"/>
            <a:ext cx="60962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n on-line register of specialists, coordinated with existing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n on-line register of specialists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trained potential first missions who have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ne, or wish to do, paid fiel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.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academic capacity able to undertak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, evaluation, and NFI research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lter Register 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ally be coordinated with existing services an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ased access to capacity, opportunities for capacity building an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686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5769000"/>
            <a:ext cx="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32000" y="6100920"/>
            <a:ext cx="112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51280" y="6100920"/>
            <a:ext cx="14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72360" y="6100920"/>
            <a:ext cx="1485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37560" y="6100920"/>
            <a:ext cx="110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71364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09680" y="1133640"/>
            <a:ext cx="609624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ter Registe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n on-line register of speciali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rained potential first missions who h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e work or wish to do paid fiel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hat would your requirements be to mak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use of such as regis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academic capacity able to underta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, evaluation, and NFI research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would you make use of such capac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468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4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86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11640" y="6054840"/>
            <a:ext cx="39625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ild and populate Shelter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05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543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832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41640" y="6203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993080" y="620388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09680" y="1089000"/>
            <a:ext cx="61722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6. Shelter Libra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GB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shelterlibrary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ansion of the field library www.shelterlibrary.org, on-line and via 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 100 key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us other guidelines, standards, software, country profiles, convers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4130640" y="4199040"/>
            <a:ext cx="1379520" cy="19746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5834160" y="4199040"/>
            <a:ext cx="1239840" cy="1974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rcRect l="0" t="3405" r="0" b="0"/>
          <a:stretch/>
        </p:blipFill>
        <p:spPr>
          <a:xfrm>
            <a:off x="7397640" y="4245120"/>
            <a:ext cx="1366920" cy="19285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06280" y="954000"/>
            <a:ext cx="166536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Shelter Libr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web lo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verage 90 visits per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S:DP’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 /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ter sanitation and shelter equipment manua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Oxf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6 /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conversion charts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430 /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2232000" y="4606920"/>
            <a:ext cx="1575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Shelter Libr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shelterlibrary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arch function ad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6280" y="2486160"/>
            <a:ext cx="16653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ontributor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SF –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H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IS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/O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xfam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her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rcRect l="0" t="0" r="33219" b="0"/>
          <a:stretch/>
        </p:blipFill>
        <p:spPr>
          <a:xfrm>
            <a:off x="2185920" y="3878280"/>
            <a:ext cx="1755720" cy="23907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rcRect l="0" t="32295" r="18921" b="0"/>
          <a:stretch/>
        </p:blipFill>
        <p:spPr>
          <a:xfrm>
            <a:off x="3402000" y="2496960"/>
            <a:ext cx="5265720" cy="16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"/>
          <p:cNvSpPr/>
          <p:nvPr/>
        </p:nvSpPr>
        <p:spPr>
          <a:xfrm>
            <a:off x="162000" y="7920"/>
            <a:ext cx="1743120" cy="18208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ew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005!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02200" y="4554360"/>
            <a:ext cx="465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now search inside the Word and PDF documents held on the 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713640" y="1905120"/>
            <a:ext cx="1728720" cy="42670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09680" y="1089000"/>
            <a:ext cx="67820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Shelter Librar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2743200"/>
            <a:ext cx="64580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other sector material would you like to s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at general material would you like to see?           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e.g. 1951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o has material to contribu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1189080"/>
            <a:ext cx="65422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Arial"/>
              </a:rPr>
              <a:t>Shelter Centre deliver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 Corsellis &amp; Antonella V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572000"/>
            <a:ext cx="1597320" cy="775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ollowed b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12716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Centre has received funding from DFID-CHAD to develop the follow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deliver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servi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next 3 ye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143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following deliverables and services will now be presented in d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3560" y="2286000"/>
            <a:ext cx="3816360" cy="175572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286000"/>
            <a:ext cx="416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ver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ter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Volun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t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4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127160"/>
            <a:ext cx="66373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After Dis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ision in two phases of 'Shelter After Disaster - Guidelines for Assistance', the key guidelines first published by UNDRO in 198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llaboration between Shelter Centre and 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ised guidelines will be published by OCHA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phase of the revision will be a scoping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vised guidelines may be accompanied by a parallel compendium of case studies and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051000"/>
            <a:ext cx="1600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tangible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will be consensus field guidance for stakeholders on post disaster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280" y="954000"/>
            <a:ext cx="175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revision process will begin this afterno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600" y="189000"/>
            <a:ext cx="1646280" cy="99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600" y="144936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600" y="270828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1127160"/>
            <a:ext cx="63230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After Disaster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ph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oping study to inform the revision of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after Disast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no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UN/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onella@sheltercentre.org, tom@sheltercentr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re consultant t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asemin Ay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m Corsel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0640" y="4194000"/>
            <a:ext cx="21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an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onella V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0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272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272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29800" y="599436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00" y="460440"/>
            <a:ext cx="167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der group of contribu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000" y="1611360"/>
            <a:ext cx="167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 contributors add using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" y="2798640"/>
            <a:ext cx="1585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re consultants fina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600" y="396864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00" y="4194000"/>
            <a:ext cx="167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esent to SM0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7640" y="104292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7640" y="2303640"/>
            <a:ext cx="0" cy="448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7640" y="356544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127160"/>
            <a:ext cx="582768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ter After Disaste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has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lter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e studies schedu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te phase 2 schedu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51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6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83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5720" y="5994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7040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5640" y="594360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6024600"/>
            <a:ext cx="1219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5464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35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8640" y="328608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18280" y="328608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4360" y="328608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7804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376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040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2268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3232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9560" y="351144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oping 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3520" y="3511440"/>
            <a:ext cx="105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1340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713800" y="328608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70800" y="32860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70800" y="3541680"/>
            <a:ext cx="1219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2280" y="351468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92880" y="3511440"/>
            <a:ext cx="113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51720" y="3505320"/>
            <a:ext cx="9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600" y="189000"/>
            <a:ext cx="1646280" cy="99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00" y="144936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600" y="270828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8120" y="324000"/>
            <a:ext cx="1478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Centre agrees with OCHA plus SM05b new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840" y="2913120"/>
            <a:ext cx="1585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elter Centre integrates structure and goo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600" y="396864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00" y="4368960"/>
            <a:ext cx="16750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aft field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7640" y="104292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7640" y="2303640"/>
            <a:ext cx="0" cy="448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7640" y="356544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00" y="5227560"/>
            <a:ext cx="164628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00" y="5595840"/>
            <a:ext cx="167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unch at SM0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7640" y="4824360"/>
            <a:ext cx="0" cy="44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000" y="1638360"/>
            <a:ext cx="167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se study consultants identify goo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728720" cy="426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09680" y="152280"/>
            <a:ext cx="6445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helter Centre</a:t>
            </a:r>
            <a:r>
              <a:rPr b="1" lang="en-US" sz="36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127160"/>
            <a:ext cx="632484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ter after Disaster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oping study to inform the revision of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lter after Disast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754360"/>
            <a:ext cx="582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s r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379404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 this the right way to proc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who wants to join the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6600"/>
                </a:solidFill>
                <a:latin typeface="Arial"/>
              </a:rPr>
              <a:t>the working group reviews the case stud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164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1280" y="5769000"/>
            <a:ext cx="2025720" cy="135000"/>
          </a:xfrm>
          <a:prstGeom prst="rect">
            <a:avLst/>
          </a:prstGeom>
          <a:solidFill>
            <a:srgbClr val="ff66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67360" y="5769000"/>
            <a:ext cx="2025720" cy="135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7804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0376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10400" y="5454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9800" y="599436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0400" y="59943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05640" y="5943600"/>
            <a:ext cx="938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el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86800" y="576900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57690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6024600"/>
            <a:ext cx="12193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54640" y="59976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3520" y="599436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143000"/>
            <a:ext cx="1675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Arial"/>
              </a:rPr>
              <a:t>suggestions for case study consulta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16:13:04Z</dcterms:created>
  <dc:creator>shelter2</dc:creator>
  <dc:description/>
  <dc:language>en-US</dc:language>
  <cp:lastModifiedBy>volunteer</cp:lastModifiedBy>
  <dcterms:modified xsi:type="dcterms:W3CDTF">2005-12-15T13:18:31Z</dcterms:modified>
  <cp:revision>529</cp:revision>
  <dc:subject/>
  <dc:title>title</dc:title>
</cp:coreProperties>
</file>