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16A6-D65A-43F4-B0D8-053C95F6EE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DDEC-F8D2-4B20-B60B-357CB53738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A3A5-F0DA-4CF7-9F8B-63A5B06A35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79A8-C269-4E62-B561-31E4C62516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8876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820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0968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8876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820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09680" y="232920"/>
            <a:ext cx="64454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8876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820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0968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8876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820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09680" y="232920"/>
            <a:ext cx="64454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0" y="0"/>
            <a:ext cx="1905120" cy="639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828800" y="0"/>
            <a:ext cx="73152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7400" y="378000"/>
            <a:ext cx="685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22360" y="233280"/>
            <a:ext cx="616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22360" y="1584360"/>
            <a:ext cx="58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232920"/>
            <a:ext cx="6445440" cy="608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09680" y="6496200"/>
            <a:ext cx="51055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17th - 18th November 2005  |  Geneva   |  hosted by UN-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90600" y="6480000"/>
            <a:ext cx="1123920" cy="2192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2320" y="6437160"/>
            <a:ext cx="187164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399360"/>
            <a:ext cx="91440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6496200"/>
            <a:ext cx="51055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17th - 18th November 2005  |  Geneva   |  hosted by UN-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320" y="6437160"/>
            <a:ext cx="187164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8892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39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09680" y="1189080"/>
            <a:ext cx="65422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Arial"/>
              </a:rPr>
              <a:t>Shelter Centre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m Corsellis &amp; Antonella V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09680" y="1127160"/>
            <a:ext cx="668340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odul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h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ding by USAID/OFDA for the development of a performance specification for the Shelt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or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helter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consortiu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J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143000"/>
            <a:ext cx="1752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performance specif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how many square metres floor are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at colo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33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594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294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290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76480" y="6005520"/>
            <a:ext cx="1523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09680" y="1127160"/>
            <a:ext cx="582768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odul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has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aison with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ing of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ation of technical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iew response by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helter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11520" y="5454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68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594504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960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62000" y="6002280"/>
            <a:ext cx="1524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5292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1032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57974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594360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sh sp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686800" y="57974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1143000"/>
            <a:ext cx="1752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cold climate compli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530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09680" y="1127160"/>
            <a:ext cx="58276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odul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ding by USAID/OFDA for the development of a performance specification for the Shelt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ho would like to join the working gro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048120"/>
            <a:ext cx="5827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aise with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ing of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ation of technical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iew response by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o would like to join the working gro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46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4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594504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60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29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2900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62000" y="6002280"/>
            <a:ext cx="1524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5292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1032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38680" y="57974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0120" y="594360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sh sp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86800" y="57974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1143000"/>
            <a:ext cx="1752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at transitional shelter module do you ne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s this the right approach to developing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09680" y="1127160"/>
            <a:ext cx="69343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a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nd agree simple sectoral coordination to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b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seminate, practise and contribute to existing sector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ols for coordination and preparedness capac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)  develop a delivery system for product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developing and implementing strategies in the field in the past, we found that the steps on the next slide were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is product, it may not be possible to develop and agree tools for all of these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should be possible to agree what the steps should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will be tools for sectoral coordination agreed and practis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y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09680" y="1127160"/>
            <a:ext cx="647712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develop a coordination struc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rom emergency transiting to return/reconstr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2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velop a common assessment 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linking to monitoring and evalu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3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where people are in what TS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hat proportion are with host families, and wher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4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a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 responsi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what capacity is where to ensure equitable support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the progress of work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updated regular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6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gree specific guiding principles and standa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adopting those relevant to the situ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7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be the appropriate TS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g what support should be offered to host families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8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be major implementing ste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hat will happen in winter, or in another quak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9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public consultation and information strate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eneficiaries, government, and aid comm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10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handover or exit strate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hen should each phase stop and how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n the past we’ve found these 10 steps useful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3962520"/>
            <a:ext cx="1676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uilding on our websites and CD we are developing a better delivery system… Shelter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480000" y="4319640"/>
            <a:ext cx="2268720" cy="2097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09680" y="1179000"/>
            <a:ext cx="69343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helter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Base will be developed over the next year as the delivery mechanism for Shelter Coordination and all Shelter Cent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Base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eed to be installed on your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off Hard Drive, USB key, RWCD-ROM, o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freely distribu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continuously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33"/>
                </a:solidFill>
                <a:latin typeface="Arial"/>
              </a:rPr>
              <a:t>update itself at your command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0" y="1252440"/>
            <a:ext cx="213372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Shelter B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will inclu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Coord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4456080"/>
            <a:ext cx="1752480" cy="1158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resent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tthew S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helter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09680" y="1182600"/>
            <a:ext cx="673416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4. Shelter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there is new information available, you will receive a small message asking you which information you wish to download to update your Shelter Base, e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-8985240" y="-3429000"/>
          <a:ext cx="6526080" cy="284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-8985240" y="-342900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-8985240" y="-3429000"/>
          <a:ext cx="6526080" cy="284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8985240" y="-342900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1" name="" descr=""/>
          <p:cNvPicPr/>
          <p:nvPr/>
        </p:nvPicPr>
        <p:blipFill>
          <a:blip r:embed="rId13"/>
          <a:stretch/>
        </p:blipFill>
        <p:spPr>
          <a:xfrm>
            <a:off x="2160720" y="3419640"/>
            <a:ext cx="6602400" cy="2879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09680" y="1142640"/>
            <a:ext cx="6734160" cy="589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helter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Base can be expanded to include a number of coordination, implementation, and management tool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to share maps, assessments, strategi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to make maps, such as for area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to run coordination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to share contact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se tools will be simple to use, withou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ols will look like web si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you will be able to edit them like Wor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209680" y="898560"/>
            <a:ext cx="6477120" cy="33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Coordination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develop a coordination struc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2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velop a common assessment 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3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where people are in what TS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4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a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sponsi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the progress of work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6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gree specific guiding principles and standa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7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be the appropriate TS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8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be major implementing ste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9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public consultation and information strate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10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handover or exit strate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971640"/>
            <a:ext cx="1600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comments on the 10 ste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s this the right way to proce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are any coordination elements not included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1640" y="591192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91280" y="591192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67360" y="591192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4680" y="5597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40400" y="5597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10400" y="5597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5911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07000" y="6099120"/>
            <a:ext cx="10764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5911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68640" y="486396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18280" y="486396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94360" y="486396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1680" y="4549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67400" y="4549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537400" y="4549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1340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71380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70800" y="486396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62360" y="5067360"/>
            <a:ext cx="1035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3232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7080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640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7532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3400" y="486396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567684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elter Base 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24200" y="4581360"/>
            <a:ext cx="12189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ols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07000" y="5067360"/>
            <a:ext cx="1524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97720" y="5067360"/>
            <a:ext cx="1523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712360" y="486396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11640" y="6089760"/>
            <a:ext cx="1523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1628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86280" y="6089760"/>
            <a:ext cx="887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ta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97720" y="6099120"/>
            <a:ext cx="1076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eas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4200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35960" y="6099120"/>
            <a:ext cx="1076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ease 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66772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2716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Centre has received funding from DFID-CHAD to develop the follow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rodu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serv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next 3 yea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llowing products and services will now be presented in de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33560" y="2286000"/>
            <a:ext cx="3816360" cy="175572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286000"/>
            <a:ext cx="4162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After Dis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Volunt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09680" y="1127160"/>
            <a:ext cx="66373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After Dis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vision in two phases of 'Shelter After Disaster - Guidelines for Assistance', the key guidelines first published by UNDRO in 198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ollaboration between Shelter Centre and O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vised guidelines will be published by OCHA 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phase of the revision will be a scoping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vised guidelines may be accompanied by a parallel compendium of case studies and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051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will be consensus field guidance for stakeholders on post disaster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280" y="954000"/>
            <a:ext cx="175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revision process will begin this afterno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6600" y="189000"/>
            <a:ext cx="1646280" cy="99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00" y="144936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600" y="270828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1127160"/>
            <a:ext cx="632304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After Disaster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ph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oping study to inform the revision of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after Disast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no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UN/O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organisa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helter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onella@sheltercentre.org, tom@sheltercentr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re consultant tea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asemin Ay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m Corsel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0640" y="4194000"/>
            <a:ext cx="210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an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onella V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970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272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9272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9800" y="599436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00" y="460440"/>
            <a:ext cx="167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der group of contribu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000" y="1611360"/>
            <a:ext cx="1674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 contributors add using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3840" y="2798640"/>
            <a:ext cx="1585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re consultants final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00" y="396864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00" y="4194000"/>
            <a:ext cx="167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esent to 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7640" y="104292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7640" y="2303640"/>
            <a:ext cx="0" cy="4489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7640" y="356544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09680" y="1127160"/>
            <a:ext cx="582768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After Disaste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has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helter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e studies schedu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lete phase 2 schedu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510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6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83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5720" y="599436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0400" y="59943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05640" y="594360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6024600"/>
            <a:ext cx="12193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54640" y="59976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3520" y="599436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68640" y="328608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18280" y="328608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94360" y="328608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78040" y="2971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03760" y="2971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10400" y="2971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2268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3232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9560" y="351144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oping 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3520" y="3511440"/>
            <a:ext cx="105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5640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1340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13800" y="328608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7080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70800" y="3541680"/>
            <a:ext cx="12193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2280" y="351468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3511440"/>
            <a:ext cx="113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51720" y="3505320"/>
            <a:ext cx="9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600" y="189000"/>
            <a:ext cx="1646280" cy="99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600" y="144936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600" y="270828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8120" y="324000"/>
            <a:ext cx="1478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Centre agrees with OCHA plus SM05b new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3840" y="2913120"/>
            <a:ext cx="1585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Centre integrates structure and goo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600" y="396864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200" y="4368960"/>
            <a:ext cx="16750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raft field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7640" y="104292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7640" y="2303640"/>
            <a:ext cx="0" cy="4489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7640" y="356544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600" y="522756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00" y="5595840"/>
            <a:ext cx="167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unch at SM0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7640" y="482436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000" y="1638360"/>
            <a:ext cx="1674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se study consultants identify goo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09680" y="1127160"/>
            <a:ext cx="632484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after Disaster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oping study to inform the revision of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after Disast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2754360"/>
            <a:ext cx="582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elines r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3794040"/>
            <a:ext cx="647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s this the right way to proce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o wants to join the working gro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6600"/>
                </a:solidFill>
                <a:latin typeface="Arial"/>
              </a:rPr>
              <a:t>the working group reviews the case stud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780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03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29800" y="599436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70400" y="59943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05640" y="594360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6024600"/>
            <a:ext cx="12193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54640" y="59976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3520" y="599436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1143000"/>
            <a:ext cx="1675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  <a:ea typeface="Arial"/>
              </a:rPr>
              <a:t>suggestions for case study consulta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09680" y="1127160"/>
            <a:ext cx="678204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and agreement of guiding principles for th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last Shelter Meeting (November 2004) it was agreed to develo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ommon set of guiding princip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transitional settlement and shelt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 wou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ece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e different sub-sets of princip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those who a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) displaced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b) affected by natural disaster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 reconstructing their homes following confli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will be a brief and clear consensus approach to future dis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41520" y="59943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38960" y="594360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6024600"/>
            <a:ext cx="121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64280" y="59976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35920" y="599436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68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084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83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411480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questions or comment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1127160"/>
            <a:ext cx="586764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Principle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ich publications can these principles be integrated i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ich other initiatives should these principles be linked wi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ich languages should they be available 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68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084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83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41520" y="59943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024600"/>
            <a:ext cx="121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64280" y="59976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35920" y="599436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09680" y="1127160"/>
            <a:ext cx="685800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ition, development, testing, and publication of the specifications for a new transitional family shelter, involving a consort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itional shelter for both conflict and natural dis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ed to be adapted by beneficia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to manufacture, stock pile and airl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creased availability of shelters that can be stockpiled for emergency response and that can be manufactured using open source specs and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-3795" r="50243" b="873"/>
          <a:stretch/>
        </p:blipFill>
        <p:spPr>
          <a:xfrm>
            <a:off x="2209680" y="4897440"/>
            <a:ext cx="981360" cy="1503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97560" y="4933800"/>
            <a:ext cx="1955520" cy="1467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705720" y="4943520"/>
            <a:ext cx="2438280" cy="145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rcRect l="45898" t="0" r="0" b="0"/>
          <a:stretch/>
        </p:blipFill>
        <p:spPr>
          <a:xfrm>
            <a:off x="3352680" y="4940280"/>
            <a:ext cx="1067040" cy="1460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16:13:04Z</dcterms:created>
  <dc:creator>shelter2</dc:creator>
  <dc:description/>
  <dc:language>en-US</dc:language>
  <cp:lastModifiedBy>Matthew Slater</cp:lastModifiedBy>
  <dcterms:modified xsi:type="dcterms:W3CDTF">2008-02-20T19:12:42Z</dcterms:modified>
  <cp:revision>531</cp:revision>
  <dc:subject/>
  <dc:title>title</dc:title>
</cp:coreProperties>
</file>