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378000"/>
            <a:ext cx="6858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22360" y="233280"/>
            <a:ext cx="616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322360" y="1584360"/>
            <a:ext cx="58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233280"/>
            <a:ext cx="8686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96200"/>
            <a:ext cx="906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t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helter Meeting 05b</a:t>
            </a:r>
            <a:r>
              <a:rPr b="1" lang="en-US" sz="1200" spc="-1" strike="noStrike">
                <a:solidFill>
                  <a:srgbClr val="3399ff"/>
                </a:solidFill>
                <a:latin typeface="Arial"/>
              </a:rPr>
              <a:t> Introduction: </a:t>
            </a:r>
            <a:r>
              <a:rPr b="0" lang="en-GB" sz="1200" spc="-1" strike="noStrike">
                <a:solidFill>
                  <a:srgbClr val="3399ff"/>
                </a:solidFill>
                <a:latin typeface="Arial"/>
              </a:rPr>
              <a:t>'Scoping study to inform the revision of </a:t>
            </a:r>
            <a:r>
              <a:rPr b="0" i="1" lang="en-GB" sz="1200" spc="-1" strike="noStrike">
                <a:solidFill>
                  <a:srgbClr val="3399ff"/>
                </a:solidFill>
                <a:latin typeface="Arial"/>
              </a:rPr>
              <a:t>Shelter after Disaster'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asemin Aysan</a:t>
            </a:r>
            <a:r>
              <a:rPr b="1" lang="en-US" sz="1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Times New Roman"/>
              </a:rPr>
              <a:t>Shelter After Disaster 1982-2005</a:t>
            </a:r>
            <a:br>
              <a:rPr sz="3600"/>
            </a:br>
            <a:r>
              <a:rPr b="1" lang="fr-CH" sz="3600" spc="-1" strike="noStrike">
                <a:solidFill>
                  <a:srgbClr val="000000"/>
                </a:solidFill>
                <a:latin typeface="Times New Roman"/>
              </a:rPr>
              <a:t>Phase I: Scooping Study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2636640"/>
            <a:ext cx="64008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Shelter Meeting 05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16-17 November 2005, Gene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Presented by: Yasemin Ay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3399ff"/>
                </a:solidFill>
                <a:latin typeface="Times New Roman"/>
              </a:rPr>
              <a:t>Key changes since 198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IFIs increasingly play a critical role </a:t>
            </a:r>
            <a:r>
              <a:rPr b="0" i="1" lang="fr-CH" sz="2800" spc="-1" strike="noStrike">
                <a:solidFill>
                  <a:srgbClr val="000000"/>
                </a:solidFill>
                <a:latin typeface="Times New Roman"/>
              </a:rPr>
              <a:t>in financing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CH" sz="2800" spc="-1" strike="noStrike">
                <a:solidFill>
                  <a:srgbClr val="000000"/>
                </a:solidFill>
                <a:latin typeface="Times New Roman"/>
              </a:rPr>
              <a:t>housing reconstruction and risk transf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Weak coordination and setting standards by the national authorities as well as international players, </a:t>
            </a:r>
            <a:r>
              <a:rPr b="0" i="1" lang="fr-CH" sz="2800" spc="-1" strike="noStrike">
                <a:solidFill>
                  <a:srgbClr val="000000"/>
                </a:solidFill>
                <a:latin typeface="Times New Roman"/>
              </a:rPr>
              <a:t>little equity across various types of shelter provis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Land becoming a limited and expensive commodity, land ownership still  an iss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Infrastructure and livelihood recognised as essential components of shelter provis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Recognition of environmental aspec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1295280"/>
            <a:ext cx="146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1089000"/>
            <a:ext cx="678204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6280" y="1143000"/>
            <a:ext cx="166536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key changes  since 198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1052640"/>
            <a:ext cx="89154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s and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pho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elter impact: some, coordinatio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dlines: some improvement, mobile cellular networks, such as GSM: rapid increase and coverage, satellite telepho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elter impact: significant, learning, good practic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199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wide web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elter impact: growing where bandwidth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1990s growth in availability, via websites such as HICs and Shelter Library, of material including situation reports, assessments, evaluations, tools, goo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1295280"/>
            <a:ext cx="146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1089000"/>
            <a:ext cx="678204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6280" y="1143000"/>
            <a:ext cx="166536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key chang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since 198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907920"/>
            <a:ext cx="8915400" cy="53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ordination between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ected population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consultation; participation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and international armed forces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MIC new, weak; symbolic interventions, tent stock, logistic and man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ed Nations bodie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ak shelter coordination; housing a gap; IASC working groups an improve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s/NGO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ewed interest in natural disaster response; in shelter/hous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or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-donor coordination still weak despite good donorship initiative; post-disaster housing often bi-late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sector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ak, with potential (eg IM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Times New Roman"/>
              </a:rPr>
              <a:t>key changes  since 198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Organisation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re are still few organisations specialising in emergency shelter, some in reconstr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ganisations founded after 1982: ECHO (1996), SDC (1990), OCHA (1998), UNOPS (1995), RedR (1980), SFL (1984), Sphere (1997); Architecture &amp; Developpement (1997), Shelter Centre (1995), etc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since 198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ordination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development of mandate responsibilities &amp; coordination (eg IAS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ASC clusters working group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ecent initiative to develop UN/IO/NGO link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arly warning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egional governments (eg UNESCO IOC); technology dr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search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ignificant growth (eg Hazard.net); implementation linkages impr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295280"/>
            <a:ext cx="146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1089000"/>
            <a:ext cx="678204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6280" y="1143000"/>
            <a:ext cx="166536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522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Sheltering 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options since 198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907920"/>
            <a:ext cx="881676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-adjacent shelte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g Gujarat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 understanding; better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familie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g Sri Lanka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 support; significant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ral self-settlemen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g Bangladesh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; weak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ban self-settlemen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g New Orleans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on (eg slums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ve centres/shelter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g Madagascar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; insufficient; weak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-settled camp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g Aceh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on; increas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ed camp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g Pakistan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on; significant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Implementation since 198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rehensive sectoral coordin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ergency to reconstruction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essm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inked to monitoring and evaluation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re; many too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as of responsibility, progres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apacity distribution, schedule of work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nciples, standards, implementation step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nerally improving, specific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 inform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ampaign; centre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re, stakeholder coordination w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ical suppor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ew ‘barefoot’ engineers; few tent options, small stockpile capac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0920" y="1295280"/>
            <a:ext cx="146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1089000"/>
            <a:ext cx="678204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6280" y="1143000"/>
            <a:ext cx="166536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Standards, laws, principles, codes since 198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685800"/>
            <a:ext cx="906768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Minimum Charter and Standards In Disaster Response'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phere Projec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ed by international community, weak national influenc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itarian Accountability Partnership'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AP-I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 develop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, human righ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le 2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niversal Declaration on Human Right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awareness; rarely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le 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ternational Covenant on Economic, Social &amp; Cultural Right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ly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incip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lter After Disast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NDRO, 198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awareness; rarely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uiding Principles on Internal Displacem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CHA, 1999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awaren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lter Princip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helter Centre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de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des of condu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'Code of Conduct'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FRC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; impacts equitable participation and provision , no enforce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in Aid Code'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eople in Aid, 200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id workers; impact on site safe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Times New Roman"/>
              </a:rPr>
              <a:t>Key events since 19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Disasters and the Small Dwelling Conference, Oxford, 1991; </a:t>
            </a:r>
            <a:r>
              <a:rPr b="0" i="1" lang="fr-CH" sz="2800" spc="-1" strike="noStrike">
                <a:solidFill>
                  <a:srgbClr val="000000"/>
                </a:solidFill>
                <a:latin typeface="Times New Roman"/>
              </a:rPr>
              <a:t>set agenda for the IDND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Shelter Conference, UNHCR, 1993; </a:t>
            </a:r>
            <a:r>
              <a:rPr b="0" i="1" lang="fr-CH" sz="2800" spc="-1" strike="noStrike">
                <a:solidFill>
                  <a:srgbClr val="000000"/>
                </a:solidFill>
                <a:latin typeface="Times New Roman"/>
              </a:rPr>
              <a:t>no continu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HABITAT Conference 1996; </a:t>
            </a:r>
            <a:r>
              <a:rPr b="0" i="1" lang="fr-CH" sz="2800" spc="-1" strike="noStrike">
                <a:solidFill>
                  <a:srgbClr val="000000"/>
                </a:solidFill>
                <a:latin typeface="Times New Roman"/>
              </a:rPr>
              <a:t>limited coverage of post-disaster shelt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Shelter Meetings, Since 2002; </a:t>
            </a:r>
            <a:r>
              <a:rPr b="0" i="1" lang="fr-CH" sz="2800" spc="-1" strike="noStrike">
                <a:solidFill>
                  <a:srgbClr val="000000"/>
                </a:solidFill>
                <a:latin typeface="Times New Roman"/>
              </a:rPr>
              <a:t>provides a platform for exchange among shleter community twice a yea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Kobe Conference 2005; </a:t>
            </a:r>
            <a:r>
              <a:rPr b="0" i="1" lang="fr-CH" sz="2800" spc="-1" strike="noStrike">
                <a:solidFill>
                  <a:srgbClr val="000000"/>
                </a:solidFill>
                <a:latin typeface="Times New Roman"/>
              </a:rPr>
              <a:t>limited reference to post- disaster shelt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1982 - 2005, Shelter After Disaster,</a:t>
            </a:r>
            <a:br>
              <a:rPr sz="3600"/>
            </a:br>
            <a:r>
              <a:rPr b="1" lang="en-US" sz="36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Phase 1 scoping stud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Commissioned by UN-OC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, through a consultative desk study, the major changes that have occured since 1982 in the field of shelter following natural disasters, as a foundation to the second phase, a full revision of the 1982 guidelines ‘Shelter After Disaster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99ff"/>
                </a:solidFill>
                <a:latin typeface="Times New Roman"/>
              </a:rPr>
              <a:t>2005 what is nex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Phase 1 sponsored by UN OCHA  to be completed by the end of January 2006, with contributions from 10 expe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Gaps identified and a structure developed for the 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Phase 2 planned with support from Df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1982 - 2005, Shelter After Disaster, </a:t>
            </a:r>
            <a:br>
              <a:rPr sz="3600"/>
            </a:br>
            <a:r>
              <a:rPr b="1" lang="en-US" sz="36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Phase 1 scoping st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nges in nature and extent of hazards faced since 198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ends in vulnerabilities and capacities, both rural and urban for the same period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in operational response policy, capacity&amp;approach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knowledge available, including a review of publications, academic literature, conferences, evaluations and situation repor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1982 Shelter After Disaster: cont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I.Emergency 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Resource of survivors </a:t>
            </a:r>
            <a:r>
              <a:rPr b="0" i="1" lang="fr-CH" sz="2800" spc="-1" strike="noStrike">
                <a:solidFill>
                  <a:srgbClr val="000000"/>
                </a:solidFill>
                <a:latin typeface="Times New Roman"/>
              </a:rPr>
              <a:t>as primary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Allocation of roles for assisting groups </a:t>
            </a:r>
            <a:r>
              <a:rPr b="0" i="1" lang="fr-CH" sz="2800" spc="-1" strike="noStrike">
                <a:solidFill>
                  <a:srgbClr val="000000"/>
                </a:solidFill>
                <a:latin typeface="Times New Roman"/>
              </a:rPr>
              <a:t>by local administration –who, where,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Assessment of needs </a:t>
            </a:r>
            <a:r>
              <a:rPr b="0" i="1" lang="fr-CH" sz="2800" spc="-1" strike="noStrike">
                <a:solidFill>
                  <a:srgbClr val="000000"/>
                </a:solidFill>
                <a:latin typeface="Times New Roman"/>
              </a:rPr>
              <a:t>versus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Evacuation of survivors </a:t>
            </a:r>
            <a:r>
              <a:rPr b="0" i="1" lang="fr-CH" sz="2800" spc="-1" strike="noStrike">
                <a:solidFill>
                  <a:srgbClr val="000000"/>
                </a:solidFill>
                <a:latin typeface="Times New Roman"/>
              </a:rPr>
              <a:t>voluntar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Role of emergency shelter </a:t>
            </a:r>
            <a:r>
              <a:rPr b="0" i="1" lang="fr-CH" sz="2800" spc="-1" strike="noStrike">
                <a:solidFill>
                  <a:srgbClr val="000000"/>
                </a:solidFill>
                <a:latin typeface="Times New Roman"/>
              </a:rPr>
              <a:t>attributed too high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Shelter strategies </a:t>
            </a:r>
            <a:r>
              <a:rPr b="0" i="1" lang="fr-CH" sz="2800" spc="-1" strike="noStrike">
                <a:solidFill>
                  <a:srgbClr val="000000"/>
                </a:solidFill>
                <a:latin typeface="Times New Roman"/>
              </a:rPr>
              <a:t>between emergency&amp;re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Contingency planning </a:t>
            </a:r>
            <a:r>
              <a:rPr b="0" i="1" lang="fr-CH" sz="2800" spc="-1" strike="noStrike">
                <a:solidFill>
                  <a:srgbClr val="000000"/>
                </a:solidFill>
                <a:latin typeface="Times New Roman"/>
              </a:rPr>
              <a:t>to anticipate shelt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II. Post-disaster ho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Reconstruction: opportunity for risk reduction and re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Relocation of sett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Land use and land ten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Financing shelter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creates depend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III. 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Rising expectations;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cost of prefabs make them permanent;  sets a standard for modern reconstruction; creates tension with non aff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Accountability of donors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to the recepients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Guidelines for the local level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for each post-disaster situation based on these general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99ff"/>
                </a:solidFill>
                <a:latin typeface="Times New Roman"/>
              </a:rPr>
              <a:t>Key changes since 198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5186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Hazard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Climate variability resulting in unexpected meteorological disast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Hazards simultaneously affecting multiple countries (Mitch,     Mozambique floods, tsunami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Shelter im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Demand on emergency shelter and housing, human resources and reconstruction finance simultaneously in several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99ff"/>
                </a:solidFill>
                <a:latin typeface="Times New Roman"/>
              </a:rPr>
              <a:t>Key changes since 198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Vulnerability tr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Population increase in high risk areas eg. China, India, Endonesia </a:t>
            </a:r>
            <a:r>
              <a:rPr b="0" i="1" lang="fr-CH" sz="2400" spc="-1" strike="noStrike">
                <a:solidFill>
                  <a:srgbClr val="000000"/>
                </a:solidFill>
                <a:latin typeface="Times New Roman"/>
              </a:rPr>
              <a:t>exposing large numbers of lives and assets at ris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Increased economic activity and  housing along the coastal areas </a:t>
            </a:r>
            <a:r>
              <a:rPr b="0" i="1" lang="fr-CH" sz="2400" spc="-1" strike="noStrike">
                <a:solidFill>
                  <a:srgbClr val="000000"/>
                </a:solidFill>
                <a:latin typeface="Times New Roman"/>
              </a:rPr>
              <a:t>resulting in losses of housing and livelihoo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Rapid urbanisation </a:t>
            </a:r>
            <a:r>
              <a:rPr b="0" i="1" lang="fr-CH" sz="2400" spc="-1" strike="noStrike">
                <a:solidFill>
                  <a:srgbClr val="000000"/>
                </a:solidFill>
                <a:latin typeface="Times New Roman"/>
              </a:rPr>
              <a:t>and lack of enforcement of land use and building standards increasing risk to propert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Urban poverty </a:t>
            </a:r>
            <a:r>
              <a:rPr b="0" i="1" lang="fr-CH" sz="2400" spc="-1" strike="noStrike">
                <a:solidFill>
                  <a:srgbClr val="000000"/>
                </a:solidFill>
                <a:latin typeface="Times New Roman"/>
              </a:rPr>
              <a:t>resulting in poor construction; settlement in unsafe areas; renters being left out of reconstru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Changes in housing technology (rural and urban) from vernacular to mode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Conflict and natural disasters in the same territory (Sri Lanka, Indonesia) </a:t>
            </a:r>
            <a:r>
              <a:rPr b="0" i="1" lang="fr-CH" sz="2400" spc="-1" strike="noStrike">
                <a:solidFill>
                  <a:srgbClr val="000000"/>
                </a:solidFill>
                <a:latin typeface="Times New Roman"/>
              </a:rPr>
              <a:t>creating politisation of aid and issues of equity in ho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99ff"/>
                </a:solidFill>
                <a:latin typeface="Times New Roman"/>
              </a:rPr>
              <a:t>Key changes since 1982</a:t>
            </a:r>
            <a:r>
              <a:rPr b="0" lang="fr-CH" sz="36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Times New Roman"/>
              </a:rPr>
              <a:t>Mitigating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Improved forcasting and early warning,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possibility of evacuation and saving lives; cyclone shelters etc.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Wide spread community based disaster preparednes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Housing finance for post-disaster housing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Transfer of risk through insurance and introduction of micro-insurance for housing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11:54:47Z</dcterms:created>
  <dc:creator>Antonella</dc:creator>
  <dc:description/>
  <dc:language>en-US</dc:language>
  <cp:lastModifiedBy>Antonella</cp:lastModifiedBy>
  <dcterms:modified xsi:type="dcterms:W3CDTF">2005-12-14T17:22:45Z</dcterms:modified>
  <cp:revision>42</cp:revision>
  <dc:subject/>
  <dc:title>PowerPoint Presentation</dc:title>
</cp:coreProperties>
</file>