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083C-E8AA-4E3C-A786-41BC3027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88E6-05B1-4142-A7E3-4A89A74D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CA97-018D-44BB-B0D7-F89E91F1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7F1E-DA77-40ED-86BF-CD0225D7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C02D-9B8B-43B9-8E25-7E747128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5FEE-AA10-47F8-9CC7-D9C0DEA4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EC4-78CE-4FD6-BAEF-0AC76597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E12-77A9-42A0-85F7-F09B33A4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E09B-9D5B-4C19-9065-A0691F33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20A0-348E-48C9-B200-7455924E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B5A9-2EE6-4963-91A2-502EF291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F1FB-0AB1-4B77-BECA-63845282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7A53-5D65-4867-875A-318E87C1A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FI and shade book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1 South Asia earthqu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Some exemple of MSF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 NF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y NFI in MSF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w k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 Shade net Book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book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467480" y="5943600"/>
            <a:ext cx="14479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Times New Roman"/>
              </a:rPr>
              <a:t>2-NF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Plastic Sh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Blan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1 MSFB specialist for NFI in Pakis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But we were just brainstormimg on new respo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391520" y="5867280"/>
            <a:ext cx="14475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Times New Roman"/>
              </a:rPr>
              <a:t>Why NFI in MSF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We are a medical organisation bu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NFI are part of the response of the top 10 priorities listed in our Refugee Health guid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Sometimes no other 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 we decided to create an internal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14479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Times New Roman"/>
              </a:rPr>
              <a:t>On going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NFI and distribution strategy memo by MSF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New familly kits prototype </a:t>
            </a:r>
            <a:r>
              <a:rPr b="0" lang="fr-CH" sz="1000" spc="-1" strike="noStrike">
                <a:solidFill>
                  <a:srgbClr val="000000"/>
                </a:solidFill>
                <a:latin typeface="Times New Roman"/>
              </a:rPr>
              <a:t>(vide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Operational will to stockpile k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Creation of kits lists to help adapting kits to local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Next step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315200" y="5867280"/>
            <a:ext cx="14479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Times New Roman"/>
              </a:rPr>
              <a:t>3- The Shade net book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One year ag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Let’s challenge Shelter Cente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And now the result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48320" y="1981080"/>
          <a:ext cx="4190760" cy="34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190760" cy="34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238880" y="5943600"/>
            <a:ext cx="14479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Times New Roman"/>
              </a:rPr>
              <a:t>What’s ne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Publish first version next year including all comments received from field, headquarters  and other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Field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New shade net spe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Other research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391520" y="5943600"/>
            <a:ext cx="14475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Times New Roman"/>
              </a:rPr>
              <a:t>1-South Asia Earthqu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MSF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Container hospit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Winterized 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MS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Inflatable tent hos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MSF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Winterized 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391520" y="5867280"/>
            <a:ext cx="14475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Times New Roman"/>
              </a:rPr>
              <a:t>Container hospi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lete field hospital 62x20’’,17x16" from Slovenia to be installed in Ba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50 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6 will leave by boat s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maining containers will be ready for 23rd of Dec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cond load of containers will be send by 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uss + roof will be build for sn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238880" y="5791320"/>
            <a:ext cx="14479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3906" t="23118" r="32031" b="16670"/>
          <a:stretch/>
        </p:blipFill>
        <p:spPr>
          <a:xfrm>
            <a:off x="0" y="228600"/>
            <a:ext cx="9144000" cy="62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Times New Roman"/>
              </a:rPr>
              <a:t>Inflatable 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New product for MSF (in wh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Not yet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Exp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Do be re-deplo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Water network still to be desig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40%20+%20100%20connected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315200" y="6019920"/>
            <a:ext cx="14479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Times New Roman"/>
              </a:rPr>
              <a:t>MSFB Winterised 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Tents made in Ch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Direct order from field to Ch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Size weight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96080" y="6095880"/>
            <a:ext cx="1447920" cy="609840"/>
          </a:xfrm>
          <a:prstGeom prst="rect">
            <a:avLst/>
          </a:prstGeom>
          <a:ln w="0">
            <a:noFill/>
          </a:ln>
        </p:spPr>
      </p:pic>
      <p:pic>
        <p:nvPicPr>
          <p:cNvPr id="58" name="M6" descr=""/>
          <p:cNvPicPr/>
          <p:nvPr/>
        </p:nvPicPr>
        <p:blipFill>
          <a:blip r:embed="rId2"/>
          <a:stretch/>
        </p:blipFill>
        <p:spPr>
          <a:xfrm>
            <a:off x="5105520" y="1600200"/>
            <a:ext cx="3085920" cy="4114800"/>
          </a:xfrm>
          <a:prstGeom prst="rect">
            <a:avLst/>
          </a:prstGeom>
          <a:ln w="0">
            <a:noFill/>
          </a:ln>
        </p:spPr>
      </p:pic>
      <p:pic>
        <p:nvPicPr>
          <p:cNvPr id="59" name="M4" descr=""/>
          <p:cNvPicPr/>
          <p:nvPr/>
        </p:nvPicPr>
        <p:blipFill>
          <a:blip r:embed="rId3"/>
          <a:stretch/>
        </p:blipFill>
        <p:spPr>
          <a:xfrm>
            <a:off x="1219320" y="44197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      Dimension: 12m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      Ground sheet inclu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      Insulated for temperatures to -30º Celsi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  Metal frame to support the tent, includ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ghtening str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      Fire resistant fabrics to be used, data sheets to b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d by manufactur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      One door, four windows with cover, a ventila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le and a chimney hole are fores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       One tent is packed in two parcels, one bag for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bric, one carton box for the metal fr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      Manual in pictogram style for easy set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material for safe set up are included, picks, ropes, hamm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315200" y="5867280"/>
            <a:ext cx="14479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SFF/H 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Neue-Condensed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Neue-CondensedBlack"/>
              </a:rPr>
              <a:t>All Weather tent 4x4 - mod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Neue-Condensed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Neue-CondensedBlack"/>
              </a:rPr>
              <a:t>Ref : UN 2716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Neue-Condensed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Neue-CondensedBlack"/>
              </a:rPr>
              <a:t>Specs : 6-10 pers. Comfort family refugee ten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Neue-Condensed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Neue-CondensedBlack"/>
              </a:rPr>
              <a:t>Enhance performance in cold and hot cl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Neue-Condensed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Neue-CondensedBlack"/>
              </a:rPr>
              <a:t>Can be used single fold or double f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Neue-Condensed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Neue-CondensedBlack"/>
              </a:rPr>
              <a:t>Sizes : tent - 500x400x220cm H. (wall : 120cm 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Neue-Condensed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Neue-CondensedBlack"/>
              </a:rPr>
              <a:t>Inner tent – 400x380x210cm, (wall 110 cm 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Neue-Condensed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Neue-CondensedBlack"/>
              </a:rPr>
              <a:t>Surface : tent 16 sqm, vestibule 3 sqm, awning 2 sq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Neue-Condensed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Neue-CondensedBlack"/>
              </a:rPr>
              <a:t>Material : tent 380 gsm cotton fab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Neue-Condensed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Neue-CondensedBlack"/>
              </a:rPr>
              <a:t>Inner tent 200 gsm cot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Neue-Condensed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Neue-CondensedBlack"/>
              </a:rPr>
              <a:t>Ground sheet woven HDPE 200 g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11075" t="13289" r="7383" b="21657"/>
          <a:stretch/>
        </p:blipFill>
        <p:spPr>
          <a:xfrm>
            <a:off x="123840" y="838080"/>
            <a:ext cx="902016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11075" t="13289" r="9598" b="9844"/>
          <a:stretch/>
        </p:blipFill>
        <p:spPr>
          <a:xfrm>
            <a:off x="685800" y="533520"/>
            <a:ext cx="773748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1:06:25Z</dcterms:created>
  <dc:creator>unepdesktop</dc:creator>
  <dc:description/>
  <dc:language>en-US</dc:language>
  <cp:lastModifiedBy>unepdesktop</cp:lastModifiedBy>
  <dcterms:modified xsi:type="dcterms:W3CDTF">2005-11-17T12:57:51Z</dcterms:modified>
  <cp:revision>7</cp:revision>
  <dc:subject/>
  <dc:title>NFI and shade booklet</dc:title>
</cp:coreProperties>
</file>