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564-9FC8-4CCD-965B-79CDE88D72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review of new initiatives e.g. CERF, role of private secto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E99-446B-4043-89C8-50B0E13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A37-5129-4DC8-841D-3D0ADB1F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6B4-D930-4527-87A5-757CAFF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A6C-D26F-4264-A1E4-F46E3AC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725-4ED8-4BF2-943B-90088332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958-7B52-429C-AABE-6FAD810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3B7-F9A7-4632-9E5F-605A1CD6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858-A9E6-4563-BA7D-E08272B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6B3-A506-4E7C-9E01-C3A0B6E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65D-3668-499D-97DA-B3858D83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24B-2174-4E02-B4A9-6D22934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C21-51DE-473A-A5C6-ACEF9F35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0CB-95DF-49BE-AECB-DA889C9548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4AF8-FC28-4CF7-8BAA-15FC189B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umanitarian Response Review (HR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&amp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ASC Emergency Shelter Working Group Proces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ham Saunders, CRS, on behalf of Sphere/ICVA/SCHR/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umanitarian Response Review (HR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per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humanitarian response does not al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et the basic needs of affected populations in a timely fash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pond comparably to different cri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s sufficient human resource capacity to respond to the demands of concurrent major c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 in a timely  fashion once political agreements have been reached e.g. Darf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icit similar response from donors e.g. tsunami disaster vis-à-vis forgotten complex humanitarian emergenci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verview of H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ssess the overall humanitarian response capacity of UN, NGOs, and Red Cross/Red Crescent, and other key humanitarian actors, including I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dentify possible gaps in expertise, management and resources of these capa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commend measures that need to be taken to address the shortcom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velop a joint plan of action to improve the effectiveness and timeliness of the humanitarian response to emergencies. (By IA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mproved coordination of international respon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trengthen response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Benchmarks to measur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vised funding mechanisms to enable timel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toral Working Groups -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the role and responsibilities of a sectoral lead a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e actionable recommendations for improving the predictability, speed and effectiveness of international humanitarian response in th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mend to the IASC Principals for decision which IASC agency/ies should be the sectoral lead agency on a global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se an implementation plan for short, medium and long term actionable recommendations and prepare options if there is no consens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toral Working Group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d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mergency shelter - UNHC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amp management - UNH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Water &amp; sanitation - UNIC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utrition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rapeu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upplementary Feeding - UNICE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ealth -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integration and Recovery - UN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gistics - W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mergency Telecommunications - W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including Return) - UNH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mergency Shelter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200" y="1676520"/>
            <a:ext cx="815652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 to improve humanitarian response in Emergency She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Shelter strategies, staff resources,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pacities and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, NFIs,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ponse in selected existing emer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-UN actor invol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GOs, donor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oss-cuttin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ender, age, diversity, special needs,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ordinated response planning and preparedness meas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riggers, role throughoutOutstanding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mergency Shelter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Plan: Phased Introduction and Priority Recommendations for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velop Emergency Shelter Strategies and SOPs considering the different needs for both natural disaster and complex emer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S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elter and related NFI stockpiles and information 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ff for Emergency Shelte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isk Map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tio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mergency Shelter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standing iss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ffing resources to work up expected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aring of NFI/stockpil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elter and overlap between Emergency Shelter &amp; Recovery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ding for ES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uster-specific resour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emergency of 500,000 persons x 3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aham Saunders</cp:lastModifiedBy>
  <dcterms:modified xsi:type="dcterms:W3CDTF">2005-11-16T22:19:19Z</dcterms:modified>
  <cp:revision>85</cp:revision>
  <dc:subject/>
  <dc:title>PowerPoint Presentation</dc:title>
</cp:coreProperties>
</file>