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09680" y="312588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12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8876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820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0968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8876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820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09680" y="232920"/>
            <a:ext cx="64454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12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09680" y="312588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512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8876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820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0968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8876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820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09680" y="232920"/>
            <a:ext cx="64454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12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0" y="0"/>
            <a:ext cx="1905120" cy="639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828800" y="0"/>
            <a:ext cx="73152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7400" y="378000"/>
            <a:ext cx="685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22360" y="233280"/>
            <a:ext cx="616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22360" y="1584360"/>
            <a:ext cx="58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680" y="232920"/>
            <a:ext cx="6445440" cy="608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209680" y="6496200"/>
            <a:ext cx="51055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17th - 18th November 2005  |  Geneva   |  hosted by UN-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90600" y="6480000"/>
            <a:ext cx="1123920" cy="2192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22320" y="6437160"/>
            <a:ext cx="187164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399360"/>
            <a:ext cx="91440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6496200"/>
            <a:ext cx="51055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17th - 18th November 2005  |  Geneva   |  hosted by UN-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320" y="6437160"/>
            <a:ext cx="187164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8892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39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09680" y="1189080"/>
            <a:ext cx="6542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Arial"/>
              </a:rPr>
              <a:t>structure for        </a:t>
            </a:r>
            <a:r>
              <a:rPr b="1" i="1" lang="en-GB" sz="4400" spc="-1" strike="noStrike">
                <a:solidFill>
                  <a:srgbClr val="ff6600"/>
                </a:solidFill>
                <a:latin typeface="Arial"/>
              </a:rPr>
              <a:t>Shelter after Disaster</a:t>
            </a:r>
            <a:r>
              <a:rPr b="1" lang="en-GB" sz="4400" spc="-1" strike="noStrike">
                <a:solidFill>
                  <a:srgbClr val="ff6600"/>
                </a:solidFill>
                <a:latin typeface="Arial"/>
              </a:rPr>
              <a:t> guidelines r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m Corsellis &amp; Antonella Vi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ter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tructure for guide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1584360"/>
            <a:ext cx="200196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 a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 b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b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it and c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e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133640"/>
            <a:ext cx="18669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Arial"/>
              </a:rPr>
              <a:t>Transitional settlement: Displaced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24320" y="954000"/>
            <a:ext cx="0" cy="544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34160" y="998640"/>
            <a:ext cx="0" cy="544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78800" y="1584360"/>
            <a:ext cx="200160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 fontScale="92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1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Negotiations prior to Camp se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mp setup and care &amp; maintenance of c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3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unity participation and camp committ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4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istration and data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5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6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ild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7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vention of gender based vio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8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mp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18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mp clo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78800" y="1133640"/>
            <a:ext cx="1866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Arial"/>
              </a:rPr>
              <a:t>Camp Management Toolkit, 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32000" y="1584360"/>
            <a:ext cx="166536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 fontScale="91000"/>
          </a:bodyPr>
          <a:p>
            <a:pPr marL="375480" indent="-37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ext and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37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37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she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37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-disaster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37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3754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375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e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37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se study summ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37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earch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37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finitions of UNDRO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37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37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lementary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37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lms and slide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37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o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37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s of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32000" y="1133640"/>
            <a:ext cx="18669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 fontScale="99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Arial"/>
              </a:rPr>
              <a:t>Shelter after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  <a:ea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2000" y="1069920"/>
            <a:ext cx="166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a sequ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strategy/ implement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strategy on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2000" y="2664000"/>
            <a:ext cx="730080" cy="1035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2000" y="3776760"/>
            <a:ext cx="720720" cy="1147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0" t="3405" r="0" b="0"/>
          <a:stretch/>
        </p:blipFill>
        <p:spPr>
          <a:xfrm>
            <a:off x="162000" y="5002200"/>
            <a:ext cx="7682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tructure for guide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4320" y="954000"/>
            <a:ext cx="0" cy="544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37000" y="1584360"/>
            <a:ext cx="450072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 fontScale="97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ro/context (conflict reconstr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bjectives of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 2 (decision making tree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keholders engagement at all levels (national/loc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k of shelter sectoral strategy with national/regional/local cross-sectoral response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act and needs assessment monitoring and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itical path analysis/SWOT/C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ionale (situation specific guidelines and standar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ect based planning/implementa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shelter and reconstruction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aster based specific shelter respo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81640" y="1133640"/>
            <a:ext cx="44323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Arial"/>
              </a:rPr>
              <a:t>Shelter after Disaster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  <a:ea typeface="Arial"/>
              </a:rPr>
              <a:t>revi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85920" y="1628640"/>
            <a:ext cx="2160720" cy="42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 fontScale="99000"/>
          </a:bodyPr>
          <a:p>
            <a:pPr marL="408600" indent="-40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ext and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she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-disaster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e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se study summ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earch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finitions of UNDRO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lementary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lms and slide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o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s of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76640" y="1133640"/>
            <a:ext cx="1866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 fontScale="99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Arial"/>
              </a:rPr>
              <a:t>Shelter after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  <a:ea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2000" y="1224000"/>
            <a:ext cx="15555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0T16:13:04Z</dcterms:created>
  <dc:creator>shelter2</dc:creator>
  <dc:description/>
  <dc:language>en-US</dc:language>
  <cp:lastModifiedBy>volunteer</cp:lastModifiedBy>
  <dcterms:modified xsi:type="dcterms:W3CDTF">2005-12-15T13:43:29Z</dcterms:modified>
  <cp:revision>530</cp:revision>
  <dc:subject/>
  <dc:title>title</dc:title>
</cp:coreProperties>
</file>