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0"/>
            <a:ext cx="1905120" cy="639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0"/>
            <a:ext cx="7315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7400" y="378000"/>
            <a:ext cx="685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2360" y="233280"/>
            <a:ext cx="616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22360" y="158436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32920"/>
            <a:ext cx="6445440" cy="60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0600" y="6480000"/>
            <a:ext cx="1123920" cy="219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9360"/>
            <a:ext cx="91440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8892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39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9680" y="1189080"/>
            <a:ext cx="65422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Shelter Centre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133640"/>
            <a:ext cx="693432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nteer and internship capacit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database of potential volunteers for 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projects undertaken outside the aid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experienced professionals as well as gradu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Meeting organisations should feel free to contact volunteers through th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ed sectoral capacity, advocacy, innovation an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1551240" cy="1163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6100920"/>
            <a:ext cx="112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51280" y="6100920"/>
            <a:ext cx="14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6100920"/>
            <a:ext cx="148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37560" y="6100920"/>
            <a:ext cx="110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133640"/>
            <a:ext cx="69343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Volunteer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database of potential volunteers for 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do you need volunte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projects undertaken outside the aid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ould you like to be able to request proj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experienced professionals as well as gradu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basic training should be offered to make them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suitable for first miss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basic experience do volunteers need?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information about them do you ne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what information about them do you need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an online order for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contact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brief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133640"/>
            <a:ext cx="60962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, coordinated with existing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trained potential first missions who have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ne, or wish to do, paid fiel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.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academic capacity able to undertak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evaluation, and NFI research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lter Register 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ally be coordinated with existing services an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ed access to capacity, opportunities for capacity building an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86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5769000"/>
            <a:ext cx="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2000" y="6100920"/>
            <a:ext cx="112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51280" y="6100920"/>
            <a:ext cx="14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6100920"/>
            <a:ext cx="148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37560" y="6100920"/>
            <a:ext cx="110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133640"/>
            <a:ext cx="609624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Regist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rained potential first missions who h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e work or wish to do paid fiel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would your requirements be to mak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use of such as regis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cademic capacity able to underta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evaluation, and NFI research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ould you make use of such capac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6054840"/>
            <a:ext cx="39625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ild and populate Shelter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041640" y="6203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93080" y="620388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089000"/>
            <a:ext cx="61722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shelterlibrary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of the field library www.shelterlibrary.org, on-line and via 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 100 key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us other guidelines, standards, software, country profiles, convers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130640" y="4199040"/>
            <a:ext cx="1379520" cy="1974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34160" y="4199040"/>
            <a:ext cx="1239840" cy="197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0" t="3405" r="0" b="0"/>
          <a:stretch/>
        </p:blipFill>
        <p:spPr>
          <a:xfrm>
            <a:off x="7397640" y="4245120"/>
            <a:ext cx="1366920" cy="1928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06280" y="954000"/>
            <a:ext cx="16653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Shelter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web lo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verage 90 visits per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:DP’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 /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ter sanitation and shelter equipment manua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Oxf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6 /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conversion charts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430 /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232000" y="4606920"/>
            <a:ext cx="1575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shelterlibrary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arch function ad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280" y="248616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ontributor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SF –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H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IS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/O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xfam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her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33219" b="0"/>
          <a:stretch/>
        </p:blipFill>
        <p:spPr>
          <a:xfrm>
            <a:off x="2185920" y="3878280"/>
            <a:ext cx="1755720" cy="2390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rcRect l="0" t="32295" r="18921" b="0"/>
          <a:stretch/>
        </p:blipFill>
        <p:spPr>
          <a:xfrm>
            <a:off x="3402000" y="2496960"/>
            <a:ext cx="5265720" cy="16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162000" y="7920"/>
            <a:ext cx="1743120" cy="18208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ew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5!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02200" y="4554360"/>
            <a:ext cx="465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now search inside the Word and PDF documents held on the 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2743200"/>
            <a:ext cx="64580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other sector material would you like to s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general material would you like to see?           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e.g. 1951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has material to contribu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33560" y="4048200"/>
            <a:ext cx="3657600" cy="2341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112716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entre has received funding from DFID-CHAD to develop the follow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deliver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next 3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2286000"/>
            <a:ext cx="416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liver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Volun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89000"/>
            <a:ext cx="64580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of the sectoral forum www.sheltermeeting.org to include stakeholders appropriate to the guidelines revision and other outputs, including Southern and IFI representation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6280" y="933480"/>
            <a:ext cx="1665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past participant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DFID CHAD-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IC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SAID OFD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H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/O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-HABITA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FRC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xfam GB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RedR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FL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Sphere Proje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SF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&amp;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idworld Humanitarian I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ranfield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am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124080"/>
            <a:ext cx="65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how is Shelter Meeting to be conducted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3489" r="0" b="50101"/>
          <a:stretch/>
        </p:blipFill>
        <p:spPr>
          <a:xfrm>
            <a:off x="2232000" y="3657600"/>
            <a:ext cx="6454800" cy="176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568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49236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416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844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0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5000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598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904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8460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6712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57224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65476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089000"/>
            <a:ext cx="65930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eet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st it has been 2 days every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elter Centre programme review will now take one of those days… should it then be 2 days plus 1 day for the Shelter Centre programme re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ues outside Genev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satellite meetings in the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Shelter Meeting welcome hosting the sectoral cluster meeting, should the cluster reques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280" y="933480"/>
            <a:ext cx="1665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past participant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DFID CHAD-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IC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SAID OFD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H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/O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-HABITA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FRC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xfam GB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RedR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FL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Sphere Proje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SF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&amp;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idworld Humanitarian I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ranfield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am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568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9236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416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0844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80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8440" y="62197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98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55904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8460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56712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57224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65476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1089000"/>
            <a:ext cx="663732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 fund to be managed by Shelter Centre but guided by the Shelter Meeting and following DFID Conflict and Humanitarian Fun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6 meetings over 3 years, each with a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se th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who is to undertake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other revenue streams for Shelter Funding,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pecific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d capacity, engagement of donors, advocacy, sustainability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868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89000"/>
            <a:ext cx="69343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Funding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previous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‘Translation of the transitional settlement guidelines into oth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nguag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publicly-available on-line library on reconstruction issues, … case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mission reports, contributed by the Shelter Meeting participant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. Field assessment tools should also be included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ll as countr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 lessons learned.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training programme for decision makers and government officials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toolkit and procurement manual for wood, and later oth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erial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n independent study should be rapidly made of impregnated plastic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eeting, concentrating upon safety, effectiveness, appropriatenes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ost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Guidelines on the use of plastic sheeting should be updated and ma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ely available (ref Howard and Spice, Oxfam GB, 1979) 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Preliminary review of existing NFIs guidelines, prior to final decision 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uidelines on the use of plastic sheeting including other shelter NFI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ch as shadow netting, blankets, and stov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9625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6240" y="2998800"/>
            <a:ext cx="158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uideline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mission of proposals for funding will be circulated by the end of January 2006 to elicit first proposals to be discussed at 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08900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Fund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30481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ny other project proposa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an we finalise a l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will do the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664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236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272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344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200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0272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1133640"/>
            <a:ext cx="663732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training capacity for th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expans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sheltertraining.org, including training from 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at yo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dquarters, leaving you with a training 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for the needs of your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fiel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143000"/>
            <a:ext cx="1800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lates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sic GPS training will be developed by Shelter Centre and Ma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 Oxfam GB, which has kindly granted permission to make it freely available on the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25920" y="5994360"/>
            <a:ext cx="472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 to train at headquarters or in the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1280" y="61452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97720" y="61437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133640"/>
            <a:ext cx="66294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73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Train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expansion of www.sheltertraining.org, including training from other organisations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other training would you like us to develop? what other training do you have that we can post on Shelter Trai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at your headquarters, leaving you with a training course developed for the needs of your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ants free trai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in some fiel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ould host Shelter Cent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16:13:04Z</dcterms:created>
  <dc:creator>shelter2</dc:creator>
  <dc:description/>
  <dc:language>en-US</dc:language>
  <cp:lastModifiedBy>volunteer</cp:lastModifiedBy>
  <dcterms:modified xsi:type="dcterms:W3CDTF">2005-12-15T13:02:51Z</dcterms:modified>
  <cp:revision>530</cp:revision>
  <dc:subject/>
  <dc:title>title</dc:title>
</cp:coreProperties>
</file>