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3.jpeg" ContentType="image/jpeg"/>
  <Override PartName="/ppt/media/image43.wmf" ContentType="image/x-wmf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352-264D-47FE-980D-2A61ABBE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A4F-E4A9-45E2-AE65-DECD357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7B1-72DD-40E3-9040-01E72F77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303-A80C-47D6-AB37-47F6E63E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F33-C193-4F75-BFB8-0D062ED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A9B-F55B-4B04-85A9-E446AD47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AD4-F046-470A-BE3A-F7E2DA6B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3AE-65C9-411A-94C8-7EDB4E1D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43-B567-4D88-AF7F-1CAED1F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50E-47BA-4E16-A4BF-40ABD36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F8A-9655-4D17-B2EC-579273DD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D15-DC07-44A2-9C2A-4082F4C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EC5-9BDE-4051-8739-F55180C36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971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FROM RELIEF TO DEVELOP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2485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Sandra D ’Urzo, architect , ShelterProject Review, 4 november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5%20Salvador" descr=""/>
          <p:cNvPicPr/>
          <p:nvPr/>
        </p:nvPicPr>
        <p:blipFill>
          <a:blip r:embed="rId1"/>
          <a:stretch/>
        </p:blipFill>
        <p:spPr>
          <a:xfrm>
            <a:off x="304920" y="1521000"/>
            <a:ext cx="8610480" cy="3751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5562720"/>
            <a:ext cx="6400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fr-FR" sz="1600" spc="-1" strike="noStrike">
                <a:solidFill>
                  <a:srgbClr val="ffffff"/>
                </a:solidFill>
                <a:latin typeface="Century Gothic"/>
              </a:rPr>
              <a:t> For justice and for love, please rebuid, thank you </a:t>
            </a: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entury Gothic"/>
              </a:rPr>
              <a:t>graffiti on a house damaged by the 2001 earthquak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entury Gothic"/>
              </a:rPr>
              <a:t>San Salv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..to long-lasting developm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" descr=""/>
          <p:cNvPicPr/>
          <p:nvPr/>
        </p:nvPicPr>
        <p:blipFill>
          <a:blip r:embed="rId1"/>
          <a:stretch/>
        </p:blipFill>
        <p:spPr>
          <a:xfrm>
            <a:off x="-457200" y="2416320"/>
            <a:ext cx="274320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5" descr=""/>
          <p:cNvPicPr/>
          <p:nvPr/>
        </p:nvPicPr>
        <p:blipFill>
          <a:blip r:embed="rId2"/>
          <a:stretch/>
        </p:blipFill>
        <p:spPr>
          <a:xfrm>
            <a:off x="4495680" y="241632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75" name="2" descr=""/>
          <p:cNvPicPr/>
          <p:nvPr/>
        </p:nvPicPr>
        <p:blipFill>
          <a:blip r:embed="rId3"/>
          <a:stretch/>
        </p:blipFill>
        <p:spPr>
          <a:xfrm>
            <a:off x="1981080" y="2416320"/>
            <a:ext cx="2819520" cy="1885680"/>
          </a:xfrm>
          <a:prstGeom prst="rect">
            <a:avLst/>
          </a:prstGeom>
          <a:ln w="0">
            <a:noFill/>
          </a:ln>
        </p:spPr>
      </p:pic>
      <p:pic>
        <p:nvPicPr>
          <p:cNvPr id="76" name="9" descr=""/>
          <p:cNvPicPr/>
          <p:nvPr/>
        </p:nvPicPr>
        <p:blipFill>
          <a:blip r:embed="rId4"/>
          <a:stretch/>
        </p:blipFill>
        <p:spPr>
          <a:xfrm>
            <a:off x="6705720" y="2416320"/>
            <a:ext cx="2971800" cy="192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7920" y="4876920"/>
            <a:ext cx="69339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s-ES_tradnl" sz="1600" spc="-1" strike="noStrike">
                <a:solidFill>
                  <a:srgbClr val="ffffff"/>
                </a:solidFill>
                <a:latin typeface="Century Gothic"/>
              </a:rPr>
              <a:t>Prefiero morir de una sola vez si tiene que venir otro Mitch que morir poco a poco de hambre en una bonita casa, allá abajo en el val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Century Gothic"/>
              </a:rPr>
              <a:t>“ </a:t>
            </a:r>
            <a:r>
              <a:rPr b="0" i="1" lang="es-ES_tradnl" sz="1600" spc="-1" strike="noStrike">
                <a:solidFill>
                  <a:srgbClr val="ffffff"/>
                </a:solidFill>
                <a:latin typeface="Century Gothic"/>
              </a:rPr>
              <a:t>I’d rather die at  once if another hurrican Mitch came over than die slowly of hunger in a nicely built house, there, down in the valle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Century Gothic"/>
              </a:rPr>
              <a:t>Inhabitant of a “colonia” rebuilt after hurrical Mitch in Salv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92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Persisting dilemmas of disater hit context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land ownership, work opportunities, cultural identity, structural pover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am%20adobe" descr=""/>
          <p:cNvPicPr/>
          <p:nvPr/>
        </p:nvPicPr>
        <p:blipFill>
          <a:blip r:embed="rId1"/>
          <a:stretch/>
        </p:blipFill>
        <p:spPr>
          <a:xfrm>
            <a:off x="-152280" y="2209680"/>
            <a:ext cx="3047760" cy="2192400"/>
          </a:xfrm>
          <a:prstGeom prst="rect">
            <a:avLst/>
          </a:prstGeom>
          <a:ln w="0">
            <a:noFill/>
          </a:ln>
        </p:spPr>
      </p:pic>
      <p:pic>
        <p:nvPicPr>
          <p:cNvPr id="80" name="adobe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3324240" cy="2212920"/>
          </a:xfrm>
          <a:prstGeom prst="rect">
            <a:avLst/>
          </a:prstGeom>
          <a:ln w="0">
            <a:noFill/>
          </a:ln>
        </p:spPr>
      </p:pic>
      <p:pic>
        <p:nvPicPr>
          <p:cNvPr id="81" name="bam%20gosse%20perdu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3353040" cy="2227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4952880"/>
            <a:ext cx="7696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Century Gothic"/>
              </a:rPr>
              <a:t>«I won ’t live in these prefabs. I can ’t stay away from my family, I prefer sleeping in a tent nearby the place where my children were buried and rebuild my hous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entury Gothic"/>
              </a:rPr>
              <a:t>Bam, an inhabitant of the old city, february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5943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Afghanistan</a:t>
            </a:r>
            <a:r>
              <a:rPr b="0" lang="en-GB" sz="1600" spc="-1" strike="noStrike">
                <a:solidFill>
                  <a:srgbClr val="ffffff"/>
                </a:solidFill>
                <a:latin typeface="Century Gothic"/>
              </a:rPr>
              <a:t> : 200</a:t>
            </a: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Century Gothic"/>
              </a:rPr>
              <a:t>-200</a:t>
            </a: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4</a:t>
            </a:r>
            <a:r>
              <a:rPr b="0" lang="en-GB" sz="1600" spc="-1" strike="noStrike">
                <a:solidFill>
                  <a:srgbClr val="ffffff"/>
                </a:solidFill>
                <a:latin typeface="Century Gothic"/>
              </a:rPr>
              <a:t> /  </a:t>
            </a: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Recostruction of the cinema Ariana in Kabo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85800"/>
            <a:ext cx="4572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post-war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skills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pilot project / architectural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educati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34120" y="533520"/>
            <a:ext cx="3429000" cy="2286000"/>
            <a:chOff x="5334120" y="533520"/>
            <a:chExt cx="3429000" cy="22860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34120" y="533520"/>
              <a:ext cx="3429000" cy="2286000"/>
            </a:xfrm>
            <a:prstGeom prst="rect">
              <a:avLst/>
            </a:prstGeom>
            <a:ln w="9360">
              <a:solidFill>
                <a:srgbClr val="ffff99"/>
              </a:solidFill>
              <a:miter/>
            </a:ln>
          </p:spPr>
        </p:pic>
        <p:sp>
          <p:nvSpPr>
            <p:cNvPr id="88" name=""/>
            <p:cNvSpPr txBox="1"/>
            <p:nvPr/>
          </p:nvSpPr>
          <p:spPr>
            <a:xfrm>
              <a:off x="5334120" y="533520"/>
              <a:ext cx="342900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295280"/>
            <a:ext cx="83055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entury Gothic"/>
              </a:rPr>
              <a:t>« Added value » on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Skills development: on-the-spot training workshops for masons, technicians, handicraf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Use of local building materials and techniques, avoiding the Introduction on the local marketplace of inappropriate materials that asphyxiate local ec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Start parallel dynamics such as pedagogical workshops with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Build up and strengthen partnerships with architectural faculties, promoting exchange on this pilot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Promote dissemination activities (research and networking, training manu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Improve the quality of the re-built environment with replicable techniques</a:t>
            </a: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Century Gothic"/>
              </a:rPr>
              <a:t> small-scale enterpri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1818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62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457200" y="182880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240" y="606096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ausa%20thé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martello" descr=""/>
          <p:cNvPicPr/>
          <p:nvPr/>
        </p:nvPicPr>
        <p:blipFill>
          <a:blip r:embed="rId3"/>
          <a:stretch/>
        </p:blipFill>
        <p:spPr>
          <a:xfrm>
            <a:off x="6324480" y="18288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21597600">
            <a:off x="228600" y="5866920"/>
            <a:ext cx="54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SKILL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telier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finestra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pannelli" descr=""/>
          <p:cNvPicPr/>
          <p:nvPr/>
        </p:nvPicPr>
        <p:blipFill>
          <a:blip r:embed="rId3"/>
          <a:stretch/>
        </p:blipFill>
        <p:spPr>
          <a:xfrm>
            <a:off x="6172200" y="1676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e tradition of the oppressed teaches us that the state of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emergency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in which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ive is not the exception but the rule.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e must attain to a concept of history that is keeping with this insight” 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lter Benjam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aggio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1" name="tetto" descr=""/>
          <p:cNvPicPr/>
          <p:nvPr/>
        </p:nvPicPr>
        <p:blipFill>
          <a:blip r:embed="rId2"/>
          <a:stretch/>
        </p:blipFill>
        <p:spPr>
          <a:xfrm>
            <a:off x="990720" y="76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280" y="3362400"/>
            <a:ext cx="4648320" cy="3190680"/>
          </a:xfrm>
          <a:prstGeom prst="rect">
            <a:avLst/>
          </a:prstGeom>
          <a:ln w="0">
            <a:noFill/>
          </a:ln>
        </p:spPr>
      </p:pic>
      <p:pic>
        <p:nvPicPr>
          <p:cNvPr id="103" name="hall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962520" cy="264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3840" y="27000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3174840"/>
            <a:ext cx="4038480" cy="2652840"/>
            <a:chOff x="0" y="3174840"/>
            <a:chExt cx="4038480" cy="26528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0" y="3174840"/>
              <a:ext cx="403848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0" y="3174840"/>
              <a:ext cx="4038480" cy="26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05520" y="1171440"/>
            <a:ext cx="2895480" cy="2638440"/>
            <a:chOff x="5105520" y="1171440"/>
            <a:chExt cx="2895480" cy="263844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5105520" y="1171440"/>
              <a:ext cx="289548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105520" y="1171440"/>
              <a:ext cx="2895480" cy="26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38480" y="3795840"/>
            <a:ext cx="3962520" cy="2681280"/>
            <a:chOff x="4038480" y="3795840"/>
            <a:chExt cx="3962520" cy="268128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4038480" y="3795840"/>
              <a:ext cx="396252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4038480" y="3795840"/>
              <a:ext cx="3962520" cy="26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80880" y="624852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entury Gothic"/>
              </a:rPr>
              <a:t>Launching education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533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33920" y="57592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entury Gothic"/>
              </a:rPr>
              <a:t>Urban exhibition during the construction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006,1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913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alle1" descr=""/>
          <p:cNvPicPr/>
          <p:nvPr/>
        </p:nvPicPr>
        <p:blipFill>
          <a:blip r:embed="rId1"/>
          <a:stretch/>
        </p:blipFill>
        <p:spPr>
          <a:xfrm>
            <a:off x="1905120" y="-152280"/>
            <a:ext cx="5333760" cy="3554280"/>
          </a:xfrm>
          <a:prstGeom prst="rect">
            <a:avLst/>
          </a:prstGeom>
          <a:ln w="0">
            <a:noFill/>
          </a:ln>
        </p:spPr>
      </p:pic>
      <p:pic>
        <p:nvPicPr>
          <p:cNvPr id="122" name="exterior1" descr=""/>
          <p:cNvPicPr/>
          <p:nvPr/>
        </p:nvPicPr>
        <p:blipFill>
          <a:blip r:embed="rId2"/>
          <a:stretch/>
        </p:blipFill>
        <p:spPr>
          <a:xfrm>
            <a:off x="1905120" y="346068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838080"/>
            <a:ext cx="79246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Ques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&gt; How can we enable mechanisms that facilitate an efficient articulation between relief and developm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&gt; How do we avoid the trap of « having to do quickly » without losing control over essential issu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&gt; Can we pretend to set up participatory approaches in a traumatised socie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&gt; Can we spend on relief budgets without cutting on developm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038480"/>
            <a:ext cx="7239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« The current increases in relief budgets - in the UN  as a whole already nearly 50% of the funds- are bound to continue, which further diminishes resources that could have been made possible for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This vicious circle has to end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 T. Schilderman, ITD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AMBINI2" descr=""/>
          <p:cNvPicPr/>
          <p:nvPr/>
        </p:nvPicPr>
        <p:blipFill>
          <a:blip r:embed="rId1"/>
          <a:stretch/>
        </p:blipFill>
        <p:spPr>
          <a:xfrm>
            <a:off x="5638680" y="708120"/>
            <a:ext cx="2859120" cy="195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172200"/>
            <a:ext cx="9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entury Gothic"/>
              </a:rPr>
              <a:t>________________________________   </a:t>
            </a:r>
            <a:r>
              <a:rPr b="0" lang="en-GB" sz="1600" spc="-1" strike="noStrike">
                <a:solidFill>
                  <a:srgbClr val="ffffff"/>
                </a:solidFill>
                <a:latin typeface="Century Gothic"/>
              </a:rPr>
              <a:t>Westbank - ”Opening spaces” workshop, October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685800"/>
            <a:ext cx="457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- Long-lasting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Refugees vs citiz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Enclosure/ border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Territory and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urban potential /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ap%20gen%2000" descr=""/>
          <p:cNvPicPr/>
          <p:nvPr/>
        </p:nvPicPr>
        <p:blipFill>
          <a:blip r:embed="rId1"/>
          <a:stretch/>
        </p:blipFill>
        <p:spPr>
          <a:xfrm>
            <a:off x="2590920" y="0"/>
            <a:ext cx="42415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10CHECKP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486400" y="304920"/>
            <a:ext cx="38862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«  The matrix of control over Palestinian territory is being completed during this second Intifada by the disastrous Israeli policy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from « </a:t>
            </a:r>
            <a:r>
              <a:rPr b="1" i="1" lang="en-GB" sz="1400" spc="-1" strike="noStrike">
                <a:solidFill>
                  <a:srgbClr val="ffffff"/>
                </a:solidFill>
                <a:latin typeface="Century Gothic"/>
              </a:rPr>
              <a:t>A civilian occupation</a:t>
            </a:r>
            <a:r>
              <a:rPr b="1" lang="en-GB" sz="1400" spc="-1" strike="noStrike">
                <a:solidFill>
                  <a:srgbClr val="ffffff"/>
                </a:solidFill>
                <a:latin typeface="Century Gothic"/>
              </a:rPr>
              <a:t> », various authors, Union of Israeli architects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juda%20humanitaria" descr=""/>
          <p:cNvPicPr/>
          <p:nvPr/>
        </p:nvPicPr>
        <p:blipFill>
          <a:blip r:embed="rId1"/>
          <a:stretch/>
        </p:blipFill>
        <p:spPr>
          <a:xfrm>
            <a:off x="0" y="0"/>
            <a:ext cx="4324320" cy="3718080"/>
          </a:xfrm>
          <a:prstGeom prst="rect">
            <a:avLst/>
          </a:prstGeom>
          <a:ln w="0">
            <a:noFill/>
          </a:ln>
        </p:spPr>
      </p:pic>
      <p:pic>
        <p:nvPicPr>
          <p:cNvPr id="45" name="ajuda%20humanitariafg" descr=""/>
          <p:cNvPicPr/>
          <p:nvPr/>
        </p:nvPicPr>
        <p:blipFill>
          <a:blip r:embed="rId2"/>
          <a:stretch/>
        </p:blipFill>
        <p:spPr>
          <a:xfrm>
            <a:off x="4114800" y="0"/>
            <a:ext cx="5294160" cy="3598920"/>
          </a:xfrm>
          <a:prstGeom prst="rect">
            <a:avLst/>
          </a:prstGeom>
          <a:ln w="0">
            <a:noFill/>
          </a:ln>
        </p:spPr>
      </p:pic>
      <p:pic>
        <p:nvPicPr>
          <p:cNvPr id="46" name="sismos1" descr=""/>
          <p:cNvPicPr/>
          <p:nvPr/>
        </p:nvPicPr>
        <p:blipFill>
          <a:blip r:embed="rId3"/>
          <a:stretch/>
        </p:blipFill>
        <p:spPr>
          <a:xfrm>
            <a:off x="5668920" y="2971800"/>
            <a:ext cx="3816360" cy="3886200"/>
          </a:xfrm>
          <a:prstGeom prst="rect">
            <a:avLst/>
          </a:prstGeom>
          <a:ln w="0">
            <a:noFill/>
          </a:ln>
        </p:spPr>
      </p:pic>
      <p:pic>
        <p:nvPicPr>
          <p:cNvPr id="47" name="hum" descr=""/>
          <p:cNvPicPr/>
          <p:nvPr/>
        </p:nvPicPr>
        <p:blipFill>
          <a:blip r:embed="rId4"/>
          <a:stretch/>
        </p:blipFill>
        <p:spPr>
          <a:xfrm>
            <a:off x="2819520" y="2971800"/>
            <a:ext cx="2871720" cy="3886200"/>
          </a:xfrm>
          <a:prstGeom prst="rect">
            <a:avLst/>
          </a:prstGeom>
          <a:ln w="0">
            <a:noFill/>
          </a:ln>
        </p:spPr>
      </p:pic>
      <p:pic>
        <p:nvPicPr>
          <p:cNvPr id="48" name="humfg" descr=""/>
          <p:cNvPicPr/>
          <p:nvPr/>
        </p:nvPicPr>
        <p:blipFill>
          <a:blip r:embed="rId5"/>
          <a:stretch/>
        </p:blipFill>
        <p:spPr>
          <a:xfrm>
            <a:off x="0" y="2971800"/>
            <a:ext cx="2881440" cy="3886200"/>
          </a:xfrm>
          <a:prstGeom prst="rect">
            <a:avLst/>
          </a:prstGeom>
          <a:ln w="0">
            <a:noFill/>
          </a:ln>
        </p:spPr>
      </p:pic>
      <p:pic>
        <p:nvPicPr>
          <p:cNvPr id="49" name="sismos" descr=""/>
          <p:cNvPicPr/>
          <p:nvPr/>
        </p:nvPicPr>
        <p:blipFill>
          <a:blip r:embed="rId6"/>
          <a:stretch/>
        </p:blipFill>
        <p:spPr>
          <a:xfrm>
            <a:off x="5638680" y="2971800"/>
            <a:ext cx="376236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352680" y="228600"/>
            <a:ext cx="53532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37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fr-FR" sz="3700" spc="-1" strike="noStrike">
                <a:solidFill>
                  <a:srgbClr val="000000"/>
                </a:solidFill>
                <a:latin typeface="Century Gothic"/>
              </a:rPr>
              <a:t>EXI</a:t>
            </a:r>
            <a:r>
              <a:rPr b="0" lang="fr-FR" sz="3000" spc="-1" strike="noStrike">
                <a:solidFill>
                  <a:srgbClr val="000000"/>
                </a:solidFill>
                <a:latin typeface="Century Gothic"/>
              </a:rPr>
              <a:t>(S)</a:t>
            </a:r>
            <a:r>
              <a:rPr b="1" lang="fr-FR" sz="37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0" lang="fr-FR" sz="3000" spc="-1" strike="noStrike">
                <a:solidFill>
                  <a:srgbClr val="000000"/>
                </a:solidFill>
                <a:latin typeface="Century Gothic"/>
              </a:rPr>
              <a:t>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entury Gothic"/>
              </a:rPr>
              <a:t>OPENING SPACE(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838080"/>
            <a:ext cx="7924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32868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17445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33720" y="2209680"/>
            <a:ext cx="611172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entury Gothic"/>
              </a:rPr>
              <a:t>CASE STUDY 1 : EL A’YN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entury Gothic"/>
              </a:rPr>
              <a:t>CAMP IN NAB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entury Gothic"/>
              </a:rPr>
              <a:t>CASE STUDY 2 : Al AMARI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entury Gothic"/>
              </a:rPr>
              <a:t>CAMP IN RAMAL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STUD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-  MAUD CHE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- MARIANNE FAYOL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- ISABELLE NE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- SEBASTIEN 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WITH THE PARTICIPATION OF THE STUDENTS OF THE DEPARTMENT OF ARCHITECTUREAND URBAN PLANNING, AN-NAJAH UNIVERSITY, NABLUS and BIR-ZEIT IN RAMAL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1523880"/>
            <a:ext cx="4968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300" spc="-1" strike="noStrike" u="sng">
                <a:solidFill>
                  <a:srgbClr val="000000"/>
                </a:solidFill>
                <a:uFillTx/>
                <a:latin typeface="Century Gothic"/>
              </a:rPr>
              <a:t>Overall Coordination:</a:t>
            </a:r>
            <a:r>
              <a:rPr b="0" lang="fr-FR" sz="1300" spc="-1" strike="noStrike">
                <a:solidFill>
                  <a:srgbClr val="000000"/>
                </a:solidFill>
                <a:latin typeface="Century Gothic"/>
              </a:rPr>
              <a:t> SYLVAINE BULLE (sociologis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300" spc="-1" strike="noStrike" u="sng">
                <a:solidFill>
                  <a:srgbClr val="000000"/>
                </a:solidFill>
                <a:uFillTx/>
                <a:latin typeface="Century Gothic"/>
              </a:rPr>
              <a:t>Coordination architectural survey</a:t>
            </a:r>
            <a:r>
              <a:rPr b="0" lang="fr-FR" sz="1300" spc="-1" strike="noStrike">
                <a:solidFill>
                  <a:srgbClr val="000000"/>
                </a:solidFill>
                <a:latin typeface="Century Gothic"/>
              </a:rPr>
              <a:t>: arch. SANDRA D ’URZ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eenProject" descr=""/>
          <p:cNvPicPr/>
          <p:nvPr/>
        </p:nvPicPr>
        <p:blipFill>
          <a:blip r:embed="rId1"/>
          <a:stretch/>
        </p:blipFill>
        <p:spPr>
          <a:xfrm>
            <a:off x="1219320" y="-152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72120" y="0"/>
            <a:ext cx="33638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 u="sng">
                <a:solidFill>
                  <a:srgbClr val="000000"/>
                </a:solidFill>
                <a:uFillTx/>
                <a:latin typeface="Century Gothic"/>
              </a:rPr>
              <a:t>POTENTIALITIES OF THE 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evation%20west" descr=""/>
          <p:cNvPicPr/>
          <p:nvPr/>
        </p:nvPicPr>
        <p:blipFill>
          <a:blip r:embed="rId2"/>
          <a:stretch/>
        </p:blipFill>
        <p:spPr>
          <a:xfrm>
            <a:off x="0" y="4745160"/>
            <a:ext cx="9144000" cy="2168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511440"/>
            <a:ext cx="3365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29480" y="4695840"/>
            <a:ext cx="27795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Landscape preserv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9240" y="4552920"/>
            <a:ext cx="24145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Urban regene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52640" y="4476600"/>
            <a:ext cx="2048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Urban continu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21360" y="4552920"/>
            <a:ext cx="0" cy="18115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193840" y="4664160"/>
            <a:ext cx="0" cy="1371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29480" y="4717800"/>
            <a:ext cx="0" cy="1701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852640" y="4552560"/>
            <a:ext cx="0" cy="1701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615000"/>
            <a:ext cx="29988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 u="sng">
                <a:solidFill>
                  <a:srgbClr val="000000"/>
                </a:solidFill>
                <a:uFillTx/>
                <a:latin typeface="Century Gothic"/>
              </a:rPr>
              <a:t>NORTH-SOUTH CROSS C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1360" y="4476600"/>
            <a:ext cx="21938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Compact built fro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anoVertFluo" descr=""/>
          <p:cNvPicPr/>
          <p:nvPr/>
        </p:nvPicPr>
        <p:blipFill>
          <a:blip r:embed="rId1"/>
          <a:stretch/>
        </p:blipFill>
        <p:spPr>
          <a:xfrm>
            <a:off x="457200" y="4905360"/>
            <a:ext cx="838188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PhotoHelicoptR" descr=""/>
          <p:cNvPicPr/>
          <p:nvPr/>
        </p:nvPicPr>
        <p:blipFill>
          <a:blip r:embed="rId2"/>
          <a:stretch/>
        </p:blipFill>
        <p:spPr>
          <a:xfrm>
            <a:off x="0" y="1278000"/>
            <a:ext cx="9144000" cy="3217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364440"/>
            <a:ext cx="4243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entury Gothic"/>
              </a:rPr>
              <a:t>VIEW OF THE SOUTH FR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reenAnalysis" descr=""/>
          <p:cNvPicPr/>
          <p:nvPr/>
        </p:nvPicPr>
        <p:blipFill>
          <a:blip r:embed="rId3"/>
          <a:stretch/>
        </p:blipFill>
        <p:spPr>
          <a:xfrm>
            <a:off x="0" y="2286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legende%201%20aplatie-%201" descr=""/>
          <p:cNvPicPr/>
          <p:nvPr/>
        </p:nvPicPr>
        <p:blipFill>
          <a:blip r:embed="rId1"/>
          <a:stretch/>
        </p:blipFill>
        <p:spPr>
          <a:xfrm>
            <a:off x="2081160" y="439560"/>
            <a:ext cx="5157720" cy="641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1960" y="6308640"/>
            <a:ext cx="54136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map%20of%20risks" descr=""/>
          <p:cNvPicPr/>
          <p:nvPr/>
        </p:nvPicPr>
        <p:blipFill>
          <a:blip r:embed="rId1"/>
          <a:stretch/>
        </p:blipFill>
        <p:spPr>
          <a:xfrm>
            <a:off x="2362320" y="0"/>
            <a:ext cx="50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environmental%20deterioration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447560" cy="1076400"/>
          </a:xfrm>
          <a:prstGeom prst="rect">
            <a:avLst/>
          </a:prstGeom>
          <a:ln w="0">
            <a:noFill/>
          </a:ln>
        </p:spPr>
      </p:pic>
      <p:pic>
        <p:nvPicPr>
          <p:cNvPr id="158" name="lack%20of%20green%20spaces%20(public)" descr=""/>
          <p:cNvPicPr/>
          <p:nvPr/>
        </p:nvPicPr>
        <p:blipFill>
          <a:blip r:embed="rId3"/>
          <a:stretch/>
        </p:blipFill>
        <p:spPr>
          <a:xfrm>
            <a:off x="7169040" y="4170240"/>
            <a:ext cx="1602000" cy="1590840"/>
          </a:xfrm>
          <a:prstGeom prst="rect">
            <a:avLst/>
          </a:prstGeom>
          <a:ln w="0">
            <a:noFill/>
          </a:ln>
        </p:spPr>
      </p:pic>
      <p:pic>
        <p:nvPicPr>
          <p:cNvPr id="159" name="pour%20acces" descr=""/>
          <p:cNvPicPr/>
          <p:nvPr/>
        </p:nvPicPr>
        <p:blipFill>
          <a:blip r:embed="rId4"/>
          <a:stretch/>
        </p:blipFill>
        <p:spPr>
          <a:xfrm>
            <a:off x="7526160" y="1262160"/>
            <a:ext cx="161784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our%20housing" descr=""/>
          <p:cNvPicPr/>
          <p:nvPr/>
        </p:nvPicPr>
        <p:blipFill>
          <a:blip r:embed="rId5"/>
          <a:stretch/>
        </p:blipFill>
        <p:spPr>
          <a:xfrm>
            <a:off x="512640" y="3679920"/>
            <a:ext cx="1725840" cy="1730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308640"/>
            <a:ext cx="41702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Century Gothic"/>
              </a:rPr>
              <a:t>MAP OF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3320" y="2962440"/>
            <a:ext cx="37306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536840"/>
            <a:ext cx="1974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2640" y="3456000"/>
            <a:ext cx="4095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94440" y="4059360"/>
            <a:ext cx="35845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2720" y="1536840"/>
            <a:ext cx="1901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cc0000"/>
                </a:solidFill>
                <a:latin typeface="Century Gothic"/>
              </a:rPr>
              <a:t>Environmental deteri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120" y="3181320"/>
            <a:ext cx="17557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cc0000"/>
                </a:solidFill>
                <a:latin typeface="Century Gothic"/>
              </a:rPr>
              <a:t>Poor hou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1360" y="2962440"/>
            <a:ext cx="1682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cc0000"/>
                </a:solidFill>
                <a:latin typeface="Century Gothic"/>
              </a:rPr>
              <a:t>Lack of green spa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95960" y="3840120"/>
            <a:ext cx="21211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cc0000"/>
                </a:solidFill>
                <a:latin typeface="Century Gothic"/>
              </a:rPr>
              <a:t>Poor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ap%20of%20potentials" descr=""/>
          <p:cNvPicPr/>
          <p:nvPr/>
        </p:nvPicPr>
        <p:blipFill>
          <a:blip r:embed="rId1"/>
          <a:stretch/>
        </p:blipFill>
        <p:spPr>
          <a:xfrm>
            <a:off x="1828800" y="0"/>
            <a:ext cx="537048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natural%20grouth" descr=""/>
          <p:cNvPicPr/>
          <p:nvPr/>
        </p:nvPicPr>
        <p:blipFill>
          <a:blip r:embed="rId2"/>
          <a:stretch/>
        </p:blipFill>
        <p:spPr>
          <a:xfrm>
            <a:off x="7086600" y="5559480"/>
            <a:ext cx="1638360" cy="1243080"/>
          </a:xfrm>
          <a:prstGeom prst="rect">
            <a:avLst/>
          </a:prstGeom>
          <a:ln w="0">
            <a:noFill/>
          </a:ln>
        </p:spPr>
      </p:pic>
      <p:pic>
        <p:nvPicPr>
          <p:cNvPr id="172" name="new%20centralities" descr=""/>
          <p:cNvPicPr/>
          <p:nvPr/>
        </p:nvPicPr>
        <p:blipFill>
          <a:blip r:embed="rId3"/>
          <a:stretch/>
        </p:blipFill>
        <p:spPr>
          <a:xfrm>
            <a:off x="7416720" y="3346560"/>
            <a:ext cx="1727280" cy="1730160"/>
          </a:xfrm>
          <a:prstGeom prst="rect">
            <a:avLst/>
          </a:prstGeom>
          <a:ln w="0">
            <a:noFill/>
          </a:ln>
        </p:spPr>
      </p:pic>
      <p:pic>
        <p:nvPicPr>
          <p:cNvPr id="173" name="openning%20spaces" descr=""/>
          <p:cNvPicPr/>
          <p:nvPr/>
        </p:nvPicPr>
        <p:blipFill>
          <a:blip r:embed="rId4"/>
          <a:stretch/>
        </p:blipFill>
        <p:spPr>
          <a:xfrm>
            <a:off x="7316640" y="228600"/>
            <a:ext cx="182736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roofscape-planted%20terraces" descr=""/>
          <p:cNvPicPr/>
          <p:nvPr/>
        </p:nvPicPr>
        <p:blipFill>
          <a:blip r:embed="rId5"/>
          <a:stretch/>
        </p:blipFill>
        <p:spPr>
          <a:xfrm>
            <a:off x="0" y="3402000"/>
            <a:ext cx="1523880" cy="1335240"/>
          </a:xfrm>
          <a:prstGeom prst="rect">
            <a:avLst/>
          </a:prstGeom>
          <a:ln w="0">
            <a:noFill/>
          </a:ln>
        </p:spPr>
      </p:pic>
      <p:pic>
        <p:nvPicPr>
          <p:cNvPr id="175" name="118_1888.JPGmaison%20blanche" descr=""/>
          <p:cNvPicPr/>
          <p:nvPr/>
        </p:nvPicPr>
        <p:blipFill>
          <a:blip r:embed="rId6"/>
          <a:stretch/>
        </p:blipFill>
        <p:spPr>
          <a:xfrm>
            <a:off x="0" y="1347840"/>
            <a:ext cx="1219320" cy="1395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035760"/>
            <a:ext cx="35114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Century Gothic"/>
              </a:rPr>
              <a:t>MAP OF POT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62160"/>
            <a:ext cx="22669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73080" y="3292560"/>
            <a:ext cx="38037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99040" y="3236760"/>
            <a:ext cx="3144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2084400"/>
            <a:ext cx="47545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33760" y="5486400"/>
            <a:ext cx="607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73080" y="1042920"/>
            <a:ext cx="21938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6600"/>
                </a:solidFill>
                <a:latin typeface="Century Gothic"/>
              </a:rPr>
              <a:t>QUALITY BUILDING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71880"/>
            <a:ext cx="27068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6600"/>
                </a:solidFill>
                <a:latin typeface="Century Gothic"/>
              </a:rPr>
              <a:t>ROOFSCAP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2084400"/>
            <a:ext cx="24145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6600"/>
                </a:solidFill>
                <a:latin typeface="Century Gothic"/>
              </a:rPr>
              <a:t>OPENING SPA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3017880"/>
            <a:ext cx="270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6600"/>
                </a:solidFill>
                <a:latin typeface="Century Gothic"/>
              </a:rPr>
              <a:t>CONNECTING SPA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50160" y="5243400"/>
            <a:ext cx="24130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6600"/>
                </a:solidFill>
                <a:latin typeface="Century Gothic"/>
              </a:rPr>
              <a:t>NATURAL GROW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eneral%20map" descr=""/>
          <p:cNvPicPr/>
          <p:nvPr/>
        </p:nvPicPr>
        <p:blipFill>
          <a:blip r:embed="rId1"/>
          <a:stretch/>
        </p:blipFill>
        <p:spPr>
          <a:xfrm>
            <a:off x="1006560" y="1295280"/>
            <a:ext cx="7223040" cy="5061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632560" y="3346560"/>
            <a:ext cx="658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18280" y="3127320"/>
            <a:ext cx="256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AL BIERE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240" y="2468520"/>
            <a:ext cx="2560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RAMALLA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48280" y="3621240"/>
            <a:ext cx="13161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Al Ama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3760" y="3895560"/>
            <a:ext cx="23414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65240"/>
            <a:ext cx="91440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AL ’ AMARI CAMP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Al Amari is located in between Ramallah and Al Biereh municipalities (tot population estimated: 200.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registered refugee population : 8658 (1830 famili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estimated population: 14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surface of 90 dunums ( 90 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lanAlAmari" descr=""/>
          <p:cNvPicPr/>
          <p:nvPr/>
        </p:nvPicPr>
        <p:blipFill>
          <a:blip r:embed="rId1"/>
          <a:srcRect l="0" t="0" r="-11" b="9"/>
          <a:stretch/>
        </p:blipFill>
        <p:spPr>
          <a:xfrm>
            <a:off x="685800" y="-549360"/>
            <a:ext cx="7620120" cy="484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38948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anoIsa" descr=""/>
          <p:cNvPicPr/>
          <p:nvPr/>
        </p:nvPicPr>
        <p:blipFill>
          <a:blip r:embed="rId2"/>
          <a:stretch/>
        </p:blipFill>
        <p:spPr>
          <a:xfrm>
            <a:off x="228600" y="4443480"/>
            <a:ext cx="8610480" cy="2374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1480" y="2286000"/>
            <a:ext cx="0" cy="2631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497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GENERAL VIEW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00536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&gt; extremely compact urban fabric &gt; densily populated areas inside the camp &gt; continuous growth and regeneration of its central core and its boundar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lanAlAmari" descr=""/>
          <p:cNvPicPr/>
          <p:nvPr/>
        </p:nvPicPr>
        <p:blipFill>
          <a:blip r:embed="rId1"/>
          <a:srcRect l="0" t="0" r="-11" b="9"/>
          <a:stretch/>
        </p:blipFill>
        <p:spPr>
          <a:xfrm>
            <a:off x="838080" y="33480"/>
            <a:ext cx="7696440" cy="484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76840" y="6145200"/>
            <a:ext cx="27064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hoto panor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ano1" descr=""/>
          <p:cNvPicPr/>
          <p:nvPr/>
        </p:nvPicPr>
        <p:blipFill>
          <a:blip r:embed="rId2"/>
          <a:stretch/>
        </p:blipFill>
        <p:spPr>
          <a:xfrm>
            <a:off x="0" y="4838760"/>
            <a:ext cx="9144000" cy="2019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482760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2560" y="3236760"/>
            <a:ext cx="0" cy="20844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80240" y="3786120"/>
            <a:ext cx="0" cy="2522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3124080"/>
            <a:ext cx="3240" cy="3349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8040" y="4827600"/>
            <a:ext cx="1682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Limit of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2560" y="4827600"/>
            <a:ext cx="1682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New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89960" y="4827600"/>
            <a:ext cx="1682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Urban fabr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6060000">
            <a:off x="5181120" y="3424680"/>
            <a:ext cx="353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2700" spc="-1" strike="noStrike">
                <a:solidFill>
                  <a:srgbClr val="cc0000"/>
                </a:solidFill>
                <a:latin typeface="Arial"/>
              </a:rPr>
              <a:t>&gt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497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GENERAL VIEW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2" descr=""/>
          <p:cNvPicPr/>
          <p:nvPr/>
        </p:nvPicPr>
        <p:blipFill>
          <a:blip r:embed="rId1"/>
          <a:stretch/>
        </p:blipFill>
        <p:spPr>
          <a:xfrm>
            <a:off x="-304920" y="304920"/>
            <a:ext cx="9296640" cy="5975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1960" y="165240"/>
            <a:ext cx="534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EVOLUTION OF THE BORDER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897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5640" y="4170240"/>
            <a:ext cx="0" cy="24685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92560" y="6429240"/>
            <a:ext cx="475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cc0000"/>
                </a:solidFill>
                <a:latin typeface="Century Gothic"/>
              </a:rPr>
              <a:t>UNRWA LIM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exico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3962520" cy="2770200"/>
          </a:xfrm>
          <a:prstGeom prst="rect">
            <a:avLst/>
          </a:prstGeom>
          <a:ln w="0">
            <a:noFill/>
          </a:ln>
        </p:spPr>
      </p:pic>
      <p:pic>
        <p:nvPicPr>
          <p:cNvPr id="51" name="Bidon2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886200" cy="262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00600" y="25909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Swis721 LtEx BT"/>
              </a:rPr>
              <a:t>frontiers of Surviva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61722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Swis721 LtEx BT"/>
              </a:rPr>
              <a:t>…</a:t>
            </a:r>
            <a:r>
              <a:rPr b="1" lang="fr-FR" sz="2000" spc="-1" strike="noStrike">
                <a:solidFill>
                  <a:srgbClr val="ffffff"/>
                </a:solidFill>
                <a:latin typeface="Swis721 LtEx BT"/>
              </a:rPr>
              <a:t>or frontiers</a:t>
            </a:r>
            <a:r>
              <a:rPr b="1" lang="en-GB" sz="2000" spc="-1" strike="noStrike">
                <a:solidFill>
                  <a:srgbClr val="ffffff"/>
                </a:solidFill>
                <a:latin typeface="Swis721 LtEx BT"/>
              </a:rPr>
              <a:t> of inequit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ntrast" descr=""/>
          <p:cNvPicPr/>
          <p:nvPr/>
        </p:nvPicPr>
        <p:blipFill>
          <a:blip r:embed="rId3"/>
          <a:stretch/>
        </p:blipFill>
        <p:spPr>
          <a:xfrm>
            <a:off x="4876920" y="3201840"/>
            <a:ext cx="40384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3" descr=""/>
          <p:cNvPicPr/>
          <p:nvPr/>
        </p:nvPicPr>
        <p:blipFill>
          <a:blip r:embed="rId1"/>
          <a:stretch/>
        </p:blipFill>
        <p:spPr>
          <a:xfrm>
            <a:off x="152280" y="576360"/>
            <a:ext cx="8991720" cy="5976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1960" y="165240"/>
            <a:ext cx="534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EVOLUTION OF THE BORDER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0897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10240" y="4992840"/>
            <a:ext cx="0" cy="164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0240" y="6429240"/>
            <a:ext cx="241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entury Gothic"/>
              </a:rPr>
              <a:t>MAIN WA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62560" y="4773600"/>
            <a:ext cx="0" cy="18651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89480" y="6429240"/>
            <a:ext cx="270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006600"/>
                </a:solidFill>
                <a:latin typeface="Century Gothic"/>
              </a:rPr>
              <a:t>GREEN SPA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2971800"/>
            <a:ext cx="0" cy="373068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64771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cc9900"/>
                </a:solidFill>
                <a:latin typeface="Century Gothic"/>
              </a:rPr>
              <a:t>EMPTY SPA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4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960" y="165240"/>
            <a:ext cx="534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EVOLUTION OF THE BORDER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0897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50760" y="3456000"/>
            <a:ext cx="0" cy="3182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8040" y="6419880"/>
            <a:ext cx="241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ccccff"/>
                </a:solidFill>
                <a:latin typeface="Century Gothic"/>
              </a:rPr>
              <a:t>AL BIEREH CITIZE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19480" y="6199200"/>
            <a:ext cx="2413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6666ff"/>
                </a:solidFill>
                <a:latin typeface="Century Gothic"/>
              </a:rPr>
              <a:t>REFUGEES LIVING OUSIDE THE LIM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92560" y="3236760"/>
            <a:ext cx="0" cy="334656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5410080"/>
            <a:ext cx="0" cy="12081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78360" y="6230880"/>
            <a:ext cx="2414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336699"/>
                </a:solidFill>
                <a:latin typeface="Century Gothic"/>
              </a:rPr>
              <a:t>REFUGEES LIVING INSIDE THE LIM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581280"/>
            <a:ext cx="21956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819520"/>
            <a:ext cx="241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Century Gothic"/>
              </a:rPr>
              <a:t>MIXED USES / APPROPRIATION OF SP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315200" cy="4851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91960" y="165240"/>
            <a:ext cx="534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entury Gothic"/>
              </a:rPr>
              <a:t>EXPLORING THE BORDER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0897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65640" y="4170240"/>
            <a:ext cx="0" cy="24685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92560" y="6429240"/>
            <a:ext cx="475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500" spc="-1" strike="noStrike">
                <a:solidFill>
                  <a:srgbClr val="cc0000"/>
                </a:solidFill>
                <a:latin typeface="Century Gothic"/>
              </a:rPr>
              <a:t>UNRWA LIM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94440" y="4443120"/>
            <a:ext cx="43812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924520" y="3511080"/>
            <a:ext cx="43992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601600">
            <a:off x="3803400" y="4718160"/>
            <a:ext cx="1390680" cy="6030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584520" y="3017520"/>
            <a:ext cx="43812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44960" y="3181320"/>
            <a:ext cx="43956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11440" y="4334040"/>
            <a:ext cx="438120" cy="27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950760" y="603000"/>
            <a:ext cx="43992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" y="933480"/>
            <a:ext cx="878040" cy="218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36840" y="549360"/>
            <a:ext cx="7242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Century Gothic"/>
              </a:rPr>
              <a:t>&gt; CROSS -CUTS ON THE BORDERLINE &gt; TYPICAL CASES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36840" y="933480"/>
            <a:ext cx="7242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Century Gothic"/>
              </a:rPr>
              <a:t>&gt; SPECIFIC ANALYSISOF TYPOLOGIES,  SPACES AND USES &gt;SOCIALS SURV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48104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racture.rupture" descr=""/>
          <p:cNvPicPr/>
          <p:nvPr/>
        </p:nvPicPr>
        <p:blipFill>
          <a:blip r:embed="rId1"/>
          <a:stretch/>
        </p:blipFill>
        <p:spPr>
          <a:xfrm>
            <a:off x="380880" y="328680"/>
            <a:ext cx="8763120" cy="2187360"/>
          </a:xfrm>
          <a:prstGeom prst="rect">
            <a:avLst/>
          </a:prstGeom>
          <a:ln w="0">
            <a:noFill/>
          </a:ln>
        </p:spPr>
      </p:pic>
      <p:pic>
        <p:nvPicPr>
          <p:cNvPr id="254" name="fractures2" descr=""/>
          <p:cNvPicPr/>
          <p:nvPr/>
        </p:nvPicPr>
        <p:blipFill>
          <a:blip r:embed="rId2"/>
          <a:stretch/>
        </p:blipFill>
        <p:spPr>
          <a:xfrm>
            <a:off x="291960" y="2633760"/>
            <a:ext cx="1428840" cy="1425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0"/>
            <a:ext cx="91440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URBAN CHANGE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        </a:t>
            </a: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Fract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1ere%20visite%20031" descr=""/>
          <p:cNvPicPr/>
          <p:nvPr/>
        </p:nvPicPr>
        <p:blipFill>
          <a:blip r:embed="rId3"/>
          <a:stretch/>
        </p:blipFill>
        <p:spPr>
          <a:xfrm>
            <a:off x="4494240" y="2633760"/>
            <a:ext cx="1430280" cy="1425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46160" y="1920960"/>
            <a:ext cx="0" cy="2249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6160" y="4170240"/>
            <a:ext cx="797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7600" y="2030400"/>
            <a:ext cx="0" cy="4334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6364440"/>
            <a:ext cx="841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hotos%20relevé%20%20isa%20021" descr=""/>
          <p:cNvPicPr/>
          <p:nvPr/>
        </p:nvPicPr>
        <p:blipFill>
          <a:blip r:embed="rId4"/>
          <a:stretch/>
        </p:blipFill>
        <p:spPr>
          <a:xfrm>
            <a:off x="2633760" y="4803840"/>
            <a:ext cx="2560680" cy="1450800"/>
          </a:xfrm>
          <a:prstGeom prst="rect">
            <a:avLst/>
          </a:prstGeom>
          <a:ln w="0">
            <a:noFill/>
          </a:ln>
        </p:spPr>
      </p:pic>
      <p:pic>
        <p:nvPicPr>
          <p:cNvPr id="262" name="photos%20relevé%20%20isa%20004" descr=""/>
          <p:cNvPicPr/>
          <p:nvPr/>
        </p:nvPicPr>
        <p:blipFill>
          <a:blip r:embed="rId5"/>
          <a:stretch/>
        </p:blipFill>
        <p:spPr>
          <a:xfrm>
            <a:off x="5340240" y="4805280"/>
            <a:ext cx="2560680" cy="1449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730680" y="438120"/>
            <a:ext cx="48798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ractures1" descr=""/>
          <p:cNvPicPr/>
          <p:nvPr/>
        </p:nvPicPr>
        <p:blipFill>
          <a:blip r:embed="rId6"/>
          <a:stretch/>
        </p:blipFill>
        <p:spPr>
          <a:xfrm>
            <a:off x="1870200" y="2633760"/>
            <a:ext cx="2519280" cy="1420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5880" y="2590920"/>
            <a:ext cx="245916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Persistence of physical boundandies (fences, walls),fragmented separations between inside and outside; new constructions become recognizeable landmarks and reinforce the limit by suffocating it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00600"/>
            <a:ext cx="219564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Existence of voids and no man ’s land in continuity with the borderline can enhance peripheral growth and linear space appropr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7480" y="1152360"/>
            <a:ext cx="0" cy="3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4680" y="1782720"/>
            <a:ext cx="0" cy="43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816120"/>
            <a:ext cx="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096920"/>
            <a:ext cx="1317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A :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057400"/>
            <a:ext cx="3363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B: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762120"/>
            <a:ext cx="19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C: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152360"/>
            <a:ext cx="731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Ca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2084400"/>
            <a:ext cx="51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762120"/>
            <a:ext cx="1316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No man ’s 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1560" y="816120"/>
            <a:ext cx="0" cy="10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3480" y="1206360"/>
            <a:ext cx="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78400" y="1865160"/>
            <a:ext cx="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152280"/>
            <a:ext cx="91440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URBAN CHANGE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        </a:t>
            </a: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Junc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0680" y="53352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JUNCTION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2263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91960" y="2030400"/>
            <a:ext cx="0" cy="1700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1960" y="3730680"/>
            <a:ext cx="8047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2030400"/>
            <a:ext cx="0" cy="31813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040" y="5211720"/>
            <a:ext cx="5486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ANO4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521160" cy="1225800"/>
          </a:xfrm>
          <a:prstGeom prst="rect">
            <a:avLst/>
          </a:prstGeom>
          <a:ln w="0">
            <a:noFill/>
          </a:ln>
        </p:spPr>
      </p:pic>
      <p:pic>
        <p:nvPicPr>
          <p:cNvPr id="287" name="photos%20relevé%20%20isa%20019" descr=""/>
          <p:cNvPicPr/>
          <p:nvPr/>
        </p:nvPicPr>
        <p:blipFill>
          <a:blip r:embed="rId3"/>
          <a:stretch/>
        </p:blipFill>
        <p:spPr>
          <a:xfrm>
            <a:off x="6248520" y="5257800"/>
            <a:ext cx="2154240" cy="1297080"/>
          </a:xfrm>
          <a:prstGeom prst="rect">
            <a:avLst/>
          </a:prstGeom>
          <a:ln w="0">
            <a:noFill/>
          </a:ln>
        </p:spPr>
      </p:pic>
      <p:pic>
        <p:nvPicPr>
          <p:cNvPr id="288" name="photos%20relevé%20%20isa%20020" descr=""/>
          <p:cNvPicPr/>
          <p:nvPr/>
        </p:nvPicPr>
        <p:blipFill>
          <a:blip r:embed="rId4"/>
          <a:stretch/>
        </p:blipFill>
        <p:spPr>
          <a:xfrm>
            <a:off x="3962520" y="5257800"/>
            <a:ext cx="2049480" cy="1297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705880" y="2084400"/>
            <a:ext cx="0" cy="455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91960" y="6638760"/>
            <a:ext cx="841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DSCF0037" descr=""/>
          <p:cNvPicPr/>
          <p:nvPr/>
        </p:nvPicPr>
        <p:blipFill>
          <a:blip r:embed="rId5"/>
          <a:stretch/>
        </p:blipFill>
        <p:spPr>
          <a:xfrm>
            <a:off x="3581280" y="3809880"/>
            <a:ext cx="2092320" cy="1298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52880" y="2514600"/>
            <a:ext cx="330048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borderline no longer defines the inside/outside of the camp:space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appropriation starts from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« inhabiting » the frontier,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introducing new functions and uses on the limit for both refugees and non refug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1960" y="3895560"/>
            <a:ext cx="252756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new gardens,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social gathering spaces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and planted areas are organizing on and around the b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1960" y="5430960"/>
            <a:ext cx="29847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upgraded housing units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inside the camp are visually integrated within the urban built frame and identical shapes/typologies are recognizeable inside/outide of the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27840" y="822240"/>
            <a:ext cx="1024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quality buildings out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23240" y="822240"/>
            <a:ext cx="10238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quality buildings 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00680" y="712800"/>
            <a:ext cx="10238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New uses for intersticial s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90680" y="712800"/>
            <a:ext cx="1461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Space appropriation on the b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00680" y="768240"/>
            <a:ext cx="0" cy="9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1360" y="1262160"/>
            <a:ext cx="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20160" y="1262160"/>
            <a:ext cx="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90680" y="768240"/>
            <a:ext cx="0" cy="93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52280"/>
            <a:ext cx="91440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URBAN CHANGE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        </a:t>
            </a: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Shift of b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1960" y="2030400"/>
            <a:ext cx="0" cy="19749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960" y="4005360"/>
            <a:ext cx="49658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05880" y="2030400"/>
            <a:ext cx="0" cy="4389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190760" y="6419880"/>
            <a:ext cx="4514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shift%20of%20border" descr=""/>
          <p:cNvPicPr/>
          <p:nvPr/>
        </p:nvPicPr>
        <p:blipFill>
          <a:blip r:embed="rId1"/>
          <a:stretch/>
        </p:blipFill>
        <p:spPr>
          <a:xfrm>
            <a:off x="1023840" y="449280"/>
            <a:ext cx="6843960" cy="2293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flipH="1">
            <a:off x="291600" y="2030400"/>
            <a:ext cx="15368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88280" y="2030400"/>
            <a:ext cx="1317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ANO6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724280" cy="1087560"/>
          </a:xfrm>
          <a:prstGeom prst="rect">
            <a:avLst/>
          </a:prstGeom>
          <a:ln w="0">
            <a:noFill/>
          </a:ln>
        </p:spPr>
      </p:pic>
      <p:pic>
        <p:nvPicPr>
          <p:cNvPr id="312" name="DSCF0055" descr=""/>
          <p:cNvPicPr/>
          <p:nvPr/>
        </p:nvPicPr>
        <p:blipFill>
          <a:blip r:embed="rId3"/>
          <a:stretch/>
        </p:blipFill>
        <p:spPr>
          <a:xfrm>
            <a:off x="6553080" y="4992840"/>
            <a:ext cx="1963800" cy="1296720"/>
          </a:xfrm>
          <a:prstGeom prst="rect">
            <a:avLst/>
          </a:prstGeom>
          <a:ln w="0">
            <a:noFill/>
          </a:ln>
        </p:spPr>
      </p:pic>
      <p:pic>
        <p:nvPicPr>
          <p:cNvPr id="313" name="photos%20relevé%20%20isa%20018" descr=""/>
          <p:cNvPicPr/>
          <p:nvPr/>
        </p:nvPicPr>
        <p:blipFill>
          <a:blip r:embed="rId4"/>
          <a:stretch/>
        </p:blipFill>
        <p:spPr>
          <a:xfrm>
            <a:off x="4191120" y="4992840"/>
            <a:ext cx="2085840" cy="129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562720" y="2743200"/>
            <a:ext cx="263196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Strategies of land occupation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 define new social /neighbourhood  spaces,allowing individual or collective uses.  « boundary invasions » trace new limits outide the camp and mixed fun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66920" y="658800"/>
            <a:ext cx="512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11440" y="658800"/>
            <a:ext cx="219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92560" y="822240"/>
            <a:ext cx="1828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New appropriation space, multiple uses from A &gt;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52640" y="1371600"/>
            <a:ext cx="366840" cy="219240"/>
          </a:xfrm>
          <a:prstGeom prst="rightArrow">
            <a:avLst>
              <a:gd name="adj1" fmla="val 50000"/>
              <a:gd name="adj2" fmla="val 418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0800000">
            <a:off x="6145200" y="1152000"/>
            <a:ext cx="365040" cy="219240"/>
          </a:xfrm>
          <a:prstGeom prst="rightArrow">
            <a:avLst>
              <a:gd name="adj1" fmla="val 50000"/>
              <a:gd name="adj2" fmla="val 4162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 rot="10800000">
            <a:no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29480" y="712800"/>
            <a:ext cx="29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2560" y="712800"/>
            <a:ext cx="2919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Century Gothic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95960" y="801720"/>
            <a:ext cx="1683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000" spc="-1" strike="noStrike">
                <a:solidFill>
                  <a:srgbClr val="cc0000"/>
                </a:solidFill>
                <a:latin typeface="Century Gothic"/>
              </a:rPr>
              <a:t>New appropriation space, multiple uses from B &gt;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1960" y="4937040"/>
            <a:ext cx="336564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Land aquisition from outside the camp together with previous land owneship create new dynamics of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penetration of the space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or enclaves insid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0680" y="533520"/>
            <a:ext cx="497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mutation%20transformation" descr=""/>
          <p:cNvPicPr/>
          <p:nvPr/>
        </p:nvPicPr>
        <p:blipFill>
          <a:blip r:embed="rId1"/>
          <a:stretch/>
        </p:blipFill>
        <p:spPr>
          <a:xfrm>
            <a:off x="914400" y="395280"/>
            <a:ext cx="7107120" cy="2195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204840"/>
            <a:ext cx="9144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URBAN CHANGE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</a:t>
            </a: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Mutation</a:t>
            </a:r>
            <a:r>
              <a:rPr b="1" lang="fr-FR" sz="1500" spc="-1" strike="noStrike">
                <a:solidFill>
                  <a:srgbClr val="cc0000"/>
                </a:solidFill>
                <a:latin typeface="Century Gothic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33920" y="533520"/>
            <a:ext cx="50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1960" y="2030400"/>
            <a:ext cx="0" cy="19749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1960" y="4005360"/>
            <a:ext cx="4584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705880" y="2030400"/>
            <a:ext cx="0" cy="4389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2200" y="6419880"/>
            <a:ext cx="54133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91600" y="2030400"/>
            <a:ext cx="15368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8280" y="2030400"/>
            <a:ext cx="1317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ANO5" descr=""/>
          <p:cNvPicPr/>
          <p:nvPr/>
        </p:nvPicPr>
        <p:blipFill>
          <a:blip r:embed="rId2"/>
          <a:stretch/>
        </p:blipFill>
        <p:spPr>
          <a:xfrm>
            <a:off x="3292560" y="5048280"/>
            <a:ext cx="5329080" cy="1297080"/>
          </a:xfrm>
          <a:prstGeom prst="rect">
            <a:avLst/>
          </a:prstGeom>
          <a:ln w="0">
            <a:noFill/>
          </a:ln>
        </p:spPr>
      </p:pic>
      <p:pic>
        <p:nvPicPr>
          <p:cNvPr id="335" name="photos%20relevé%20%20isa%20031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097000" cy="1296720"/>
          </a:xfrm>
          <a:prstGeom prst="rect">
            <a:avLst/>
          </a:prstGeom>
          <a:ln w="0">
            <a:noFill/>
          </a:ln>
        </p:spPr>
      </p:pic>
      <p:pic>
        <p:nvPicPr>
          <p:cNvPr id="336" name="photos%20relevé%20%20isa%20005" descr=""/>
          <p:cNvPicPr/>
          <p:nvPr/>
        </p:nvPicPr>
        <p:blipFill>
          <a:blip r:embed="rId4"/>
          <a:stretch/>
        </p:blipFill>
        <p:spPr>
          <a:xfrm>
            <a:off x="2819520" y="2590920"/>
            <a:ext cx="2019240" cy="1296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340240" y="2577960"/>
            <a:ext cx="321804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given the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demographic growth inside the camp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in the past decades new infrastructures (schools,clinics..)have been built around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9240" y="5102280"/>
            <a:ext cx="32191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&gt;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main urban connections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and insfractructures have been built all around the camp and </a:t>
            </a: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define its border without enclosing it.</a:t>
            </a: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5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5973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55440"/>
            <a:ext cx="9144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URBAN CHANGE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fr-FR" sz="1700" spc="-1" strike="noStrike">
                <a:solidFill>
                  <a:srgbClr val="cc0000"/>
                </a:solidFill>
                <a:latin typeface="Century Gothic"/>
              </a:rPr>
              <a:t>POTENTIAL</a:t>
            </a:r>
            <a:r>
              <a:rPr b="1" lang="fr-FR" sz="1500" spc="-1" strike="noStrike">
                <a:solidFill>
                  <a:srgbClr val="cc0000"/>
                </a:solidFill>
                <a:latin typeface="Century Gothic"/>
              </a:rPr>
              <a:t>S FOR TRANSFORMATION</a:t>
            </a:r>
            <a:r>
              <a:rPr b="1" lang="fr-FR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438120"/>
            <a:ext cx="91440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entury Gothic"/>
              </a:rPr>
              <a:t>&gt; Porosity/permeability of the border have lead to the progressive disappearing of the original boundary &gt; interaction of functions and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entury Gothic"/>
              </a:rPr>
              <a:t>&gt; Fast-developing social changes, irreversible landscape/urban transformations have brought to a recomposition of the whole fabric of the camp,both inside and outside its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entury Gothic"/>
              </a:rPr>
              <a:t>&gt; Complexity and interactions between in/out  raise the high urban potential of the camp defining new directions of growth and mutual belonging to th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447920" y="23760"/>
            <a:ext cx="6553080" cy="6834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340240" y="219240"/>
            <a:ext cx="490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DYNAMICS OF POPU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24520" y="4389480"/>
            <a:ext cx="804960" cy="6033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21360" y="3949560"/>
            <a:ext cx="803160" cy="6033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9572600">
            <a:off x="3082680" y="2277720"/>
            <a:ext cx="1901880" cy="8222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70240" y="3456000"/>
            <a:ext cx="803520" cy="6033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18280" y="4937040"/>
            <a:ext cx="0" cy="15368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18280" y="6286680"/>
            <a:ext cx="22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CASE STUD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54560" cy="6278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19240" y="219240"/>
            <a:ext cx="760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CASE STUDY A /</a:t>
            </a:r>
            <a:r>
              <a:rPr b="1" lang="fr-FR" sz="1700" spc="-1" strike="noStrike">
                <a:solidFill>
                  <a:srgbClr val="ff3300"/>
                </a:solidFill>
                <a:latin typeface="Century Gothic"/>
              </a:rPr>
              <a:t>vertical and horizontal junc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92560" y="603360"/>
            <a:ext cx="950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Al bier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365640" y="65844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38880" y="3124080"/>
            <a:ext cx="21942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Strong social/spatial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06840" y="1865160"/>
            <a:ext cx="877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65640" y="14270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1880" y="1316160"/>
            <a:ext cx="438948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59480" y="3511440"/>
            <a:ext cx="314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3097080"/>
            <a:ext cx="7162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entury Gothic"/>
              </a:rPr>
              <a:t>«  North and South no longer define an international order but rather have moved closer one another. The proximity of </a:t>
            </a:r>
            <a:r>
              <a:rPr b="0" i="1" lang="en-GB" sz="1400" spc="-1" strike="noStrike">
                <a:solidFill>
                  <a:srgbClr val="cc3300"/>
                </a:solidFill>
                <a:latin typeface="Century Gothic"/>
              </a:rPr>
              <a:t>extremely unequal populations</a:t>
            </a:r>
            <a:r>
              <a:rPr b="0" i="1" lang="en-GB" sz="1400" spc="-1" strike="noStrike">
                <a:solidFill>
                  <a:srgbClr val="ffffff"/>
                </a:solidFill>
                <a:latin typeface="Century Gothic"/>
              </a:rPr>
              <a:t> creates a situation of permanent social danger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entury Gothic"/>
              </a:rPr>
              <a:t>Tony Negri / Hardt in “Empi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6TIJUAN" descr=""/>
          <p:cNvPicPr/>
          <p:nvPr/>
        </p:nvPicPr>
        <p:blipFill>
          <a:blip r:embed="rId1"/>
          <a:stretch/>
        </p:blipFill>
        <p:spPr>
          <a:xfrm>
            <a:off x="0" y="430200"/>
            <a:ext cx="4419720" cy="2484360"/>
          </a:xfrm>
          <a:prstGeom prst="rect">
            <a:avLst/>
          </a:prstGeom>
          <a:ln w="0">
            <a:noFill/>
          </a:ln>
        </p:spPr>
      </p:pic>
      <p:pic>
        <p:nvPicPr>
          <p:cNvPr id="57" name="312_1211.JPGbis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354480" cy="2236680"/>
          </a:xfrm>
          <a:prstGeom prst="rect">
            <a:avLst/>
          </a:prstGeom>
          <a:ln w="0">
            <a:noFill/>
          </a:ln>
        </p:spPr>
      </p:pic>
      <p:pic>
        <p:nvPicPr>
          <p:cNvPr id="58" name="07BIENVE" descr=""/>
          <p:cNvPicPr/>
          <p:nvPr/>
        </p:nvPicPr>
        <p:blipFill>
          <a:blip r:embed="rId3"/>
          <a:stretch/>
        </p:blipFill>
        <p:spPr>
          <a:xfrm>
            <a:off x="4648320" y="430200"/>
            <a:ext cx="20174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08GRIGLI" descr=""/>
          <p:cNvPicPr/>
          <p:nvPr/>
        </p:nvPicPr>
        <p:blipFill>
          <a:blip r:embed="rId4"/>
          <a:stretch/>
        </p:blipFill>
        <p:spPr>
          <a:xfrm>
            <a:off x="6858000" y="430200"/>
            <a:ext cx="189864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311_1194.JPGred" descr=""/>
          <p:cNvPicPr/>
          <p:nvPr/>
        </p:nvPicPr>
        <p:blipFill>
          <a:blip r:embed="rId5"/>
          <a:stretch/>
        </p:blipFill>
        <p:spPr>
          <a:xfrm>
            <a:off x="3962520" y="4343400"/>
            <a:ext cx="3352680" cy="223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152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entury Gothic"/>
              </a:rPr>
              <a:t>Tijuana border between Mexico/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65833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entury Gothic"/>
              </a:rPr>
              <a:t>Abu Dis/ separation wall  between West Bank/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757680" cy="40640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934320" y="2286000"/>
            <a:ext cx="1854000" cy="13906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58800" y="4486320"/>
            <a:ext cx="1438200" cy="154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80880" y="1752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962520" cy="1393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19240" y="219240"/>
            <a:ext cx="490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CASE STUDY A / </a:t>
            </a:r>
            <a:r>
              <a:rPr b="1" lang="fr-FR" sz="1300" spc="-1" strike="noStrike">
                <a:solidFill>
                  <a:srgbClr val="ff3300"/>
                </a:solidFill>
                <a:latin typeface="Century Gothic"/>
              </a:rPr>
              <a:t>JUN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0240" y="4664160"/>
            <a:ext cx="0" cy="18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5200" y="4664160"/>
            <a:ext cx="0" cy="18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62560" y="6254640"/>
            <a:ext cx="17557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Individual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6254640"/>
            <a:ext cx="876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18280" y="6254640"/>
            <a:ext cx="877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54520" y="5924520"/>
            <a:ext cx="1390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Al bier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51440" y="1809720"/>
            <a:ext cx="27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1387440"/>
            <a:ext cx="19764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ff9900"/>
                </a:solidFill>
                <a:latin typeface="Century Gothic"/>
              </a:rPr>
              <a:t>Refugees living inside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200400"/>
            <a:ext cx="19749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entury Gothic"/>
              </a:rPr>
              <a:t>Refugees living outside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35640" y="2577960"/>
            <a:ext cx="0" cy="10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535640" y="3621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23240" y="3786120"/>
            <a:ext cx="21207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Void space in between the refug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5040" y="3402000"/>
            <a:ext cx="22687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entury Gothic"/>
              </a:rPr>
              <a:t>Semi-public space and transformed access to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16160" y="6035760"/>
            <a:ext cx="877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48040" y="5048280"/>
            <a:ext cx="950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Al bier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6160" y="5267160"/>
            <a:ext cx="270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16160" y="433404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16160" y="4280040"/>
            <a:ext cx="950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Al bier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080" y="5048280"/>
            <a:ext cx="877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 Gothic"/>
              </a:rPr>
              <a:t>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638680" cy="4302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6320" y="4896000"/>
            <a:ext cx="2313000" cy="1733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2720880" y="497196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51520" y="497196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19240" y="219240"/>
            <a:ext cx="760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entury Gothic"/>
              </a:rPr>
              <a:t>CASE STUDY D / </a:t>
            </a:r>
            <a:r>
              <a:rPr b="1" lang="fr-FR" sz="1700" spc="-1" strike="noStrike">
                <a:solidFill>
                  <a:srgbClr val="ff3300"/>
                </a:solidFill>
                <a:latin typeface="Century Gothic"/>
              </a:rPr>
              <a:t>encla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762120"/>
            <a:ext cx="26319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ff9900"/>
                </a:solidFill>
                <a:latin typeface="Century Gothic"/>
              </a:rPr>
              <a:t>Refugees inside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3127320"/>
            <a:ext cx="263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Century Gothic"/>
              </a:rPr>
              <a:t>Refugees outside the c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1600200"/>
            <a:ext cx="20494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Century Gothic"/>
              </a:rPr>
              <a:t>Al Biereh citiz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139840"/>
            <a:ext cx="0" cy="378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040" y="4224240"/>
            <a:ext cx="8340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entury Gothic"/>
              </a:rPr>
              <a:t>&gt; dialectical borderline: permeability / impermeability change according to the use of the « encalve » space.  Dual identity of its inhabitants (citizens/hosts of refug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9480" y="762120"/>
            <a:ext cx="800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WHAT CAN WE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Enhance Participation / approp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Experimentation of architectural/urban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Risk prevention and habitat improvement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Link emergency to developmen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Promote a contextual/appropriate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Strenghthen lasting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Negotiate land ownership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Diminish dependence and assistance by reinforcing local skills and compe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- North/South and South/South technological transfer and pedagogic exchan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" y="2362320"/>
            <a:ext cx="93726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fr-FR" sz="1400" spc="-1" strike="noStrike">
                <a:solidFill>
                  <a:srgbClr val="ffffff"/>
                </a:solidFill>
                <a:latin typeface="Century Gothic"/>
              </a:rPr>
              <a:t>In fondo non siamo ciechi di spirito, caro padre, ma solo esseri umani in un mondo in piena trasformazione. </a:t>
            </a:r>
            <a:r>
              <a:rPr b="0" i="1" lang="en-GB" sz="1400" spc="-1" strike="noStrike">
                <a:solidFill>
                  <a:srgbClr val="cc0000"/>
                </a:solidFill>
                <a:latin typeface="Century Gothic"/>
              </a:rPr>
              <a:t>Che dovremmo far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GB" sz="1400" spc="-1" strike="noStrike">
                <a:solidFill>
                  <a:srgbClr val="ffffff"/>
                </a:solidFill>
                <a:latin typeface="Century Gothic"/>
              </a:rPr>
              <a:t>After all, we are not blind in our souls, father, but only human beings in a world in deep transform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cc0000"/>
                </a:solidFill>
                <a:latin typeface="Century Gothic"/>
              </a:rPr>
              <a:t>What should we 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ff"/>
                </a:solidFill>
                <a:latin typeface="Century Gothic"/>
              </a:rPr>
              <a:t>Burt Lancaster in “Il Gattopardo”, film by Visconti, 19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624852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Century Gothic"/>
              </a:rPr>
              <a:t>I would like to thank Antonella Vitale and Tom Corsellis , the team of Shelter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53341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Century Gothic"/>
              </a:rPr>
              <a:t>MAP OF WORLD CONFLICTS AND RISKS/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ppamondo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6880" y="3200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590920"/>
            <a:ext cx="754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It is the effort to </a:t>
            </a:r>
            <a:r>
              <a:rPr b="0" i="1" lang="en-GB" sz="1800" spc="-1" strike="noStrike">
                <a:solidFill>
                  <a:srgbClr val="cc0000"/>
                </a:solidFill>
                <a:latin typeface="Arial"/>
              </a:rPr>
              <a:t>change the times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which inscribes 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ore deeply in them”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P Sart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3REFUGEE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297320" cy="6475320"/>
          </a:xfrm>
          <a:prstGeom prst="rect">
            <a:avLst/>
          </a:prstGeom>
          <a:ln w="0">
            <a:noFill/>
          </a:ln>
        </p:spPr>
      </p:pic>
      <p:pic>
        <p:nvPicPr>
          <p:cNvPr id="68" name="MAMMAEBI" descr=""/>
          <p:cNvPicPr/>
          <p:nvPr/>
        </p:nvPicPr>
        <p:blipFill>
          <a:blip r:embed="rId2"/>
          <a:stretch/>
        </p:blipFill>
        <p:spPr>
          <a:xfrm>
            <a:off x="3276720" y="1393920"/>
            <a:ext cx="5943600" cy="400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5335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entury Gothic"/>
              </a:rPr>
              <a:t>How can we link relief actio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36:22Z</dcterms:created>
  <dc:creator>sandra</dc:creator>
  <dc:description/>
  <dc:language>en-US</dc:language>
  <cp:lastModifiedBy>Sandra</cp:lastModifiedBy>
  <dcterms:modified xsi:type="dcterms:W3CDTF">2004-11-04T00:29:20Z</dcterms:modified>
  <cp:revision>33</cp:revision>
  <dc:subject/>
  <dc:title>“The tradition of the oppressed teaches us that the state of emergency in which we live is not the exception but the rule. We must attain to a concept of history that is keeping with this insight”  Walter Benjamin </dc:title>
</cp:coreProperties>
</file>