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6.png" ContentType="image/png"/>
  <Override PartName="/ppt/media/image31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040-58AA-4658-A538-1D6D7656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A4A-76F0-4649-B67B-B0F6076A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4A9-DF5A-443A-8691-A5D6F427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A5D-7682-4BC5-999A-000673D9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242-C126-4104-BC09-C35A14EF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256-499D-4486-BDE9-6F4EEC98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FEB9-D19B-4192-906B-33EC9169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4A2-E244-43CB-A28A-AD29867D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955-3F7D-4CEE-ABE0-13252F5F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D5C-E350-4D20-AEE6-AF897DA1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636-B187-46F0-A3CF-567F1A69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E19-DA3F-403D-904E-227F897F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A493-29A0-40F9-9D86-EAA9F36250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7.jpeg"/><Relationship Id="rId26" Type="http://schemas.openxmlformats.org/officeDocument/2006/relationships/image" Target="../media/image28.png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1680" y="6629400"/>
            <a:ext cx="2286000" cy="0"/>
          </a:xfrm>
          <a:prstGeom prst="line">
            <a:avLst/>
          </a:prstGeom>
          <a:ln w="28440">
            <a:solidFill>
              <a:srgbClr val="2a3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Unbenannt-2a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839440" cy="4537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6440" y="76320"/>
            <a:ext cx="4435560" cy="1628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73120" y="639720"/>
            <a:ext cx="57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230040" y="961920"/>
            <a:ext cx="8532000" cy="5827680"/>
            <a:chOff x="230040" y="961920"/>
            <a:chExt cx="8532000" cy="5827680"/>
          </a:xfrm>
        </p:grpSpPr>
        <p:grpSp>
          <p:nvGrpSpPr>
            <p:cNvPr id="202" name=""/>
            <p:cNvGrpSpPr/>
            <p:nvPr/>
          </p:nvGrpSpPr>
          <p:grpSpPr>
            <a:xfrm>
              <a:off x="336600" y="961920"/>
              <a:ext cx="8425440" cy="5494680"/>
              <a:chOff x="336600" y="961920"/>
              <a:chExt cx="8425440" cy="549468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336600" y="961920"/>
                <a:ext cx="8425440" cy="5494680"/>
                <a:chOff x="336600" y="961920"/>
                <a:chExt cx="8425440" cy="5494680"/>
              </a:xfrm>
            </p:grpSpPr>
            <p:pic>
              <p:nvPicPr>
                <p:cNvPr id="20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503960" y="961920"/>
                  <a:ext cx="4258080" cy="2776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549320" y="3661920"/>
                  <a:ext cx="4212720" cy="2765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6600" y="3553920"/>
                  <a:ext cx="4212720" cy="2902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6600" y="961920"/>
                  <a:ext cx="4212720" cy="2700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8" name=""/>
              <p:cNvSpPr/>
              <p:nvPr/>
            </p:nvSpPr>
            <p:spPr>
              <a:xfrm>
                <a:off x="3901320" y="2926440"/>
                <a:ext cx="38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2b2b2"/>
                    </a:solidFill>
                    <a:latin typeface="Century Gothic"/>
                    <a:ea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56960" y="2926440"/>
                <a:ext cx="38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2b2b2"/>
                    </a:solidFill>
                    <a:latin typeface="Century Gothic"/>
                    <a:ea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32280" y="3662280"/>
                <a:ext cx="31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2b2b2"/>
                    </a:solidFill>
                    <a:latin typeface="Century Gothic"/>
                    <a:ea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56960" y="3682440"/>
                <a:ext cx="38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2b2b2"/>
                    </a:solidFill>
                    <a:latin typeface="Century Gothic"/>
                    <a:ea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230040" y="6513120"/>
              <a:ext cx="24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Steps of illegal land occup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Unbenannt-2a" descr=""/>
          <p:cNvPicPr/>
          <p:nvPr/>
        </p:nvPicPr>
        <p:blipFill>
          <a:blip r:embed="rId5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pic>
        <p:nvPicPr>
          <p:cNvPr id="215" name="LOGO%20200%20no%20text%20Kopie" descr=""/>
          <p:cNvPicPr/>
          <p:nvPr/>
        </p:nvPicPr>
        <p:blipFill>
          <a:blip r:embed="rId6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162200" y="6858000"/>
            <a:ext cx="6019920" cy="4391280"/>
            <a:chOff x="7162200" y="6858000"/>
            <a:chExt cx="6019920" cy="439128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238880" y="6858000"/>
              <a:ext cx="289512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8"/>
            <a:stretch/>
          </p:blipFill>
          <p:spPr>
            <a:xfrm>
              <a:off x="7238880" y="8837640"/>
              <a:ext cx="3047760" cy="21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9"/>
            <a:srcRect l="0" t="0" r="15" b="40"/>
            <a:stretch/>
          </p:blipFill>
          <p:spPr>
            <a:xfrm>
              <a:off x="10287000" y="8832960"/>
              <a:ext cx="2895120" cy="21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0"/>
            <a:stretch/>
          </p:blipFill>
          <p:spPr>
            <a:xfrm>
              <a:off x="10134360" y="6858000"/>
              <a:ext cx="30477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162200" y="10972800"/>
              <a:ext cx="190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Urban slums (Belgrad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-9216000" y="5867280"/>
            <a:ext cx="6015600" cy="4421520"/>
            <a:chOff x="-9216000" y="5867280"/>
            <a:chExt cx="6015600" cy="4421520"/>
          </a:xfrm>
        </p:grpSpPr>
        <p:pic>
          <p:nvPicPr>
            <p:cNvPr id="224" name="Unbenannt-2a" descr=""/>
            <p:cNvPicPr/>
            <p:nvPr/>
          </p:nvPicPr>
          <p:blipFill>
            <a:blip r:embed="rId11"/>
            <a:srcRect l="50864" t="0" r="0" b="51298"/>
            <a:stretch/>
          </p:blipFill>
          <p:spPr>
            <a:xfrm>
              <a:off x="-9144000" y="5867280"/>
              <a:ext cx="59436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-9216000" y="10012320"/>
              <a:ext cx="340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Informal housing in Montenegro (Podgoric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1756800" y="7391520"/>
            <a:ext cx="6023880" cy="4421160"/>
            <a:chOff x="-1756800" y="7391520"/>
            <a:chExt cx="6023880" cy="4421160"/>
          </a:xfrm>
        </p:grpSpPr>
        <p:pic>
          <p:nvPicPr>
            <p:cNvPr id="227" name="" descr=""/>
            <p:cNvPicPr/>
            <p:nvPr/>
          </p:nvPicPr>
          <p:blipFill>
            <a:blip r:embed="rId12">
              <a:lum bright="18000"/>
            </a:blip>
            <a:stretch/>
          </p:blipFill>
          <p:spPr>
            <a:xfrm>
              <a:off x="-1676520" y="7391520"/>
              <a:ext cx="3106800" cy="41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3"/>
            <a:stretch/>
          </p:blipFill>
          <p:spPr>
            <a:xfrm>
              <a:off x="1371600" y="7391520"/>
              <a:ext cx="289548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4"/>
            <a:stretch/>
          </p:blipFill>
          <p:spPr>
            <a:xfrm>
              <a:off x="1371600" y="9524880"/>
              <a:ext cx="289548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-1756800" y="11536200"/>
              <a:ext cx="57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Unplanned settlements (Sarajevo / Podgorica) &amp; illegal electricity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-11887920" y="-1447920"/>
            <a:ext cx="6096600" cy="4421520"/>
            <a:chOff x="-11887920" y="-1447920"/>
            <a:chExt cx="6096600" cy="4421520"/>
          </a:xfrm>
        </p:grpSpPr>
        <p:pic>
          <p:nvPicPr>
            <p:cNvPr id="232" name="bathore 1995" descr=""/>
            <p:cNvPicPr/>
            <p:nvPr/>
          </p:nvPicPr>
          <p:blipFill>
            <a:blip r:embed="rId15"/>
            <a:stretch/>
          </p:blipFill>
          <p:spPr>
            <a:xfrm>
              <a:off x="-11810880" y="-1447920"/>
              <a:ext cx="3603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resence of Mayor and Minister of Public Works for opening" descr=""/>
            <p:cNvPicPr/>
            <p:nvPr/>
          </p:nvPicPr>
          <p:blipFill>
            <a:blip r:embed="rId16"/>
            <a:stretch/>
          </p:blipFill>
          <p:spPr>
            <a:xfrm>
              <a:off x="-8229600" y="609480"/>
              <a:ext cx="2438280" cy="20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7"/>
            <a:stretch/>
          </p:blipFill>
          <p:spPr>
            <a:xfrm>
              <a:off x="-8229600" y="-1447920"/>
              <a:ext cx="2438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-11887920" y="2697120"/>
              <a:ext cx="32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Public resistance /  participation (Albani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-12111840" y="-8305920"/>
            <a:ext cx="5996520" cy="4421520"/>
            <a:chOff x="-12111840" y="-8305920"/>
            <a:chExt cx="5996520" cy="4421520"/>
          </a:xfrm>
        </p:grpSpPr>
        <p:grpSp>
          <p:nvGrpSpPr>
            <p:cNvPr id="237" name=""/>
            <p:cNvGrpSpPr/>
            <p:nvPr/>
          </p:nvGrpSpPr>
          <p:grpSpPr>
            <a:xfrm>
              <a:off x="-12111840" y="-8305920"/>
              <a:ext cx="5996520" cy="4421520"/>
              <a:chOff x="-12111840" y="-8305920"/>
              <a:chExt cx="5996520" cy="442152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-12039840" y="-8305920"/>
                <a:ext cx="3124440" cy="184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19"/>
              <a:srcRect l="0" t="0" r="0" b="24"/>
              <a:stretch/>
            </p:blipFill>
            <p:spPr>
              <a:xfrm>
                <a:off x="-8934480" y="-8305920"/>
                <a:ext cx="2819160" cy="18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-8934480" y="-6553080"/>
                <a:ext cx="2819160" cy="23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-12111840" y="-4160880"/>
                <a:ext cx="429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3399"/>
                    </a:solidFill>
                    <a:latin typeface="Arial"/>
                  </a:rPr>
                  <a:t>… </a:t>
                </a:r>
                <a:r>
                  <a:rPr b="1" lang="en-GB" sz="1200" spc="-1" strike="noStrike">
                    <a:solidFill>
                      <a:srgbClr val="003399"/>
                    </a:solidFill>
                    <a:latin typeface="Arial"/>
                  </a:rPr>
                  <a:t>and informal housing in Montenegro (Podgorica / Ba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42" name="" descr=""/>
            <p:cNvPicPr/>
            <p:nvPr/>
          </p:nvPicPr>
          <p:blipFill>
            <a:blip r:embed="rId21"/>
            <a:stretch/>
          </p:blipFill>
          <p:spPr>
            <a:xfrm>
              <a:off x="-12039480" y="-6532560"/>
              <a:ext cx="3105360" cy="234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Unbenannt-2a" descr=""/>
          <p:cNvPicPr/>
          <p:nvPr/>
        </p:nvPicPr>
        <p:blipFill>
          <a:blip r:embed="rId1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08400" y="990720"/>
            <a:ext cx="8001720" cy="5746680"/>
            <a:chOff x="608400" y="990720"/>
            <a:chExt cx="8001720" cy="5746680"/>
          </a:xfrm>
        </p:grpSpPr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710640" y="990720"/>
              <a:ext cx="3848040" cy="26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710640" y="3622320"/>
              <a:ext cx="4051080" cy="282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"/>
            <a:srcRect l="0" t="0" r="15" b="40"/>
            <a:stretch/>
          </p:blipFill>
          <p:spPr>
            <a:xfrm>
              <a:off x="4761720" y="3616200"/>
              <a:ext cx="3848040" cy="28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5"/>
            <a:stretch/>
          </p:blipFill>
          <p:spPr>
            <a:xfrm>
              <a:off x="4559040" y="990720"/>
              <a:ext cx="4051080" cy="26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08400" y="6460920"/>
              <a:ext cx="190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Urban slums (Belgrad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-1756800" y="7391520"/>
            <a:ext cx="6023880" cy="4421160"/>
            <a:chOff x="-1756800" y="7391520"/>
            <a:chExt cx="6023880" cy="4421160"/>
          </a:xfrm>
        </p:grpSpPr>
        <p:pic>
          <p:nvPicPr>
            <p:cNvPr id="252" name="" descr=""/>
            <p:cNvPicPr/>
            <p:nvPr/>
          </p:nvPicPr>
          <p:blipFill>
            <a:blip r:embed="rId6">
              <a:lum bright="18000"/>
            </a:blip>
            <a:stretch/>
          </p:blipFill>
          <p:spPr>
            <a:xfrm>
              <a:off x="-1676520" y="7391520"/>
              <a:ext cx="3106800" cy="41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7"/>
            <a:stretch/>
          </p:blipFill>
          <p:spPr>
            <a:xfrm>
              <a:off x="1371600" y="7391520"/>
              <a:ext cx="289548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8"/>
            <a:stretch/>
          </p:blipFill>
          <p:spPr>
            <a:xfrm>
              <a:off x="1371600" y="9524880"/>
              <a:ext cx="289548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-1756800" y="11536200"/>
              <a:ext cx="57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Unplanned settlements (Sarajevo / Podgorica) &amp; illegal electricity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-11887920" y="-1447920"/>
            <a:ext cx="6096600" cy="4421520"/>
            <a:chOff x="-11887920" y="-1447920"/>
            <a:chExt cx="6096600" cy="4421520"/>
          </a:xfrm>
        </p:grpSpPr>
        <p:pic>
          <p:nvPicPr>
            <p:cNvPr id="257" name="bathore 1995" descr=""/>
            <p:cNvPicPr/>
            <p:nvPr/>
          </p:nvPicPr>
          <p:blipFill>
            <a:blip r:embed="rId9"/>
            <a:stretch/>
          </p:blipFill>
          <p:spPr>
            <a:xfrm>
              <a:off x="-11810880" y="-1447920"/>
              <a:ext cx="3603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resence of Mayor and Minister of Public Works for opening" descr=""/>
            <p:cNvPicPr/>
            <p:nvPr/>
          </p:nvPicPr>
          <p:blipFill>
            <a:blip r:embed="rId10"/>
            <a:stretch/>
          </p:blipFill>
          <p:spPr>
            <a:xfrm>
              <a:off x="-8229600" y="609480"/>
              <a:ext cx="2438280" cy="20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1"/>
            <a:stretch/>
          </p:blipFill>
          <p:spPr>
            <a:xfrm>
              <a:off x="-8229600" y="-1447920"/>
              <a:ext cx="2438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-11887920" y="2697120"/>
              <a:ext cx="32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Public resistance /  participation (Albani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1" name="LOGO%20200%20no%20text%20Kopie" descr=""/>
          <p:cNvPicPr/>
          <p:nvPr/>
        </p:nvPicPr>
        <p:blipFill>
          <a:blip r:embed="rId12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461520" y="946080"/>
            <a:ext cx="8072640" cy="5837040"/>
            <a:chOff x="461520" y="946080"/>
            <a:chExt cx="8072640" cy="5837040"/>
          </a:xfrm>
        </p:grpSpPr>
        <p:pic>
          <p:nvPicPr>
            <p:cNvPr id="263" name="Unbenannt-2a" descr=""/>
            <p:cNvPicPr/>
            <p:nvPr/>
          </p:nvPicPr>
          <p:blipFill>
            <a:blip r:embed="rId1"/>
            <a:srcRect l="50864" t="0" r="0" b="51298"/>
            <a:stretch/>
          </p:blipFill>
          <p:spPr>
            <a:xfrm>
              <a:off x="559440" y="946080"/>
              <a:ext cx="7974720" cy="55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61520" y="6506640"/>
              <a:ext cx="340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Informal housing in Montenegro (Podgoric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5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162200" y="6858000"/>
            <a:ext cx="6019920" cy="4391280"/>
            <a:chOff x="7162200" y="6858000"/>
            <a:chExt cx="6019920" cy="4391280"/>
          </a:xfrm>
        </p:grpSpPr>
        <p:pic>
          <p:nvPicPr>
            <p:cNvPr id="268" name="" descr=""/>
            <p:cNvPicPr/>
            <p:nvPr/>
          </p:nvPicPr>
          <p:blipFill>
            <a:blip r:embed="rId3"/>
            <a:stretch/>
          </p:blipFill>
          <p:spPr>
            <a:xfrm>
              <a:off x="7238880" y="6858000"/>
              <a:ext cx="289512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7238880" y="8837640"/>
              <a:ext cx="3047760" cy="21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5"/>
            <a:srcRect l="0" t="0" r="15" b="40"/>
            <a:stretch/>
          </p:blipFill>
          <p:spPr>
            <a:xfrm>
              <a:off x="10287000" y="8832960"/>
              <a:ext cx="2895120" cy="21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6"/>
            <a:stretch/>
          </p:blipFill>
          <p:spPr>
            <a:xfrm>
              <a:off x="10134360" y="6858000"/>
              <a:ext cx="30477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162200" y="10972800"/>
              <a:ext cx="190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Urban slums (Belgrad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-1756800" y="7391520"/>
            <a:ext cx="6023880" cy="4421160"/>
            <a:chOff x="-1756800" y="7391520"/>
            <a:chExt cx="6023880" cy="4421160"/>
          </a:xfrm>
        </p:grpSpPr>
        <p:pic>
          <p:nvPicPr>
            <p:cNvPr id="274" name="" descr=""/>
            <p:cNvPicPr/>
            <p:nvPr/>
          </p:nvPicPr>
          <p:blipFill>
            <a:blip r:embed="rId7">
              <a:lum bright="18000"/>
            </a:blip>
            <a:stretch/>
          </p:blipFill>
          <p:spPr>
            <a:xfrm>
              <a:off x="-1676520" y="7391520"/>
              <a:ext cx="3106800" cy="41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8"/>
            <a:stretch/>
          </p:blipFill>
          <p:spPr>
            <a:xfrm>
              <a:off x="1371600" y="7391520"/>
              <a:ext cx="289548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9"/>
            <a:stretch/>
          </p:blipFill>
          <p:spPr>
            <a:xfrm>
              <a:off x="1371600" y="9524880"/>
              <a:ext cx="289548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-1756800" y="11536200"/>
              <a:ext cx="57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Unplanned settlements (Sarajevo / Podgorica) &amp; illegal electricity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-11887920" y="-1447920"/>
            <a:ext cx="6096600" cy="4421520"/>
            <a:chOff x="-11887920" y="-1447920"/>
            <a:chExt cx="6096600" cy="4421520"/>
          </a:xfrm>
        </p:grpSpPr>
        <p:pic>
          <p:nvPicPr>
            <p:cNvPr id="279" name="bathore 1995" descr=""/>
            <p:cNvPicPr/>
            <p:nvPr/>
          </p:nvPicPr>
          <p:blipFill>
            <a:blip r:embed="rId10"/>
            <a:stretch/>
          </p:blipFill>
          <p:spPr>
            <a:xfrm>
              <a:off x="-11810880" y="-1447920"/>
              <a:ext cx="3603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resence of Mayor and Minister of Public Works for opening" descr=""/>
            <p:cNvPicPr/>
            <p:nvPr/>
          </p:nvPicPr>
          <p:blipFill>
            <a:blip r:embed="rId11"/>
            <a:stretch/>
          </p:blipFill>
          <p:spPr>
            <a:xfrm>
              <a:off x="-8229600" y="609480"/>
              <a:ext cx="2438280" cy="20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12"/>
            <a:stretch/>
          </p:blipFill>
          <p:spPr>
            <a:xfrm>
              <a:off x="-8229600" y="-1447920"/>
              <a:ext cx="2438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-11887920" y="2697120"/>
              <a:ext cx="32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Public resistance /  participation (Albani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3" name="LOGO%20200%20no%20text%20Kopie" descr=""/>
          <p:cNvPicPr/>
          <p:nvPr/>
        </p:nvPicPr>
        <p:blipFill>
          <a:blip r:embed="rId1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537480" y="990720"/>
            <a:ext cx="7996320" cy="5802840"/>
            <a:chOff x="537480" y="990720"/>
            <a:chExt cx="7996320" cy="5802840"/>
          </a:xfrm>
        </p:grpSpPr>
        <p:grpSp>
          <p:nvGrpSpPr>
            <p:cNvPr id="285" name=""/>
            <p:cNvGrpSpPr/>
            <p:nvPr/>
          </p:nvGrpSpPr>
          <p:grpSpPr>
            <a:xfrm>
              <a:off x="537480" y="990720"/>
              <a:ext cx="7996320" cy="5802840"/>
              <a:chOff x="537480" y="990720"/>
              <a:chExt cx="7996320" cy="5802840"/>
            </a:xfrm>
          </p:grpSpPr>
          <p:pic>
            <p:nvPicPr>
              <p:cNvPr id="2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34680" y="990720"/>
                <a:ext cx="4165560" cy="246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" descr=""/>
              <p:cNvPicPr/>
              <p:nvPr/>
            </p:nvPicPr>
            <p:blipFill>
              <a:blip r:embed="rId2"/>
              <a:srcRect l="0" t="0" r="0" b="24"/>
              <a:stretch/>
            </p:blipFill>
            <p:spPr>
              <a:xfrm>
                <a:off x="4775040" y="990720"/>
                <a:ext cx="3758760" cy="243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75040" y="3327480"/>
                <a:ext cx="3758760" cy="314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>
                <a:off x="537480" y="6517080"/>
                <a:ext cx="429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3399"/>
                    </a:solidFill>
                    <a:latin typeface="Arial"/>
                  </a:rPr>
                  <a:t>… </a:t>
                </a:r>
                <a:r>
                  <a:rPr b="1" lang="en-GB" sz="1200" spc="-1" strike="noStrike">
                    <a:solidFill>
                      <a:srgbClr val="003399"/>
                    </a:solidFill>
                    <a:latin typeface="Arial"/>
                  </a:rPr>
                  <a:t>and informal housing in Montenegro (Podgorica / Ba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90" name="" descr=""/>
            <p:cNvPicPr/>
            <p:nvPr/>
          </p:nvPicPr>
          <p:blipFill>
            <a:blip r:embed="rId4"/>
            <a:stretch/>
          </p:blipFill>
          <p:spPr>
            <a:xfrm>
              <a:off x="634680" y="3354480"/>
              <a:ext cx="4140360" cy="31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Unbenannt-2a" descr=""/>
          <p:cNvPicPr/>
          <p:nvPr/>
        </p:nvPicPr>
        <p:blipFill>
          <a:blip r:embed="rId5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pic>
        <p:nvPicPr>
          <p:cNvPr id="293" name="LOGO%20200%20no%20text%20Kopie" descr=""/>
          <p:cNvPicPr/>
          <p:nvPr/>
        </p:nvPicPr>
        <p:blipFill>
          <a:blip r:embed="rId6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162200" y="6858000"/>
            <a:ext cx="6019920" cy="4391280"/>
            <a:chOff x="7162200" y="6858000"/>
            <a:chExt cx="6019920" cy="4391280"/>
          </a:xfrm>
        </p:grpSpPr>
        <p:pic>
          <p:nvPicPr>
            <p:cNvPr id="296" name="" descr=""/>
            <p:cNvPicPr/>
            <p:nvPr/>
          </p:nvPicPr>
          <p:blipFill>
            <a:blip r:embed="rId7"/>
            <a:stretch/>
          </p:blipFill>
          <p:spPr>
            <a:xfrm>
              <a:off x="7238880" y="6858000"/>
              <a:ext cx="289512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8"/>
            <a:stretch/>
          </p:blipFill>
          <p:spPr>
            <a:xfrm>
              <a:off x="7238880" y="8837640"/>
              <a:ext cx="3047760" cy="21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9"/>
            <a:srcRect l="0" t="0" r="15" b="40"/>
            <a:stretch/>
          </p:blipFill>
          <p:spPr>
            <a:xfrm>
              <a:off x="10287000" y="8832960"/>
              <a:ext cx="2895120" cy="21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10"/>
            <a:stretch/>
          </p:blipFill>
          <p:spPr>
            <a:xfrm>
              <a:off x="10134360" y="6858000"/>
              <a:ext cx="30477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7162200" y="10972800"/>
              <a:ext cx="190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Urban slums (Belgrad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-4415400" y="-6705720"/>
            <a:ext cx="6015600" cy="4421520"/>
            <a:chOff x="-4415400" y="-6705720"/>
            <a:chExt cx="6015600" cy="4421520"/>
          </a:xfrm>
        </p:grpSpPr>
        <p:pic>
          <p:nvPicPr>
            <p:cNvPr id="302" name="Unbenannt-2a" descr=""/>
            <p:cNvPicPr/>
            <p:nvPr/>
          </p:nvPicPr>
          <p:blipFill>
            <a:blip r:embed="rId11"/>
            <a:srcRect l="50864" t="0" r="0" b="51298"/>
            <a:stretch/>
          </p:blipFill>
          <p:spPr>
            <a:xfrm>
              <a:off x="-4343400" y="-6705720"/>
              <a:ext cx="59436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-4415400" y="-2560680"/>
              <a:ext cx="340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Informal housing in Montenegro (Podgoric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-1756800" y="7391520"/>
            <a:ext cx="6023880" cy="4421160"/>
            <a:chOff x="-1756800" y="7391520"/>
            <a:chExt cx="6023880" cy="4421160"/>
          </a:xfrm>
        </p:grpSpPr>
        <p:pic>
          <p:nvPicPr>
            <p:cNvPr id="305" name="" descr=""/>
            <p:cNvPicPr/>
            <p:nvPr/>
          </p:nvPicPr>
          <p:blipFill>
            <a:blip r:embed="rId12">
              <a:lum bright="18000"/>
            </a:blip>
            <a:stretch/>
          </p:blipFill>
          <p:spPr>
            <a:xfrm>
              <a:off x="-1676520" y="7391520"/>
              <a:ext cx="3106800" cy="41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13"/>
            <a:stretch/>
          </p:blipFill>
          <p:spPr>
            <a:xfrm>
              <a:off x="1371600" y="7391520"/>
              <a:ext cx="289548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14"/>
            <a:stretch/>
          </p:blipFill>
          <p:spPr>
            <a:xfrm>
              <a:off x="1371600" y="9524880"/>
              <a:ext cx="289548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-1756800" y="11536200"/>
              <a:ext cx="57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Unplanned settlements (Sarajevo / Podgorica) &amp; illegal electricity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-11887920" y="-1447920"/>
            <a:ext cx="6096600" cy="4421520"/>
            <a:chOff x="-11887920" y="-1447920"/>
            <a:chExt cx="6096600" cy="4421520"/>
          </a:xfrm>
        </p:grpSpPr>
        <p:pic>
          <p:nvPicPr>
            <p:cNvPr id="310" name="bathore 1995" descr=""/>
            <p:cNvPicPr/>
            <p:nvPr/>
          </p:nvPicPr>
          <p:blipFill>
            <a:blip r:embed="rId15"/>
            <a:stretch/>
          </p:blipFill>
          <p:spPr>
            <a:xfrm>
              <a:off x="-11810880" y="-1447920"/>
              <a:ext cx="3603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resence of Mayor and Minister of Public Works for opening" descr=""/>
            <p:cNvPicPr/>
            <p:nvPr/>
          </p:nvPicPr>
          <p:blipFill>
            <a:blip r:embed="rId16"/>
            <a:stretch/>
          </p:blipFill>
          <p:spPr>
            <a:xfrm>
              <a:off x="-8229600" y="609480"/>
              <a:ext cx="2438280" cy="20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17"/>
            <a:stretch/>
          </p:blipFill>
          <p:spPr>
            <a:xfrm>
              <a:off x="-8229600" y="-1447920"/>
              <a:ext cx="2438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-11887920" y="2697120"/>
              <a:ext cx="32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Public resistance /  participation (Albani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Unbenannt-2a" descr=""/>
          <p:cNvPicPr/>
          <p:nvPr/>
        </p:nvPicPr>
        <p:blipFill>
          <a:blip r:embed="rId1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76920" y="838080"/>
            <a:ext cx="8309160" cy="5995080"/>
            <a:chOff x="376920" y="838080"/>
            <a:chExt cx="8309160" cy="5995080"/>
          </a:xfrm>
        </p:grpSpPr>
        <p:pic>
          <p:nvPicPr>
            <p:cNvPr id="317" name="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485640" y="838080"/>
              <a:ext cx="4286520" cy="57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4691160" y="838080"/>
              <a:ext cx="3994920" cy="29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4691160" y="3781440"/>
              <a:ext cx="399492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376920" y="6556680"/>
              <a:ext cx="57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Unplanned settlements (Sarajevo / Podgorica) &amp; illegal electricity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LOGO%20200%20no%20text%20Kopie" descr=""/>
          <p:cNvPicPr/>
          <p:nvPr/>
        </p:nvPicPr>
        <p:blipFill>
          <a:blip r:embed="rId5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Unbenannt-2a" descr=""/>
          <p:cNvPicPr/>
          <p:nvPr/>
        </p:nvPicPr>
        <p:blipFill>
          <a:blip r:embed="rId1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-1756800" y="7391520"/>
            <a:ext cx="6023880" cy="4421160"/>
            <a:chOff x="-1756800" y="7391520"/>
            <a:chExt cx="6023880" cy="4421160"/>
          </a:xfrm>
        </p:grpSpPr>
        <p:pic>
          <p:nvPicPr>
            <p:cNvPr id="325" name="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-1676520" y="7391520"/>
              <a:ext cx="3106800" cy="41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3"/>
            <a:stretch/>
          </p:blipFill>
          <p:spPr>
            <a:xfrm>
              <a:off x="1371600" y="7391520"/>
              <a:ext cx="289548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4"/>
            <a:stretch/>
          </p:blipFill>
          <p:spPr>
            <a:xfrm>
              <a:off x="1371600" y="9524880"/>
              <a:ext cx="289548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-1756800" y="11536200"/>
              <a:ext cx="57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Unplanned settlements (Sarajevo / Podgorica) &amp; illegal electricity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28240" y="831960"/>
            <a:ext cx="8458200" cy="6027120"/>
            <a:chOff x="228240" y="831960"/>
            <a:chExt cx="8458200" cy="6027120"/>
          </a:xfrm>
        </p:grpSpPr>
        <p:pic>
          <p:nvPicPr>
            <p:cNvPr id="330" name="bathore 1995" descr=""/>
            <p:cNvPicPr/>
            <p:nvPr/>
          </p:nvPicPr>
          <p:blipFill>
            <a:blip r:embed="rId5"/>
            <a:stretch/>
          </p:blipFill>
          <p:spPr>
            <a:xfrm>
              <a:off x="334440" y="831960"/>
              <a:ext cx="4999680" cy="57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resence of Mayor and Minister of Public Works for opening" descr=""/>
            <p:cNvPicPr/>
            <p:nvPr/>
          </p:nvPicPr>
          <p:blipFill>
            <a:blip r:embed="rId6"/>
            <a:stretch/>
          </p:blipFill>
          <p:spPr>
            <a:xfrm>
              <a:off x="5303520" y="3686040"/>
              <a:ext cx="3382920" cy="28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>
              <a:off x="5303520" y="831960"/>
              <a:ext cx="3382920" cy="28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228240" y="6582600"/>
              <a:ext cx="32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Public resistance /  participation (Albani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4" name="LOGO%20200%20no%20text%20Kopie" descr=""/>
          <p:cNvPicPr/>
          <p:nvPr/>
        </p:nvPicPr>
        <p:blipFill>
          <a:blip r:embed="rId8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04920" y="1139760"/>
            <a:ext cx="6858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a376d"/>
                </a:solidFill>
                <a:latin typeface="Arial"/>
              </a:rPr>
              <a:t>Informal Sett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Informal Settlements &gt; Related proble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1828800"/>
            <a:ext cx="18288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2004:</a:t>
            </a: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GB" sz="1300" spc="-1" strike="noStrike">
                <a:solidFill>
                  <a:srgbClr val="ffffff"/>
                </a:solidFill>
                <a:latin typeface="Arial"/>
              </a:rPr>
              <a:t>HPPD Montenegro </a:t>
            </a:r>
            <a:r>
              <a:rPr b="1" i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Informal Settl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Follow-up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Mid-term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91120" y="2133720"/>
            <a:ext cx="281916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Public sec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Urban spraw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High infrastructur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enue (tax, fe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l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re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vironmental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tal urban (and overall economic) development hamp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2133720"/>
            <a:ext cx="342900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Informal dwell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Dw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ccess to urba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 to social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ure security (Eviction or demolition, recognition of basic righ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welling not considered an economic asset / collat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anger of socio-economic segre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61722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99"/>
                </a:solidFill>
                <a:latin typeface="Arial"/>
              </a:rPr>
              <a:t>&gt; Resolution of backlog &amp; prevention through implementation of responsive policies &amp; program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04920" y="1139760"/>
            <a:ext cx="6705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a376d"/>
                </a:solidFill>
                <a:latin typeface="Arial"/>
              </a:rPr>
              <a:t>Activities i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Regional two-level approach &amp; Ministeri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15200" y="1828800"/>
            <a:ext cx="18288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2004:</a:t>
            </a: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GB" sz="1300" spc="-1" strike="noStrike">
                <a:solidFill>
                  <a:srgbClr val="ffffff"/>
                </a:solidFill>
                <a:latin typeface="Arial"/>
              </a:rPr>
              <a:t>HPPD Montenegro </a:t>
            </a:r>
            <a:r>
              <a:rPr b="1" i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Informal Settl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Follow-up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Mid-term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2209680"/>
            <a:ext cx="6629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100" spc="-1" strike="noStrike">
                <a:solidFill>
                  <a:srgbClr val="000000"/>
                </a:solidFill>
                <a:latin typeface="Arial"/>
              </a:rPr>
              <a:t>Committment &amp; National policy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develop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1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: Regional concept for housing &amp; urban management capacity building (gov/mun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10080" y="4343400"/>
            <a:ext cx="1524240" cy="190512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3880" y="4343400"/>
            <a:ext cx="3048120" cy="68580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3880" y="5562720"/>
            <a:ext cx="3048120" cy="68580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449568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57150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44956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enna Decl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47920" y="5638680"/>
            <a:ext cx="335268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gional Capacity 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y Assessment &gt; Re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4559400"/>
            <a:ext cx="152424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ial conference on informal settlements        in S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8 Sept – 01 Oct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46022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5821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24280" y="4533840"/>
            <a:ext cx="533520" cy="26676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724280" y="5753160"/>
            <a:ext cx="533520" cy="26676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04920" y="1139760"/>
            <a:ext cx="6705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a376d"/>
                </a:solidFill>
                <a:latin typeface="Arial"/>
              </a:rPr>
              <a:t>Activities i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Conclusions of Ministerial Confere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315200" y="1828800"/>
            <a:ext cx="18288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2004:</a:t>
            </a: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GB" sz="1300" spc="-1" strike="noStrike">
                <a:solidFill>
                  <a:srgbClr val="ffffff"/>
                </a:solidFill>
                <a:latin typeface="Arial"/>
              </a:rPr>
              <a:t>HPPD Montenegro </a:t>
            </a:r>
            <a:r>
              <a:rPr b="1" i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Informal Settl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Follow-up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Mid-term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2271600"/>
            <a:ext cx="6629400" cy="31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fferent types of informal settl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Planning processes action orient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Financial opportunities for infrastructure upgr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Legal framework to be utilised as best as poss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Conference on municipal management and decentralis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04920" y="1139760"/>
            <a:ext cx="6858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a376d"/>
                </a:solidFill>
                <a:latin typeface="Arial"/>
              </a:rPr>
              <a:t>Follow-up actions (Co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ummary proceedings / conclu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Online publication of presentations &amp; conclu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Analysis &amp; evaluation  &gt; publication early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Follow-up meeting in early 2005 (Podgorica?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scussion of regional conference on urban management (earmarked for late 2005) with potential partn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1828800"/>
            <a:ext cx="18288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004:                 </a:t>
            </a:r>
            <a:r>
              <a:rPr b="1" i="1" lang="en-GB" sz="1300" spc="-1" strike="noStrike">
                <a:solidFill>
                  <a:srgbClr val="ffffff"/>
                </a:solidFill>
                <a:latin typeface="Arial"/>
              </a:rPr>
              <a:t>HPPD Montenegro Informal Settl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Follow-up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Mid-term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1139760"/>
            <a:ext cx="685800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a376d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MARRI &gt; WT I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1828800"/>
            <a:ext cx="18288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I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004:                 </a:t>
            </a:r>
            <a:r>
              <a:rPr b="1" i="1" lang="en-GB" sz="1300" spc="-1" strike="noStrike">
                <a:solidFill>
                  <a:srgbClr val="ffffff"/>
                </a:solidFill>
                <a:latin typeface="Arial"/>
              </a:rPr>
              <a:t>HPPD Montenegro Informal Settl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Follow-up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Mid-term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352680"/>
            <a:ext cx="6858000" cy="24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a376d"/>
                </a:solidFill>
                <a:latin typeface="Arial"/>
              </a:rPr>
              <a:t>Activities i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Housing Programme Development, Monteneg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Regional approach to Informal Settl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Resolution &amp; prevention of informal settl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Housing/Urban Management capacity buildi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04920" y="1139760"/>
            <a:ext cx="6858000" cy="36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a376d"/>
                </a:solidFill>
                <a:latin typeface="Arial"/>
              </a:rPr>
              <a:t>Follow-up actions (Co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Capacity Building Instru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raft programme proposal by end-Nov 20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Establish Peer Review Group in December 20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Timeframe for final programme prop.: end of 20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Approval of final programme proposal by regional partners in early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315200" y="1828800"/>
            <a:ext cx="18288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004:                 </a:t>
            </a:r>
            <a:r>
              <a:rPr b="1" i="1" lang="en-GB" sz="1300" spc="-1" strike="noStrike">
                <a:solidFill>
                  <a:srgbClr val="ffffff"/>
                </a:solidFill>
                <a:latin typeface="Arial"/>
              </a:rPr>
              <a:t>HPPD Montenegro Informal Settl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Follow-up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Mid-term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2001960"/>
            <a:ext cx="7162920" cy="46274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Unbenannt-2a" descr=""/>
          <p:cNvPicPr/>
          <p:nvPr/>
        </p:nvPicPr>
        <p:blipFill>
          <a:blip r:embed="rId3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04920" y="1139760"/>
            <a:ext cx="6858000" cy="13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a376d"/>
                </a:solidFill>
                <a:latin typeface="Arial"/>
              </a:rPr>
              <a:t>Follow-up actions (Co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Capacity Building Instru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15200" y="1828800"/>
            <a:ext cx="18288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004:                 </a:t>
            </a:r>
            <a:r>
              <a:rPr b="1" i="1" lang="en-GB" sz="1300" spc="-1" strike="noStrike">
                <a:solidFill>
                  <a:srgbClr val="ffffff"/>
                </a:solidFill>
                <a:latin typeface="Arial"/>
              </a:rPr>
              <a:t>HPPD Montenegro Informal Settl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Follow-up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Mid-term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04920" y="1139760"/>
            <a:ext cx="685800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a376d"/>
                </a:solidFill>
                <a:latin typeface="Arial"/>
              </a:rPr>
              <a:t>Mid-term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Government of Macedon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upport national housing policy action pla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Government of Serb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upport housing policy and programme develop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UN-Habit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tructural co-operation in region (capacity building, joint fundraising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CE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scussion of SP Housing support in preparation of feasibility studies for CEB housing loa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15200" y="1828800"/>
            <a:ext cx="18288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004:                 </a:t>
            </a:r>
            <a:r>
              <a:rPr b="1" i="1" lang="en-GB" sz="1300" spc="-1" strike="noStrike">
                <a:solidFill>
                  <a:srgbClr val="ffffff"/>
                </a:solidFill>
                <a:latin typeface="Arial"/>
              </a:rPr>
              <a:t>HPPD Montenegro Informal Settl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Follow-up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Mid-term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15200" y="1828800"/>
            <a:ext cx="18288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004:                 </a:t>
            </a:r>
            <a:r>
              <a:rPr b="1" i="1" lang="en-GB" sz="1300" spc="-1" strike="noStrike">
                <a:solidFill>
                  <a:srgbClr val="ffffff"/>
                </a:solidFill>
                <a:latin typeface="Arial"/>
              </a:rPr>
              <a:t>HPPD Montenegro Informal Settl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Follow-up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Mid-term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838080" y="2133720"/>
            <a:ext cx="5791320" cy="25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ank You</a:t>
            </a:r>
            <a:endParaRPr b="1" lang="en-US" sz="44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15200" y="1828800"/>
            <a:ext cx="18288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004:                 </a:t>
            </a:r>
            <a:r>
              <a:rPr b="1" i="1" lang="en-GB" sz="1300" spc="-1" strike="noStrike">
                <a:solidFill>
                  <a:srgbClr val="ffffff"/>
                </a:solidFill>
                <a:latin typeface="Arial"/>
              </a:rPr>
              <a:t>HPPD Montenegro Informal Settl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Follow-up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Mid-term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304920" y="1252440"/>
            <a:ext cx="6781680" cy="5307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15200" y="1828800"/>
            <a:ext cx="18288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2004:                 </a:t>
            </a:r>
            <a:r>
              <a:rPr b="1" i="1" lang="en-GB" sz="1300" spc="-1" strike="noStrike">
                <a:solidFill>
                  <a:srgbClr val="ffffff"/>
                </a:solidFill>
                <a:latin typeface="Arial"/>
              </a:rPr>
              <a:t>HPPD Montenegro Informal Settl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Follow-up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Mid-term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logo%20b%20Kopie" descr=""/>
          <p:cNvPicPr/>
          <p:nvPr/>
        </p:nvPicPr>
        <p:blipFill>
          <a:blip r:embed="rId4"/>
          <a:stretch/>
        </p:blipFill>
        <p:spPr>
          <a:xfrm>
            <a:off x="152280" y="2370240"/>
            <a:ext cx="8763120" cy="32684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1139760"/>
            <a:ext cx="6858000" cy="52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a376d"/>
                </a:solidFill>
                <a:latin typeface="Arial"/>
              </a:rPr>
              <a:t>Activities i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Housing Programme Development, Monteneg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Ministry of Environmental Protection &amp; Urban Planning (MEUP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1st national roundtable (July 2004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4 thematic working sessions with 4 working groups    &gt; Issue &amp; position pap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2nd national roundtable (Dec 2004) &gt; Draft H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GoM approv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828800"/>
            <a:ext cx="18288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2004:</a:t>
            </a: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HPPD Montenegro</a:t>
            </a:r>
            <a:r>
              <a:rPr b="1" i="1" lang="en-GB" sz="1300" spc="-1" strike="noStrike">
                <a:solidFill>
                  <a:srgbClr val="ffffff"/>
                </a:solidFill>
                <a:latin typeface="Arial"/>
              </a:rPr>
              <a:t> Informal Settl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Follow-up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Mid-term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990720" y="4267080"/>
            <a:ext cx="6019560" cy="1105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1139760"/>
            <a:ext cx="6858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a376d"/>
                </a:solidFill>
                <a:latin typeface="Arial"/>
              </a:rPr>
              <a:t>Activities i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Housing Programme Development, Monteneg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1828800"/>
            <a:ext cx="18288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2004:</a:t>
            </a: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HPPD Montenegro</a:t>
            </a:r>
            <a:r>
              <a:rPr b="1" i="1" lang="en-GB" sz="1300" spc="-1" strike="noStrike">
                <a:solidFill>
                  <a:srgbClr val="ffffff"/>
                </a:solidFill>
                <a:latin typeface="Arial"/>
              </a:rPr>
              <a:t> Informal Settl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Follow-up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Mid-term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-762120" y="2362320"/>
            <a:ext cx="7772400" cy="32734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113976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a376d"/>
                </a:solidFill>
                <a:latin typeface="Arial"/>
              </a:rPr>
              <a:t>Informal Sett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15200" y="1828800"/>
            <a:ext cx="18288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2004:</a:t>
            </a: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GB" sz="1300" spc="-1" strike="noStrike">
                <a:solidFill>
                  <a:srgbClr val="ffffff"/>
                </a:solidFill>
                <a:latin typeface="Arial"/>
              </a:rPr>
              <a:t>HPPD Montenegro </a:t>
            </a:r>
            <a:r>
              <a:rPr b="1" i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Informal Settl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Follow-up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Mid-term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752480"/>
            <a:ext cx="693396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(Vienna Declaration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ettlements, which for a variety of reasons </a:t>
            </a:r>
            <a:r>
              <a:rPr b="0" lang="en-GB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do not meet requirements for legal recognition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l or </a:t>
            </a:r>
            <a:r>
              <a:rPr b="0" lang="en-GB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insecure land tenure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, inadequate access to basic services, both </a:t>
            </a:r>
            <a:r>
              <a:rPr b="0" lang="en-GB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social &amp; physical infrastructure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n-GB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housing finance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nt regional </a:t>
            </a:r>
            <a:r>
              <a:rPr b="0" lang="en-GB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diversity in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terms of their </a:t>
            </a:r>
            <a:r>
              <a:rPr b="0" lang="en-GB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manifest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1139760"/>
            <a:ext cx="6858000" cy="52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a376d"/>
                </a:solidFill>
                <a:latin typeface="Arial"/>
              </a:rPr>
              <a:t>Informal Sett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Root cau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100" spc="-1" strike="noStrike">
                <a:solidFill>
                  <a:srgbClr val="000000"/>
                </a:solidFill>
                <a:latin typeface="Arial"/>
              </a:rPr>
              <a:t>Rapid urbanisation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(rural-urban migration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100" spc="-1" strike="noStrike">
                <a:solidFill>
                  <a:srgbClr val="000000"/>
                </a:solidFill>
                <a:latin typeface="Arial"/>
              </a:rPr>
              <a:t>Public sector failure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in housing sec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Access to hous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Land information &amp; regist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Access to housing fin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Inadequate frameworks &amp; proced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Inappropriate urban planning metho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Human/finacial capacity constrai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1828800"/>
            <a:ext cx="18288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2004:</a:t>
            </a: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GB" sz="1300" spc="-1" strike="noStrike">
                <a:solidFill>
                  <a:srgbClr val="ffffff"/>
                </a:solidFill>
                <a:latin typeface="Arial"/>
              </a:rPr>
              <a:t>HPPD Montenegro </a:t>
            </a:r>
            <a:r>
              <a:rPr b="1" i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Informal Settl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Follow-up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Mid-term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1139760"/>
            <a:ext cx="685800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a376d"/>
                </a:solidFill>
                <a:latin typeface="Arial"/>
              </a:rPr>
              <a:t>Informal Sett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Informal Settlements &gt; Physical expres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Unplanned, spontaneous housing development expressed in variety of typologie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Poverty issue &gt; basic shelter ne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Fringes of ci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Pass over of proced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Fringes of cities / Inner city loc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Unlawful invest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Inner city location / Scenic attrac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1828800"/>
            <a:ext cx="18288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2004:</a:t>
            </a: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GB" sz="1300" spc="-1" strike="noStrike">
                <a:solidFill>
                  <a:srgbClr val="ffffff"/>
                </a:solidFill>
                <a:latin typeface="Arial"/>
              </a:rPr>
              <a:t>HPPD Montenegro </a:t>
            </a:r>
            <a:r>
              <a:rPr b="1" i="1" lang="en-GB" sz="1300" spc="-1" strike="noStrike" u="sng">
                <a:solidFill>
                  <a:srgbClr val="ffffff"/>
                </a:solidFill>
                <a:uFillTx/>
                <a:latin typeface="Arial"/>
              </a:rPr>
              <a:t>Informal Settl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Follow-up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Mid-term 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678680" y="784080"/>
            <a:ext cx="6093360" cy="6000480"/>
            <a:chOff x="1678680" y="784080"/>
            <a:chExt cx="6093360" cy="6000480"/>
          </a:xfrm>
        </p:grpSpPr>
        <p:pic>
          <p:nvPicPr>
            <p:cNvPr id="93" name="tirana%20e%20madhe%201" descr=""/>
            <p:cNvPicPr/>
            <p:nvPr/>
          </p:nvPicPr>
          <p:blipFill>
            <a:blip r:embed="rId1"/>
            <a:stretch/>
          </p:blipFill>
          <p:spPr>
            <a:xfrm>
              <a:off x="1779840" y="784080"/>
              <a:ext cx="5992200" cy="563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678680" y="6508080"/>
              <a:ext cx="177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Urban growth (Tiran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Unbenannt-2a" descr=""/>
          <p:cNvPicPr/>
          <p:nvPr/>
        </p:nvPicPr>
        <p:blipFill>
          <a:blip r:embed="rId2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pic>
        <p:nvPicPr>
          <p:cNvPr id="97" name="LOGO%20200%20no%20text%20Kopie" descr=""/>
          <p:cNvPicPr/>
          <p:nvPr/>
        </p:nvPicPr>
        <p:blipFill>
          <a:blip r:embed="rId3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162200" y="7620120"/>
            <a:ext cx="6019920" cy="4391280"/>
            <a:chOff x="7162200" y="7620120"/>
            <a:chExt cx="6019920" cy="4391280"/>
          </a:xfrm>
        </p:grpSpPr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7238880" y="7620120"/>
              <a:ext cx="289512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7238880" y="9599760"/>
              <a:ext cx="3047760" cy="21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6"/>
            <a:srcRect l="0" t="0" r="15" b="40"/>
            <a:stretch/>
          </p:blipFill>
          <p:spPr>
            <a:xfrm>
              <a:off x="10287000" y="9595080"/>
              <a:ext cx="2895120" cy="21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7"/>
            <a:stretch/>
          </p:blipFill>
          <p:spPr>
            <a:xfrm>
              <a:off x="10134360" y="7620120"/>
              <a:ext cx="30477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162200" y="11734920"/>
              <a:ext cx="190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Urban slums (Belgrad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-9216000" y="5867280"/>
            <a:ext cx="6015600" cy="4421520"/>
            <a:chOff x="-9216000" y="5867280"/>
            <a:chExt cx="6015600" cy="4421520"/>
          </a:xfrm>
        </p:grpSpPr>
        <p:pic>
          <p:nvPicPr>
            <p:cNvPr id="106" name="Unbenannt-2a" descr=""/>
            <p:cNvPicPr/>
            <p:nvPr/>
          </p:nvPicPr>
          <p:blipFill>
            <a:blip r:embed="rId8"/>
            <a:srcRect l="50864" t="0" r="0" b="51298"/>
            <a:stretch/>
          </p:blipFill>
          <p:spPr>
            <a:xfrm>
              <a:off x="-9144000" y="5867280"/>
              <a:ext cx="59436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-9216000" y="10012320"/>
              <a:ext cx="340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Informal housing in Montenegro (Podgoric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-1756800" y="7391520"/>
            <a:ext cx="6023880" cy="4421160"/>
            <a:chOff x="-1756800" y="7391520"/>
            <a:chExt cx="6023880" cy="4421160"/>
          </a:xfrm>
        </p:grpSpPr>
        <p:pic>
          <p:nvPicPr>
            <p:cNvPr id="109" name="" descr=""/>
            <p:cNvPicPr/>
            <p:nvPr/>
          </p:nvPicPr>
          <p:blipFill>
            <a:blip r:embed="rId9">
              <a:lum bright="18000"/>
            </a:blip>
            <a:stretch/>
          </p:blipFill>
          <p:spPr>
            <a:xfrm>
              <a:off x="-1676520" y="7391520"/>
              <a:ext cx="3106800" cy="41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0"/>
            <a:stretch/>
          </p:blipFill>
          <p:spPr>
            <a:xfrm>
              <a:off x="1371600" y="7391520"/>
              <a:ext cx="289548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1"/>
            <a:stretch/>
          </p:blipFill>
          <p:spPr>
            <a:xfrm>
              <a:off x="1371600" y="9524880"/>
              <a:ext cx="289548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-1756800" y="11536200"/>
              <a:ext cx="57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Unplanned settlements (Sarajevo / Podgorica) &amp; illegal electricity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-11887920" y="-1447920"/>
            <a:ext cx="6096600" cy="4421520"/>
            <a:chOff x="-11887920" y="-1447920"/>
            <a:chExt cx="6096600" cy="4421520"/>
          </a:xfrm>
        </p:grpSpPr>
        <p:pic>
          <p:nvPicPr>
            <p:cNvPr id="114" name="bathore 1995" descr=""/>
            <p:cNvPicPr/>
            <p:nvPr/>
          </p:nvPicPr>
          <p:blipFill>
            <a:blip r:embed="rId12"/>
            <a:stretch/>
          </p:blipFill>
          <p:spPr>
            <a:xfrm>
              <a:off x="-11810880" y="-1447920"/>
              <a:ext cx="3603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resence of Mayor and Minister of Public Works for opening" descr=""/>
            <p:cNvPicPr/>
            <p:nvPr/>
          </p:nvPicPr>
          <p:blipFill>
            <a:blip r:embed="rId13"/>
            <a:stretch/>
          </p:blipFill>
          <p:spPr>
            <a:xfrm>
              <a:off x="-8229600" y="609480"/>
              <a:ext cx="2438280" cy="20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4"/>
            <a:stretch/>
          </p:blipFill>
          <p:spPr>
            <a:xfrm>
              <a:off x="-8229600" y="-1447920"/>
              <a:ext cx="2438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-11887920" y="2697120"/>
              <a:ext cx="32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Public resistance /  participation (Albani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-12111840" y="-8305920"/>
            <a:ext cx="5996520" cy="4421520"/>
            <a:chOff x="-12111840" y="-8305920"/>
            <a:chExt cx="5996520" cy="4421520"/>
          </a:xfrm>
        </p:grpSpPr>
        <p:grpSp>
          <p:nvGrpSpPr>
            <p:cNvPr id="119" name=""/>
            <p:cNvGrpSpPr/>
            <p:nvPr/>
          </p:nvGrpSpPr>
          <p:grpSpPr>
            <a:xfrm>
              <a:off x="-12111840" y="-8305920"/>
              <a:ext cx="5996520" cy="4421520"/>
              <a:chOff x="-12111840" y="-8305920"/>
              <a:chExt cx="5996520" cy="4421520"/>
            </a:xfrm>
          </p:grpSpPr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-12039840" y="-8305920"/>
                <a:ext cx="3124440" cy="184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16"/>
              <a:srcRect l="0" t="0" r="0" b="24"/>
              <a:stretch/>
            </p:blipFill>
            <p:spPr>
              <a:xfrm>
                <a:off x="-8934480" y="-8305920"/>
                <a:ext cx="2819160" cy="18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-8934480" y="-6553080"/>
                <a:ext cx="2819160" cy="23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-12111840" y="-4160880"/>
                <a:ext cx="429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3399"/>
                    </a:solidFill>
                    <a:latin typeface="Arial"/>
                  </a:rPr>
                  <a:t>… </a:t>
                </a:r>
                <a:r>
                  <a:rPr b="1" lang="en-GB" sz="1200" spc="-1" strike="noStrike">
                    <a:solidFill>
                      <a:srgbClr val="003399"/>
                    </a:solidFill>
                    <a:latin typeface="Arial"/>
                  </a:rPr>
                  <a:t>and informal housing in Montenegro (Podgorica / Ba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4" name="" descr=""/>
            <p:cNvPicPr/>
            <p:nvPr/>
          </p:nvPicPr>
          <p:blipFill>
            <a:blip r:embed="rId18"/>
            <a:stretch/>
          </p:blipFill>
          <p:spPr>
            <a:xfrm>
              <a:off x="-12039480" y="-6532560"/>
              <a:ext cx="3105360" cy="234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-9447120" y="2666880"/>
            <a:ext cx="6018120" cy="4192920"/>
            <a:chOff x="-9447120" y="2666880"/>
            <a:chExt cx="6018120" cy="4192920"/>
          </a:xfrm>
        </p:grpSpPr>
        <p:grpSp>
          <p:nvGrpSpPr>
            <p:cNvPr id="126" name=""/>
            <p:cNvGrpSpPr/>
            <p:nvPr/>
          </p:nvGrpSpPr>
          <p:grpSpPr>
            <a:xfrm>
              <a:off x="-9372600" y="2666880"/>
              <a:ext cx="5943600" cy="3876840"/>
              <a:chOff x="-9372600" y="2666880"/>
              <a:chExt cx="5943600" cy="387684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-9372600" y="2666880"/>
                <a:ext cx="5943600" cy="3876840"/>
                <a:chOff x="-9372600" y="2666880"/>
                <a:chExt cx="5943600" cy="3876840"/>
              </a:xfrm>
            </p:grpSpPr>
            <p:pic>
              <p:nvPicPr>
                <p:cNvPr id="12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-6432840" y="2666880"/>
                  <a:ext cx="3003840" cy="1959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-6400800" y="4572000"/>
                  <a:ext cx="2971800" cy="1951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-9372600" y="4495680"/>
                  <a:ext cx="2971800" cy="204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-9372600" y="2666880"/>
                  <a:ext cx="2971800" cy="1905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2" name=""/>
              <p:cNvSpPr/>
              <p:nvPr/>
            </p:nvSpPr>
            <p:spPr>
              <a:xfrm>
                <a:off x="-6858000" y="4052880"/>
                <a:ext cx="27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2b2b2"/>
                    </a:solidFill>
                    <a:latin typeface="Century Gothic"/>
                    <a:ea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-6324840" y="4052880"/>
                <a:ext cx="27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2b2b2"/>
                    </a:solidFill>
                    <a:latin typeface="Century Gothic"/>
                    <a:ea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-6836040" y="4572000"/>
                <a:ext cx="22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2b2b2"/>
                    </a:solidFill>
                    <a:latin typeface="Century Gothic"/>
                    <a:ea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-6324840" y="4586400"/>
                <a:ext cx="27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2b2b2"/>
                    </a:solidFill>
                    <a:latin typeface="Century Gothic"/>
                    <a:ea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-9447120" y="6583320"/>
              <a:ext cx="24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Steps of illegal land occup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5415120" y="-7391520"/>
            <a:ext cx="9149040" cy="6573960"/>
            <a:chOff x="-5415120" y="-7391520"/>
            <a:chExt cx="9149040" cy="6573960"/>
          </a:xfrm>
        </p:grpSpPr>
        <p:grpSp>
          <p:nvGrpSpPr>
            <p:cNvPr id="138" name=""/>
            <p:cNvGrpSpPr/>
            <p:nvPr/>
          </p:nvGrpSpPr>
          <p:grpSpPr>
            <a:xfrm>
              <a:off x="-5293800" y="-7391520"/>
              <a:ext cx="9027720" cy="6286680"/>
              <a:chOff x="-5293800" y="-7391520"/>
              <a:chExt cx="9027720" cy="6286680"/>
            </a:xfrm>
          </p:grpSpPr>
          <p:pic>
            <p:nvPicPr>
              <p:cNvPr id="139" name="Bathore 94 to 2001" descr=""/>
              <p:cNvPicPr/>
              <p:nvPr/>
            </p:nvPicPr>
            <p:blipFill>
              <a:blip r:embed="rId23"/>
              <a:srcRect l="0" t="22638" r="51769" b="19"/>
              <a:stretch/>
            </p:blipFill>
            <p:spPr>
              <a:xfrm>
                <a:off x="-5293800" y="-7391520"/>
                <a:ext cx="3619080" cy="269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Bathore 94 to 2001" descr=""/>
              <p:cNvPicPr/>
              <p:nvPr/>
            </p:nvPicPr>
            <p:blipFill>
              <a:blip r:embed="rId24"/>
              <a:srcRect l="52628" t="0" r="9" b="19"/>
              <a:stretch/>
            </p:blipFill>
            <p:spPr>
              <a:xfrm>
                <a:off x="-5293800" y="-4692600"/>
                <a:ext cx="3619080" cy="355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d03foto0299" descr=""/>
              <p:cNvPicPr/>
              <p:nvPr/>
            </p:nvPicPr>
            <p:blipFill>
              <a:blip r:embed="rId25"/>
              <a:stretch/>
            </p:blipFill>
            <p:spPr>
              <a:xfrm>
                <a:off x="-1706040" y="-4808520"/>
                <a:ext cx="5439960" cy="370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-1706040" y="-7355160"/>
                <a:ext cx="5439960" cy="266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-4599360" y="-5734440"/>
                <a:ext cx="231120" cy="231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-3442320" y="-1567080"/>
                <a:ext cx="231480" cy="231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-2399760" y="-618768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199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-2399760" y="-330336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2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-5415120" y="-1094040"/>
              <a:ext cx="38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Bathore informal settlements (Greater Tirana are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528480" y="990720"/>
            <a:ext cx="8004960" cy="5786640"/>
            <a:chOff x="528480" y="990720"/>
            <a:chExt cx="8004960" cy="5786640"/>
          </a:xfrm>
        </p:grpSpPr>
        <p:grpSp>
          <p:nvGrpSpPr>
            <p:cNvPr id="149" name=""/>
            <p:cNvGrpSpPr/>
            <p:nvPr/>
          </p:nvGrpSpPr>
          <p:grpSpPr>
            <a:xfrm>
              <a:off x="634680" y="990720"/>
              <a:ext cx="7898760" cy="5501160"/>
              <a:chOff x="634680" y="990720"/>
              <a:chExt cx="7898760" cy="5501160"/>
            </a:xfrm>
          </p:grpSpPr>
          <p:pic>
            <p:nvPicPr>
              <p:cNvPr id="150" name="Bathore 94 to 2001" descr=""/>
              <p:cNvPicPr/>
              <p:nvPr/>
            </p:nvPicPr>
            <p:blipFill>
              <a:blip r:embed="rId1"/>
              <a:srcRect l="0" t="22638" r="51769" b="19"/>
              <a:stretch/>
            </p:blipFill>
            <p:spPr>
              <a:xfrm>
                <a:off x="634680" y="990720"/>
                <a:ext cx="3166560" cy="236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Bathore 94 to 2001" descr=""/>
              <p:cNvPicPr/>
              <p:nvPr/>
            </p:nvPicPr>
            <p:blipFill>
              <a:blip r:embed="rId2"/>
              <a:srcRect l="52628" t="0" r="9" b="19"/>
              <a:stretch/>
            </p:blipFill>
            <p:spPr>
              <a:xfrm>
                <a:off x="634680" y="3352320"/>
                <a:ext cx="3166560" cy="310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d03foto0299" descr=""/>
              <p:cNvPicPr/>
              <p:nvPr/>
            </p:nvPicPr>
            <p:blipFill>
              <a:blip r:embed="rId3"/>
              <a:stretch/>
            </p:blipFill>
            <p:spPr>
              <a:xfrm>
                <a:off x="3773520" y="3250800"/>
                <a:ext cx="4759920" cy="324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73520" y="1022040"/>
                <a:ext cx="4759920" cy="232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1242000" y="2440440"/>
                <a:ext cx="202320" cy="202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54320" y="6087240"/>
                <a:ext cx="202680" cy="202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67640" y="204372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199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67640" y="456768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2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528480" y="6500880"/>
              <a:ext cx="38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Bathore informal settlements (Greater Tirana are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1955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Unbenannt-2a" descr=""/>
          <p:cNvPicPr/>
          <p:nvPr/>
        </p:nvPicPr>
        <p:blipFill>
          <a:blip r:embed="rId5"/>
          <a:srcRect l="25002" t="50387" r="0" b="24426"/>
          <a:stretch/>
        </p:blipFill>
        <p:spPr>
          <a:xfrm>
            <a:off x="7315200" y="382680"/>
            <a:ext cx="1752480" cy="303120"/>
          </a:xfrm>
          <a:prstGeom prst="rect">
            <a:avLst/>
          </a:prstGeom>
          <a:ln w="0">
            <a:noFill/>
          </a:ln>
        </p:spPr>
      </p:pic>
      <p:pic>
        <p:nvPicPr>
          <p:cNvPr id="161" name="LOGO%20200%20no%20text%20Kopie" descr=""/>
          <p:cNvPicPr/>
          <p:nvPr/>
        </p:nvPicPr>
        <p:blipFill>
          <a:blip r:embed="rId6"/>
          <a:stretch/>
        </p:blipFill>
        <p:spPr>
          <a:xfrm>
            <a:off x="380880" y="95400"/>
            <a:ext cx="2438640" cy="895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38840" y="276120"/>
            <a:ext cx="472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b2b2b2"/>
                </a:solidFill>
                <a:latin typeface="Arial"/>
              </a:rPr>
              <a:t>Housing and Urba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162200" y="6858000"/>
            <a:ext cx="6019920" cy="4391280"/>
            <a:chOff x="7162200" y="6858000"/>
            <a:chExt cx="6019920" cy="4391280"/>
          </a:xfrm>
        </p:grpSpPr>
        <p:pic>
          <p:nvPicPr>
            <p:cNvPr id="164" name="" descr=""/>
            <p:cNvPicPr/>
            <p:nvPr/>
          </p:nvPicPr>
          <p:blipFill>
            <a:blip r:embed="rId7"/>
            <a:stretch/>
          </p:blipFill>
          <p:spPr>
            <a:xfrm>
              <a:off x="7238880" y="6858000"/>
              <a:ext cx="289512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8"/>
            <a:stretch/>
          </p:blipFill>
          <p:spPr>
            <a:xfrm>
              <a:off x="7238880" y="8837640"/>
              <a:ext cx="3047760" cy="21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9"/>
            <a:srcRect l="0" t="0" r="15" b="40"/>
            <a:stretch/>
          </p:blipFill>
          <p:spPr>
            <a:xfrm>
              <a:off x="10287000" y="8832960"/>
              <a:ext cx="2895120" cy="21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10"/>
            <a:stretch/>
          </p:blipFill>
          <p:spPr>
            <a:xfrm>
              <a:off x="10134360" y="6858000"/>
              <a:ext cx="30477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162200" y="10972800"/>
              <a:ext cx="190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Urban slums (Belgrad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-9216000" y="5867280"/>
            <a:ext cx="6015600" cy="4421520"/>
            <a:chOff x="-9216000" y="5867280"/>
            <a:chExt cx="6015600" cy="4421520"/>
          </a:xfrm>
        </p:grpSpPr>
        <p:pic>
          <p:nvPicPr>
            <p:cNvPr id="170" name="Unbenannt-2a" descr=""/>
            <p:cNvPicPr/>
            <p:nvPr/>
          </p:nvPicPr>
          <p:blipFill>
            <a:blip r:embed="rId11"/>
            <a:srcRect l="50864" t="0" r="0" b="51298"/>
            <a:stretch/>
          </p:blipFill>
          <p:spPr>
            <a:xfrm>
              <a:off x="-9144000" y="5867280"/>
              <a:ext cx="59436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-9216000" y="10012320"/>
              <a:ext cx="340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Informal housing in Montenegro (Podgoric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-1756800" y="7391520"/>
            <a:ext cx="6023880" cy="4421160"/>
            <a:chOff x="-1756800" y="7391520"/>
            <a:chExt cx="6023880" cy="4421160"/>
          </a:xfrm>
        </p:grpSpPr>
        <p:pic>
          <p:nvPicPr>
            <p:cNvPr id="173" name="" descr=""/>
            <p:cNvPicPr/>
            <p:nvPr/>
          </p:nvPicPr>
          <p:blipFill>
            <a:blip r:embed="rId12">
              <a:lum bright="18000"/>
            </a:blip>
            <a:stretch/>
          </p:blipFill>
          <p:spPr>
            <a:xfrm>
              <a:off x="-1676520" y="7391520"/>
              <a:ext cx="3106800" cy="41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3"/>
            <a:stretch/>
          </p:blipFill>
          <p:spPr>
            <a:xfrm>
              <a:off x="1371600" y="7391520"/>
              <a:ext cx="289548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4"/>
            <a:stretch/>
          </p:blipFill>
          <p:spPr>
            <a:xfrm>
              <a:off x="1371600" y="9524880"/>
              <a:ext cx="289548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-1756800" y="11536200"/>
              <a:ext cx="57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Unplanned settlements (Sarajevo / Podgorica) &amp; illegal electricity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-11887920" y="-1447920"/>
            <a:ext cx="6096600" cy="4421520"/>
            <a:chOff x="-11887920" y="-1447920"/>
            <a:chExt cx="6096600" cy="4421520"/>
          </a:xfrm>
        </p:grpSpPr>
        <p:pic>
          <p:nvPicPr>
            <p:cNvPr id="178" name="bathore 1995" descr=""/>
            <p:cNvPicPr/>
            <p:nvPr/>
          </p:nvPicPr>
          <p:blipFill>
            <a:blip r:embed="rId15"/>
            <a:stretch/>
          </p:blipFill>
          <p:spPr>
            <a:xfrm>
              <a:off x="-11810880" y="-1447920"/>
              <a:ext cx="3603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resence of Mayor and Minister of Public Works for opening" descr=""/>
            <p:cNvPicPr/>
            <p:nvPr/>
          </p:nvPicPr>
          <p:blipFill>
            <a:blip r:embed="rId16"/>
            <a:stretch/>
          </p:blipFill>
          <p:spPr>
            <a:xfrm>
              <a:off x="-8229600" y="609480"/>
              <a:ext cx="2438280" cy="20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7"/>
            <a:stretch/>
          </p:blipFill>
          <p:spPr>
            <a:xfrm>
              <a:off x="-8229600" y="-1447920"/>
              <a:ext cx="2438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-11887920" y="2697120"/>
              <a:ext cx="32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Public resistance /  participation (Albani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-12111840" y="-8305920"/>
            <a:ext cx="5996520" cy="4421520"/>
            <a:chOff x="-12111840" y="-8305920"/>
            <a:chExt cx="5996520" cy="4421520"/>
          </a:xfrm>
        </p:grpSpPr>
        <p:grpSp>
          <p:nvGrpSpPr>
            <p:cNvPr id="183" name=""/>
            <p:cNvGrpSpPr/>
            <p:nvPr/>
          </p:nvGrpSpPr>
          <p:grpSpPr>
            <a:xfrm>
              <a:off x="-12111840" y="-8305920"/>
              <a:ext cx="5996520" cy="4421520"/>
              <a:chOff x="-12111840" y="-8305920"/>
              <a:chExt cx="5996520" cy="4421520"/>
            </a:xfrm>
          </p:grpSpPr>
          <p:pic>
            <p:nvPicPr>
              <p:cNvPr id="184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-12039840" y="-8305920"/>
                <a:ext cx="3124440" cy="184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9"/>
              <a:srcRect l="0" t="0" r="0" b="24"/>
              <a:stretch/>
            </p:blipFill>
            <p:spPr>
              <a:xfrm>
                <a:off x="-8934480" y="-8305920"/>
                <a:ext cx="2819160" cy="18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-8934480" y="-6553080"/>
                <a:ext cx="2819160" cy="23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-12111840" y="-4160880"/>
                <a:ext cx="429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3399"/>
                    </a:solidFill>
                    <a:latin typeface="Arial"/>
                  </a:rPr>
                  <a:t>… </a:t>
                </a:r>
                <a:r>
                  <a:rPr b="1" lang="en-GB" sz="1200" spc="-1" strike="noStrike">
                    <a:solidFill>
                      <a:srgbClr val="003399"/>
                    </a:solidFill>
                    <a:latin typeface="Arial"/>
                  </a:rPr>
                  <a:t>and informal housing in Montenegro (Podgorica / Ba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8" name="" descr=""/>
            <p:cNvPicPr/>
            <p:nvPr/>
          </p:nvPicPr>
          <p:blipFill>
            <a:blip r:embed="rId21"/>
            <a:stretch/>
          </p:blipFill>
          <p:spPr>
            <a:xfrm>
              <a:off x="-12039480" y="-6532560"/>
              <a:ext cx="3105360" cy="234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"/>
          <p:cNvGrpSpPr/>
          <p:nvPr/>
        </p:nvGrpSpPr>
        <p:grpSpPr>
          <a:xfrm>
            <a:off x="-10361520" y="2666880"/>
            <a:ext cx="6018120" cy="4192920"/>
            <a:chOff x="-10361520" y="2666880"/>
            <a:chExt cx="6018120" cy="4192920"/>
          </a:xfrm>
        </p:grpSpPr>
        <p:grpSp>
          <p:nvGrpSpPr>
            <p:cNvPr id="190" name=""/>
            <p:cNvGrpSpPr/>
            <p:nvPr/>
          </p:nvGrpSpPr>
          <p:grpSpPr>
            <a:xfrm>
              <a:off x="-10287000" y="2666880"/>
              <a:ext cx="5943600" cy="3876840"/>
              <a:chOff x="-10287000" y="2666880"/>
              <a:chExt cx="5943600" cy="387684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-10287000" y="2666880"/>
                <a:ext cx="5943600" cy="3876840"/>
                <a:chOff x="-10287000" y="2666880"/>
                <a:chExt cx="5943600" cy="3876840"/>
              </a:xfrm>
            </p:grpSpPr>
            <p:pic>
              <p:nvPicPr>
                <p:cNvPr id="19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-7347240" y="2666880"/>
                  <a:ext cx="3003840" cy="1959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-7315200" y="4572000"/>
                  <a:ext cx="2971800" cy="1951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10287000" y="4495680"/>
                  <a:ext cx="2971800" cy="204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0287000" y="2666880"/>
                  <a:ext cx="2971800" cy="1905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6" name=""/>
              <p:cNvSpPr/>
              <p:nvPr/>
            </p:nvSpPr>
            <p:spPr>
              <a:xfrm>
                <a:off x="-7772400" y="4052880"/>
                <a:ext cx="27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2b2b2"/>
                    </a:solidFill>
                    <a:latin typeface="Century Gothic"/>
                    <a:ea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-7239240" y="4052880"/>
                <a:ext cx="27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2b2b2"/>
                    </a:solidFill>
                    <a:latin typeface="Century Gothic"/>
                    <a:ea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-7750440" y="4572000"/>
                <a:ext cx="22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2b2b2"/>
                    </a:solidFill>
                    <a:latin typeface="Century Gothic"/>
                    <a:ea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-7239240" y="4586400"/>
                <a:ext cx="27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2b2b2"/>
                    </a:solidFill>
                    <a:latin typeface="Century Gothic"/>
                    <a:ea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-10361520" y="6583320"/>
              <a:ext cx="24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Steps of illegal land occup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9:06:31Z</dcterms:created>
  <dc:creator>BG</dc:creator>
  <dc:description/>
  <dc:language>en-US</dc:language>
  <cp:lastModifiedBy>Björn Gabriel</cp:lastModifiedBy>
  <dcterms:modified xsi:type="dcterms:W3CDTF">2004-10-21T11:06:07Z</dcterms:modified>
  <cp:revision>144</cp:revision>
  <dc:subject/>
  <dc:title>PowerPoint-Präsentation</dc:title>
</cp:coreProperties>
</file>